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738-9331-4CA6-A63F-136D8B17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0E3-A84A-476C-A25F-E52F8D78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582BA-FEEA-4877-8658-DEA00852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EDE3A-7656-4495-A07D-88B9093A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AB8C2-4D11-4D30-85BB-899ABDC2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ED21F-906C-4CDD-80E0-03B86674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F32FB-1C07-4758-81AD-5FD7E7D2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57081-61D7-4D47-8FE0-6387257A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083AF-DAC2-433F-B433-DC74D602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B2085-62A3-4248-9883-913E88CD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68B8E-1A8C-488F-BE8C-A18B6162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056-0AD7-4407-A268-BCDF0453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0AC-BB22-487A-9D8D-303587E3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9031-FC13-4AE8-BD34-4B009CAB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8AA7-A349-4B31-9431-A5382BAA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BCE6-447D-46B7-A4A7-D32B7957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ABCA-CFE3-49A9-8184-A0B0DD32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9F22-81F5-4EC9-9F95-E6681D9B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5B7D-42FB-41F8-B86D-26952164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538E-FE1E-49C7-9CB0-A70153F8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C58-7965-484C-9F71-D906CC93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0847-6C56-4950-BEEC-B3233593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96A5-A10F-4669-9628-D1C3A8F7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5970-8920-4356-9F55-DB708801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C9E5-7C7F-4C02-81A0-C12FE4A7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0C42-3ADA-44F2-ADB5-1BE17311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2E941-1B37-4280-8E12-B2D80DE1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15CF7-0E21-491C-BB7F-4E1D9725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3F97-DF8A-48F6-806D-05C3EC7B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6DAE6-00CE-42D2-882C-DE9FCC34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078B7-AD19-4B9B-BADD-E3FD4EE1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44DF-4440-4F0A-B3C8-31913C64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EE3DD-B1D6-4C04-ABD1-1E4258E7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C6177-8044-42AD-82AF-F4860BD2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A1419-9EC9-4BF8-A059-6A6A2CB6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190B3-3406-425B-B5E7-B1D9E5ED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605B4-0389-4260-9E58-20FC82A9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BD21-D932-4315-BB4B-43B6E568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AEBBB-4EEF-451A-ACC4-3EF13110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4D8DC-DFB9-41AA-A8C3-ED699E30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3320A-67E0-4E51-97D1-065122B9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111B0-62B9-4B8B-AFFC-30CD5FB9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DE5-D08A-4A96-B569-6292881B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B43FC-8728-4555-823B-9FD57658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2A302-F6F4-4831-B5B0-3325DEAE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0452C-F0FE-4454-B9F4-45C26530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3392-0FBD-4019-AA78-86F91413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9E898-F001-4C91-A19E-9C7A1538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5ED2D-82B6-459C-83D2-EA1CE369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C8DCB-4CCA-4119-8E2A-44B14F4F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D2B99-667E-41EA-8ABB-A915C284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4E6D5-7D84-4FD6-BC97-EA12B325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64859-0257-4DEC-933B-BC807F0F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2CEB-CE16-4303-9E8F-E44AB22F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C07CC-E03B-4E06-9244-FBC6E96B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2DCBC-8693-4B6C-859C-2F551A1D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259F4-92AE-47DC-B31E-C2EE4A98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016D8-F259-487D-B8B0-85CD3D04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AE433-A0A8-4AE4-8041-782E4111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73003-7DC3-4475-BA5D-4D064F9D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EA74B-2090-471D-9D3D-59B53D8C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2D349-83E5-47B6-938C-3214F2EF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BB015-B9D1-4404-AA9C-9BCA02BF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9BAD9-F030-4807-BCD2-B2F2FC61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5A6-AC72-45EE-BB67-D233A5A2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4C334-8B14-480E-9B12-F364A940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A0EE0-4E88-4105-8EA2-E42FA4F7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6D724-BFF5-4D95-A1E8-DA2319A5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DF58C-8AD0-492F-ADF9-52889121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FF29F-1F7B-4AF0-A9E4-A7F0F1FC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6D56B-989A-4536-AD40-5855AFF8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61852-53FA-4E46-B225-97E340B2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C9DC0-18F2-46C5-9D9A-10E7C8CD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58BA8-4D98-47E0-8EC0-87CAEA5A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5FCF4-F84C-4361-A401-A94B1719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526-C91A-444A-BE57-88975DFB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55CE0-473A-4514-98AD-BD8A912F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331FE-7DD4-4B8C-8997-A0AE8298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88123-1DEB-43D3-A885-E93A12CB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E0D90-1875-4EF6-90F4-CC89C272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27ACF-D3A6-4663-984B-9FED2CDA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21F4D-559B-4FC5-AAFB-7B154BDE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D4B3A-88D4-4D4B-A815-1B9AA35F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FEDB7-D4A4-451B-AE47-6D749AE8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6B83D-1471-40FA-9AC2-3FD93338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9B355-AC63-4E54-A32A-759D539C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B91-800A-4B81-9D1C-56DF590F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6AAA3-F3E8-4D8E-A100-7E3C2CD4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16BE5-54AB-4B27-AAE3-9D329FBC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22CA9-2A92-4A9E-9130-7091F17A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CCC82-ECE2-4B1A-A9EF-D98C5C84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7CFB9-52CE-4A26-BBEA-577F03A5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6113F-32D2-4553-88F8-849DB49A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B301D-5A9A-4B6C-A140-2D0078E5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8229B-5EF5-4829-9084-13B9D763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4EB04-A589-4967-9AAE-E4CFE8D1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39D6F-AD27-4EC9-AAF0-A0280BD6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957-5ABD-4F41-8B6F-E3B5D02A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54981-A93F-412D-83E7-5207D620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DF5F9-491C-4F65-9869-2947B293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3FFB9-886C-4FCB-8AB3-1EFD0E66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08D6C-A1F3-45C0-B759-4DBFFC30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CB4BE-BCBB-4725-90BE-BF28CC65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FCBA7-17BC-46F5-BFE5-F0DD99F8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E7B73-CC0C-4EE9-BB72-914E1661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648D9-AC5A-482D-937E-DF9474B5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15DDA-D968-41F5-8D15-95145AF1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F3F29-DA12-4EFD-8D1E-3A1FBFD7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8E93-806D-44FE-8117-B9B01DE707A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5037-1F8C-41FE-87D0-90E1E224489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1F5B-E092-4DC6-A3BB-4CD76448E93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F7AC-C027-4FEE-9B51-A02DD5C7846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88C3-BDF7-4BC8-B5BA-13F140A91D6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31D2-4E9C-428D-B274-930C77C05F3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1DCB-813D-41B1-87B0-AE5D25E7242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E7A0-2586-411C-AB09-4796065A561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FCF3-5366-456F-A4F6-155F042BFDC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4" descr="507_ma_p172.jpg"/>
          <p:cNvPicPr/>
          <p:nvPr/>
        </p:nvPicPr>
        <p:blipFill>
          <a:blip r:embed="rId1"/>
          <a:stretch/>
        </p:blipFill>
        <p:spPr>
          <a:xfrm>
            <a:off x="7437600" y="79200"/>
            <a:ext cx="1420560" cy="114012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1"/>
          <p:cNvSpPr/>
          <p:nvPr/>
        </p:nvSpPr>
        <p:spPr>
          <a:xfrm>
            <a:off x="0" y="0"/>
            <a:ext cx="65008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ски жнут и обмолачив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тряхивают из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х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рныш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642960" y="371484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но везут на мельницу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Рисунок 5" descr="2325_.jpg"/>
          <p:cNvPicPr/>
          <p:nvPr/>
        </p:nvPicPr>
        <p:blipFill>
          <a:blip r:embed="rId2"/>
          <a:stretch/>
        </p:blipFill>
        <p:spPr>
          <a:xfrm>
            <a:off x="195120" y="993600"/>
            <a:ext cx="1378080" cy="112104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7" descr="big_ekonomika_rossii_selskoe_hozyaystvo_1.jpg"/>
          <p:cNvPicPr/>
          <p:nvPr/>
        </p:nvPicPr>
        <p:blipFill>
          <a:blip r:embed="rId3"/>
          <a:stretch/>
        </p:blipFill>
        <p:spPr>
          <a:xfrm>
            <a:off x="5151600" y="2798640"/>
            <a:ext cx="1206360" cy="1230480"/>
          </a:xfrm>
          <a:prstGeom prst="rect">
            <a:avLst/>
          </a:prstGeom>
          <a:ln w="0">
            <a:noFill/>
          </a:ln>
        </p:spPr>
      </p:pic>
      <p:sp>
        <p:nvSpPr>
          <p:cNvPr id="404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E2D3-4D49-4FA3-9BA2-46481333DE54}" type="slidenum">
              <a:rPr b="0" lang="ru-RU" sz="1600" spc="-1" strike="noStrike">
                <a:solidFill>
                  <a:srgbClr val="ff0000"/>
                </a:solidFill>
                <a:latin typeface="Franklin Gothic Book"/>
              </a:rPr>
              <a:t>&lt;number&gt;</a:t>
            </a:fld>
            <a:r>
              <a:rPr b="0" lang="ru-RU" sz="1600" spc="-1" strike="noStrike">
                <a:solidFill>
                  <a:srgbClr val="ff0000"/>
                </a:solidFill>
                <a:latin typeface="Franklin Gothic Boo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0" descr="C:\Documents and Settings\Алла\Рабочий стол\Фото с Занятий\фото\Мои рисунки\Geroj%203.jpg"/>
          <p:cNvPicPr/>
          <p:nvPr/>
        </p:nvPicPr>
        <p:blipFill>
          <a:blip r:embed="rId4"/>
          <a:stretch/>
        </p:blipFill>
        <p:spPr>
          <a:xfrm>
            <a:off x="2225520" y="4224240"/>
            <a:ext cx="1279800" cy="11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10" descr="image012.jpg"/>
          <p:cNvPicPr/>
          <p:nvPr/>
        </p:nvPicPr>
        <p:blipFill>
          <a:blip r:embed="rId1"/>
          <a:stretch/>
        </p:blipFill>
        <p:spPr>
          <a:xfrm>
            <a:off x="3859200" y="573120"/>
            <a:ext cx="1150920" cy="140796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1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у отвозят в пекарню. В ней пекут булочки, буханки хлеба, бат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4" descr="324426783_yFYGa-S.jpg"/>
          <p:cNvPicPr/>
          <p:nvPr/>
        </p:nvPicPr>
        <p:blipFill>
          <a:blip r:embed="rId2"/>
          <a:stretch/>
        </p:blipFill>
        <p:spPr>
          <a:xfrm>
            <a:off x="-73080" y="712800"/>
            <a:ext cx="1231920" cy="107964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8" descr="big_rossiya_produktyi_pitaniya_selskoe_hozyaystvo_1.jpg"/>
          <p:cNvPicPr/>
          <p:nvPr/>
        </p:nvPicPr>
        <p:blipFill>
          <a:blip r:embed="rId3"/>
          <a:stretch/>
        </p:blipFill>
        <p:spPr>
          <a:xfrm>
            <a:off x="5499000" y="3786120"/>
            <a:ext cx="1084320" cy="94464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3" descr="324436430_uLwcP-S.jpg"/>
          <p:cNvPicPr/>
          <p:nvPr/>
        </p:nvPicPr>
        <p:blipFill>
          <a:blip r:embed="rId4"/>
          <a:stretch/>
        </p:blipFill>
        <p:spPr>
          <a:xfrm>
            <a:off x="6997680" y="927000"/>
            <a:ext cx="1049400" cy="94464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9" descr="2.jpg"/>
          <p:cNvPicPr/>
          <p:nvPr/>
        </p:nvPicPr>
        <p:blipFill>
          <a:blip r:embed="rId5"/>
          <a:stretch/>
        </p:blipFill>
        <p:spPr>
          <a:xfrm>
            <a:off x="2730600" y="3645000"/>
            <a:ext cx="1341360" cy="1152360"/>
          </a:xfrm>
          <a:prstGeom prst="rect">
            <a:avLst/>
          </a:prstGeom>
          <a:ln w="0">
            <a:noFill/>
          </a:ln>
        </p:spPr>
      </p:pic>
      <p:sp>
        <p:nvSpPr>
          <p:cNvPr id="412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9F76-89C9-44D7-B8B6-DFC178B12741}" type="slidenum">
              <a:rPr b="0" lang="ru-RU" sz="1600" spc="-1" strike="noStrike">
                <a:solidFill>
                  <a:srgbClr val="ff0000"/>
                </a:solidFill>
                <a:latin typeface="Franklin Gothic Book"/>
              </a:rPr>
              <a:t>&lt;number&gt;</a:t>
            </a:fld>
            <a:r>
              <a:rPr b="0" lang="ru-RU" sz="1600" spc="-1" strike="noStrike">
                <a:solidFill>
                  <a:srgbClr val="ff0000"/>
                </a:solidFill>
                <a:latin typeface="Franklin Gothic 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50920" y="228600"/>
            <a:ext cx="8642160" cy="12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Ampir Deco"/>
              </a:rPr>
              <a:t>    </a:t>
            </a:r>
            <a:r>
              <a:rPr b="0" lang="ru-RU" sz="1200" spc="-1" strike="noStrike">
                <a:solidFill>
                  <a:srgbClr val="4e3b30"/>
                </a:solidFill>
                <a:latin typeface="Ampir Deco"/>
              </a:rPr>
              <a:t>Готовое тесто из чаши опрокидывают в бункер, похожий на блестящую воронку, а оттуда в тесторазделочную машину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Рисунок 3" descr="машина для переворачивания чана с тестом"/>
          <p:cNvPicPr/>
          <p:nvPr/>
        </p:nvPicPr>
        <p:blipFill>
          <a:blip r:embed="rId1"/>
          <a:stretch/>
        </p:blipFill>
        <p:spPr>
          <a:xfrm>
            <a:off x="596880" y="5529240"/>
            <a:ext cx="658800" cy="8715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C:\Documents and Settings\Алла\Рабочий стол\Фото с Занятий\фото\Мои рисунки\Рисунок1.jpg"/>
          <p:cNvPicPr/>
          <p:nvPr/>
        </p:nvPicPr>
        <p:blipFill>
          <a:blip r:embed="rId2"/>
          <a:stretch/>
        </p:blipFill>
        <p:spPr>
          <a:xfrm>
            <a:off x="4857840" y="2809800"/>
            <a:ext cx="817560" cy="738360"/>
          </a:xfrm>
          <a:prstGeom prst="rect">
            <a:avLst/>
          </a:prstGeom>
          <a:ln w="0">
            <a:noFill/>
          </a:ln>
        </p:spPr>
      </p:pic>
      <p:sp>
        <p:nvSpPr>
          <p:cNvPr id="416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Franklin Gothic Book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Рисунок 1" descr="715.jpg"/>
          <p:cNvPicPr/>
          <p:nvPr/>
        </p:nvPicPr>
        <p:blipFill>
          <a:blip r:embed="rId1"/>
          <a:stretch/>
        </p:blipFill>
        <p:spPr>
          <a:xfrm>
            <a:off x="5791320" y="79200"/>
            <a:ext cx="1189080" cy="120672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2" descr="p-5-1.jpg"/>
          <p:cNvPicPr/>
          <p:nvPr/>
        </p:nvPicPr>
        <p:blipFill>
          <a:blip r:embed="rId2"/>
          <a:stretch/>
        </p:blipFill>
        <p:spPr>
          <a:xfrm>
            <a:off x="4937040" y="3438360"/>
            <a:ext cx="1214640" cy="11336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3" descr="2285_200.jpg"/>
          <p:cNvPicPr/>
          <p:nvPr/>
        </p:nvPicPr>
        <p:blipFill>
          <a:blip r:embed="rId3"/>
          <a:stretch/>
        </p:blipFill>
        <p:spPr>
          <a:xfrm>
            <a:off x="3565440" y="3870360"/>
            <a:ext cx="1414440" cy="120168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 4"/>
          <p:cNvSpPr/>
          <p:nvPr/>
        </p:nvSpPr>
        <p:spPr>
          <a:xfrm flipV="1" rot="10800000">
            <a:off x="1356840" y="337680"/>
            <a:ext cx="464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леб гот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6" descr="hleb2.jpg"/>
          <p:cNvPicPr/>
          <p:nvPr/>
        </p:nvPicPr>
        <p:blipFill>
          <a:blip r:embed="rId4"/>
          <a:stretch/>
        </p:blipFill>
        <p:spPr>
          <a:xfrm>
            <a:off x="365040" y="798480"/>
            <a:ext cx="1494000" cy="1189080"/>
          </a:xfrm>
          <a:prstGeom prst="rect">
            <a:avLst/>
          </a:prstGeom>
          <a:ln w="0">
            <a:noFill/>
          </a:ln>
        </p:spPr>
      </p:pic>
      <p:sp>
        <p:nvSpPr>
          <p:cNvPr id="422" name="Номер слайда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Franklin Gothic Book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>
            <a:off x="1357200" y="285840"/>
            <a:ext cx="77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везут в магазины.   Покупайте и куш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2" descr="828.jpg"/>
          <p:cNvPicPr/>
          <p:nvPr/>
        </p:nvPicPr>
        <p:blipFill>
          <a:blip r:embed="rId1"/>
          <a:stretch/>
        </p:blipFill>
        <p:spPr>
          <a:xfrm>
            <a:off x="3127320" y="512640"/>
            <a:ext cx="1182600" cy="106056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4" descr="B_356x361_ourbreads.jpg"/>
          <p:cNvPicPr/>
          <p:nvPr/>
        </p:nvPicPr>
        <p:blipFill>
          <a:blip r:embed="rId2"/>
          <a:stretch/>
        </p:blipFill>
        <p:spPr>
          <a:xfrm>
            <a:off x="5797440" y="2438280"/>
            <a:ext cx="1279800" cy="128592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5" descr="hleb.gif"/>
          <p:cNvPicPr/>
          <p:nvPr/>
        </p:nvPicPr>
        <p:blipFill>
          <a:blip r:embed="rId3"/>
          <a:stretch/>
        </p:blipFill>
        <p:spPr>
          <a:xfrm>
            <a:off x="79200" y="487440"/>
            <a:ext cx="1401840" cy="129852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7" descr="06hleb3.jpg"/>
          <p:cNvPicPr/>
          <p:nvPr/>
        </p:nvPicPr>
        <p:blipFill>
          <a:blip r:embed="rId4"/>
          <a:stretch/>
        </p:blipFill>
        <p:spPr>
          <a:xfrm>
            <a:off x="609480" y="2865600"/>
            <a:ext cx="1322640" cy="113328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8" descr="a285891435d8.jpg"/>
          <p:cNvPicPr/>
          <p:nvPr/>
        </p:nvPicPr>
        <p:blipFill>
          <a:blip r:embed="rId5"/>
          <a:stretch/>
        </p:blipFill>
        <p:spPr>
          <a:xfrm>
            <a:off x="6583320" y="1011240"/>
            <a:ext cx="1201680" cy="1036800"/>
          </a:xfrm>
          <a:prstGeom prst="rect">
            <a:avLst/>
          </a:prstGeom>
          <a:ln w="0">
            <a:noFill/>
          </a:ln>
        </p:spPr>
      </p:pic>
      <p:sp>
        <p:nvSpPr>
          <p:cNvPr id="429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Franklin Gothic Book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16:30:34Z</dcterms:created>
  <dc:creator>Administrator</dc:creator>
  <dc:description/>
  <dc:language>en-US</dc:language>
  <cp:lastModifiedBy>Administrator</cp:lastModifiedBy>
  <dcterms:modified xsi:type="dcterms:W3CDTF">2011-12-28T17:41:43Z</dcterms:modified>
  <cp:revision>2</cp:revision>
  <dc:subject/>
  <dc:title>Слайд 1</dc:title>
</cp:coreProperties>
</file>