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657-5F24-4C1C-A5E2-DC42766F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3C4-E937-48EC-81A7-2FCCE443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28B46-8F9B-4234-80A3-809B4B2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51C7E-0E9D-4BDB-A394-A4947B6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FCC8B-1CF3-4715-8B48-597A9FB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52CD8-6A27-41C7-85DF-889CF0A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60267-C312-4F9D-917C-6DCCD182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AB9FE-A8EE-44D1-8064-1C30164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65292-FA97-4EE4-A699-1290EC7E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1BE47-0DE9-41A9-BE47-CA30D65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B336-B7D3-46BA-83AC-D5E05B7F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317-D97D-4B91-A863-E1DA0397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4CB-0E29-4F8F-AE5B-5FBCFF2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5A2-413F-4B40-86BA-119BA6F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0BF-ADDA-428B-9594-29423D7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B7F-CBAB-4301-9050-B4F121F7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CC2E-765A-48BF-B4A9-20569007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792C-2F50-45FE-A479-A6BBDAC5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941-1F4D-46ED-A36F-E779977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616-83DE-4C73-837A-6913E6D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927-D9BD-4BA2-82B4-2DDDEE3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0173-FE81-45CB-9894-63D0F22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169-1041-444B-856F-1859C2B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7E4-E1D9-4FE2-8696-DB77BED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7E52-46C2-423F-85AA-18558745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818-0BC5-49A8-B008-F784D8E1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CA46-C44F-4855-96EA-DE7107EA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AB70-AFF4-4394-BFD1-5587656F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E901-2B9A-498E-93DD-DE48D9C5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96F0-0BC0-4B85-B031-ADF932FB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88F7-FA26-4B41-8546-B9CC94B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9E6-6D91-4075-BE87-335223F6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1E21-4A04-4EDC-9A84-30DB9ED1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4646-9D69-4598-8E1E-F21AB65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0876-7D55-4947-93EF-2162F66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5794-B29F-4C95-BB76-82738B7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E8EC-41D0-4B10-BE5A-BB6A417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85BC-6A80-4D99-9C66-4AC06EA3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F26E-F2B6-4BA2-AB81-924DDC1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74BD-815E-4902-AC8A-40E4129A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81D6-2857-4CB4-B9EE-4236D29A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ACB0-6244-42D3-8245-416346C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5E0-3FC6-4FDF-86BC-F66BEB7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6CD7-8479-4BFB-842B-303E256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EFB9-8D44-417A-9C8E-69228E9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EB2E-CBA7-4038-812D-4311B1B8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34F9-FDD5-4596-AAD1-BEA6FB3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D490-759A-4267-9C71-55C33E2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581C-805A-485B-956E-4A759BA6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FEDC-E24F-4AEC-99C1-B9CB2E5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D33F-5EA8-49E1-A9BD-46F780B4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AB97-1FFF-46FB-897C-1D5BFD1D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631C-F81A-4BAE-82D3-A4156F39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595-6FA0-4F70-AF9D-88AA06B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BBFB-D733-47B9-B8A0-386082B2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205D-CA9F-4F86-9CB1-998A4F1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D46E-DD7D-46FB-8E9F-11840D9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60C7-66A5-4041-8410-2B62769A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B81D-D8D2-4ECD-98AC-61C6AD10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4856-0E03-4EF4-9FE3-A9CCC96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3EE62-6477-4433-9642-4481701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4F34-6EE2-4EB0-AD40-54F4534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CD1C-5391-4006-9AFE-1838F21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761E-4E2E-432D-97E8-0664FAE4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273-9A52-45D7-9450-70DBF414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4663-0AC8-44CA-A283-245B8928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CF78-4400-413A-B25E-BE41F197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875B4-1451-4675-A7AF-F56D340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EAF7-F415-4D05-8883-B62181B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289C-E7C2-423B-BC5C-98D0EA7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F501-0E40-4D8A-B05A-AB98673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5734-0316-442B-83BD-B427769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4B6A-3425-4176-8067-F439614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C6A7E-0102-4F6E-BAF9-816F304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D2ABE-785B-4444-8F16-85349FDD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462-6CDC-4EA2-BCB4-19474DA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C51E-0836-467C-9D80-E66747F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F71F-0496-4027-B42C-8A37A4E9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41099-F959-489C-9998-6A4089EA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B20E-CBAE-4F65-BA67-D62D7063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46A1-F0E6-42DE-AD4A-8F82B09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4ED94-12E1-455E-8C0A-BEA49553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71A0-EC95-4FEF-95D9-405A604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773F-24A6-4ED3-8807-0A1E3A6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5DDF-C098-47F0-8E58-FEE084D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50EE1-A48A-4226-B947-05218E8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251-A367-4CD2-8B7F-225C636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D0DC-04EB-40CB-A77B-C08DEC9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BAFA-353E-4D14-9898-EEFE22E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2A2A-C467-4E9E-89D2-5CF224F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A0F6-0257-4370-8F39-F2A9C4C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A0E82-9A75-4C8D-A2B9-8898499B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ED31-BB4C-42C0-B620-A652F240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E6D2-08CB-4298-909F-1B08EE6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4EB68-F98D-43EB-9565-7F42142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AB5B-0E49-408D-807A-FDA0902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92D7-4BDA-496A-BDD1-1296D8D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862-0EF9-4947-AE04-1909881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E6B5F-A2A9-466D-BB77-52816D4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BA25-5C05-4837-8C4D-8CE8F7E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DEFC-82C5-4357-A905-84C590C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D6CB9-5813-4B8F-A993-653A62E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5338-E102-4389-9D2D-042C472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9B593-5CD9-4483-B428-D1D3A879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66F7-611A-4121-A591-79F0560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F1209-BB9D-4E97-AA3A-1FDC6D79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7FC3E-2091-4A80-88C0-BE900EC2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5663-274B-4ECC-B829-DB3173C1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581-A4A4-4F08-B201-DC739F6834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E4D-9729-4B30-9D01-008A3424B6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B0F-BD3E-4AEB-950B-73C3731C6C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110-AE60-4CAB-99C6-91D659BB6C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D178-CF46-4A70-9CA8-B841F2E9DA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D9E-1C2C-44AF-981E-4FB16B8E41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8025-CF90-4625-865F-8DCBA50743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9122-2D51-45FC-BBFB-11D1DC2DFD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0BD-8421-4243-A667-2CA13A2934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kulinariya.su/page/20" TargetMode="External"/><Relationship Id="rId3" Type="http://schemas.openxmlformats.org/officeDocument/2006/relationships/hyperlink" Target="http://www.kulinariya.su/page/20" TargetMode="External"/><Relationship Id="rId4" Type="http://schemas.openxmlformats.org/officeDocument/2006/relationships/hyperlink" Target="http://packaging.kiev.ua/rus/" TargetMode="Externa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1139760" y="2992320"/>
            <a:ext cx="8010720" cy="982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Алла\Рабочий стол\Фото с Занятий\фото\Мои рисунки\к занят.о хлебе\разн.хлеб.bmp"/>
          <p:cNvPicPr/>
          <p:nvPr/>
        </p:nvPicPr>
        <p:blipFill>
          <a:blip r:embed="rId2"/>
          <a:stretch/>
        </p:blipFill>
        <p:spPr>
          <a:xfrm>
            <a:off x="5072040" y="2139840"/>
            <a:ext cx="963720" cy="768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Алла\Рабочий стол\Фото с Занятий\фото\Мои рисунки\к занят.о хлебе\бул.издел..bmp"/>
          <p:cNvPicPr/>
          <p:nvPr/>
        </p:nvPicPr>
        <p:blipFill>
          <a:blip r:embed="rId3"/>
          <a:stretch/>
        </p:blipFill>
        <p:spPr>
          <a:xfrm>
            <a:off x="4998960" y="3713040"/>
            <a:ext cx="114624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Documents and Settings\Алла\Рабочий стол\Фото с Занятий\фото\Мои рисунки\к занят.о хлебе\m_77605fa0cf3387f0.jpg"/>
          <p:cNvPicPr/>
          <p:nvPr/>
        </p:nvPicPr>
        <p:blipFill>
          <a:blip r:embed="rId4"/>
          <a:stretch/>
        </p:blipFill>
        <p:spPr>
          <a:xfrm>
            <a:off x="249120" y="115920"/>
            <a:ext cx="1268640" cy="1030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Documents and Settings\Алла\Рабочий стол\Фото с Занятий\фото\Мои рисунки\к занят.о хлебе\разнообр.хл...bmp"/>
          <p:cNvPicPr/>
          <p:nvPr/>
        </p:nvPicPr>
        <p:blipFill>
          <a:blip r:embed="rId5"/>
          <a:stretch/>
        </p:blipFill>
        <p:spPr>
          <a:xfrm>
            <a:off x="2000160" y="3786120"/>
            <a:ext cx="9018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80EA-7628-4995-8EC5-703CA0E1FE43}" type="slidenum"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&lt;number&gt;</a:t>
            </a:fld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Picture 2" descr="C:\Documents and Settings\Алла\Рабочий стол\Фото с Занятий\фото\Мои рисунки\2910093.jpg"/>
          <p:cNvPicPr/>
          <p:nvPr/>
        </p:nvPicPr>
        <p:blipFill>
          <a:blip r:embed="rId1"/>
          <a:stretch/>
        </p:blipFill>
        <p:spPr>
          <a:xfrm>
            <a:off x="4286160" y="2498760"/>
            <a:ext cx="13035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682720" y="-6480"/>
            <a:ext cx="3121200" cy="927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kulinariya.su/page/20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packaging.kiev.ua/rus/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www.namynayko.com.ua/ru/products/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focus.ua/economy/5469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www.utpp.msk.ru/Virtual_vist24.html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snaptour.ru/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www.rolpol.com.ua/produkty_ru.html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ipytugino.livejournal.com/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http://www.sovsibir.ru/index.php?dn=news&amp;to=art&amp;ye=2010&amp;id=8455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http://www.firm-august.ru/newspaper/arh/detail.php?ID=2549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http://static2.aif.ru/public/news/958/3c8b9009ab06a6b63c70f31dc204eccd_big.jpg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http://photobank.kiev.ua/Industry/agriculture_02.shtm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8143920" y="64292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6" descr=""/>
          <p:cNvPicPr/>
          <p:nvPr/>
        </p:nvPicPr>
        <p:blipFill>
          <a:blip r:embed="rId1"/>
          <a:stretch/>
        </p:blipFill>
        <p:spPr>
          <a:xfrm>
            <a:off x="665280" y="-6480"/>
            <a:ext cx="8028000" cy="927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87d0e"/>
                </a:solidFill>
                <a:latin typeface="Franklin Gothic Book"/>
              </a:rPr>
              <a:t>« Славный город Урожайск»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Автор презентаци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оспитатель: Луцук Алефтина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вановн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ллюстрации взяты из ресурсо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тернета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7:43:14Z</dcterms:created>
  <dc:creator>Administrator</dc:creator>
  <dc:description/>
  <dc:language>en-US</dc:language>
  <cp:lastModifiedBy>Administrator</cp:lastModifiedBy>
  <dcterms:modified xsi:type="dcterms:W3CDTF">2011-12-28T17:46:17Z</dcterms:modified>
  <cp:revision>1</cp:revision>
  <dc:subject/>
  <dc:title>               Хлебное изобилие</dc:title>
</cp:coreProperties>
</file>