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7A7-C7AC-46A1-AF1A-8B8030EE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2E7-10CD-442B-AC25-6531125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B81-BAF0-46C5-B5FD-8840475B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F2F-36A9-4E9D-8455-A280AABB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475-16DD-4342-A9F5-7DDAF565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1AB-3B93-4FA3-9A95-E56E910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C5C8-04D2-41DF-94ED-86EC329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4F9D-6B60-4F35-B3EB-B28A658B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0683-DEA0-407F-8F5F-801BC73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566C-59C8-4D56-BC84-6022268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7ED-B315-434F-818C-7D6A641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39E-9332-4762-A121-620D868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09E-426F-4BE3-8F55-FE47A43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DDA-81D2-46E5-BCFB-2EDE5F7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0B1-8E11-4474-B5DA-C17FB31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126-7F9E-46F6-B672-D3CF616A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B38-19F0-4EAF-AFDE-6D019C85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C4F-630E-4221-9506-356C7647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DA3-1C9E-4B3E-BBFD-B5A9394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3C6-2780-4259-BC3C-F35A1F9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5C7-8B2D-42C0-99AD-986B3B3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F9A-8BFA-4C57-9961-5F55307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E52-ED19-482B-83B2-5AC179B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7EE-CFFB-4413-9EAA-09C90C2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79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53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54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2C8-E238-4404-A11C-2CE22574E4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54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5480"/>
              <a:ext cx="1203120" cy="68421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2040"/>
                <a:chOff x="8381880" y="-360"/>
                <a:chExt cx="762120" cy="228204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0280" y="-360"/>
                  <a:ext cx="279360" cy="275400"/>
                  <a:chOff x="872028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0280" y="-360"/>
                    <a:ext cx="279360" cy="275400"/>
                    <a:chOff x="872028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916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852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9800" y="142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356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448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396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9800" y="20484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8320" y="1800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79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7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1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1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20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1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2080"/>
                <a:ext cx="828720" cy="4698720"/>
                <a:chOff x="7848720" y="1612080"/>
                <a:chExt cx="828720" cy="46987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2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5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39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22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4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4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04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2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2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05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8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0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0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2920"/>
              <a:ext cx="1190520" cy="1935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360"/>
                <a:gd name="textAreaBottom" fmla="*/ 1935720 h 19353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160"/>
              <a:ext cx="1219320" cy="19954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6720"/>
              <a:ext cx="1231920" cy="40276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7680"/>
                <a:gd name="textAreaBottom" fmla="*/ 4027680 h 40276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000"/>
              <a:ext cx="979560" cy="21794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9440"/>
                <a:gd name="textAreaBottom" fmla="*/ 2179800 h 21794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1720"/>
              <a:ext cx="914400" cy="5036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6400"/>
                <a:gd name="textAreaBottom" fmla="*/ 5036760 h 50364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7200"/>
              <a:ext cx="909720" cy="30643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4320"/>
                <a:gd name="textAreaBottom" fmla="*/ 3064680 h 30643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5480"/>
              <a:ext cx="576360" cy="33447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760"/>
                <a:gd name="textAreaBottom" fmla="*/ 3345120 h 33447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6920"/>
              <a:ext cx="300240" cy="33451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5120"/>
                <a:gd name="textAreaBottom" fmla="*/ 3345480 h 33451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6920"/>
              <a:ext cx="88920" cy="6842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76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1880" y="3323880"/>
              <a:ext cx="6842160" cy="225360"/>
            </a:xfrm>
            <a:custGeom>
              <a:avLst/>
              <a:gdLst>
                <a:gd name="textAreaLeft" fmla="*/ 666720 w 6842160"/>
                <a:gd name="textAreaRight" fmla="*/ 6175440 w 68421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E290-BDAA-4D6B-AEF6-58405594187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7572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Cambria"/>
              </a:rPr>
              <a:t>Исследовательская работа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Cambria"/>
              </a:rPr>
              <a:t> ученика 3 </a:t>
            </a: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7d47d"/>
                </a:solidFill>
                <a:latin typeface="Cambria"/>
              </a:rPr>
              <a:t> класса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Cambria"/>
              </a:rPr>
              <a:t>Керимова Арсла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85840" y="3357360"/>
            <a:ext cx="75722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311"/>
                </a:solidFill>
                <a:latin typeface="Cambria"/>
              </a:rPr>
              <a:t>«О цветовых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311"/>
                </a:solidFill>
                <a:latin typeface="Cambria"/>
              </a:rPr>
              <a:t>предпочтениях учащихся 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1407960"/>
            <a:ext cx="80773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Cambria"/>
              </a:rPr>
              <a:t>Цель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700280"/>
            <a:ext cx="7386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2f1311"/>
                </a:solidFill>
                <a:latin typeface="Cambria"/>
              </a:rPr>
              <a:t>выявить влияние пола, возраста</a:t>
            </a: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2f1311"/>
                </a:solidFill>
                <a:latin typeface="Cambria"/>
              </a:rPr>
              <a:t>и </a:t>
            </a: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2f1311"/>
                </a:solidFill>
                <a:latin typeface="Cambria"/>
              </a:rPr>
              <a:t>увлечений учащихся начальных, средних и старших классов на</a:t>
            </a: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2f1311"/>
                </a:solidFill>
                <a:latin typeface="Cambria"/>
              </a:rPr>
              <a:t>выбор цветовой гаммы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Cambria"/>
              </a:rPr>
              <a:t>Задачи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изучить научную литературу п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выбранной тем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определить влияние пола, возраст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увлечений на выбор цв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дать интерпретацию полученны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результатам с точки зр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псих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Cambria"/>
              </a:rPr>
              <a:t>Объект и предмет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3643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Cambria"/>
              </a:rPr>
              <a:t>Объек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2174760"/>
            <a:ext cx="36147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влияние цветово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гаммы 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учащихся в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зависимости от и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пола, возраста 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увлечен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14880" y="142884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Cambria"/>
              </a:rPr>
              <a:t>Предме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142880" y="2143080"/>
            <a:ext cx="3357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предпочт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учащихся в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област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mbria"/>
              </a:rPr>
              <a:t>цветовой гамм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ambria"/>
              </a:rPr>
              <a:t>Какие цвета любят дети?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Улыбающееся лицо 10"/>
          <p:cNvSpPr/>
          <p:nvPr/>
        </p:nvSpPr>
        <p:spPr>
          <a:xfrm>
            <a:off x="3143160" y="3143160"/>
            <a:ext cx="1500120" cy="1428840"/>
          </a:xfrm>
          <a:prstGeom prst="smileyFace">
            <a:avLst>
              <a:gd name="adj" fmla="val 9282"/>
            </a:avLst>
          </a:prstGeom>
          <a:solidFill>
            <a:srgbClr val="2f131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Улыбающееся лицо 23"/>
          <p:cNvSpPr/>
          <p:nvPr/>
        </p:nvSpPr>
        <p:spPr>
          <a:xfrm>
            <a:off x="3071880" y="1714680"/>
            <a:ext cx="1500120" cy="1428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Улыбающееся лицо 24"/>
          <p:cNvSpPr/>
          <p:nvPr/>
        </p:nvSpPr>
        <p:spPr>
          <a:xfrm>
            <a:off x="4429080" y="2357280"/>
            <a:ext cx="1571760" cy="142884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Улыбающееся лицо 25"/>
          <p:cNvSpPr/>
          <p:nvPr/>
        </p:nvSpPr>
        <p:spPr>
          <a:xfrm>
            <a:off x="4429080" y="3786120"/>
            <a:ext cx="1643040" cy="15001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Улыбающееся лицо 26"/>
          <p:cNvSpPr/>
          <p:nvPr/>
        </p:nvSpPr>
        <p:spPr>
          <a:xfrm>
            <a:off x="1785960" y="2428920"/>
            <a:ext cx="1500120" cy="1500120"/>
          </a:xfrm>
          <a:prstGeom prst="smileyFace">
            <a:avLst>
              <a:gd name="adj" fmla="val 9282"/>
            </a:avLst>
          </a:prstGeom>
          <a:solidFill>
            <a:srgbClr val="7030a0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Улыбающееся лицо 27"/>
          <p:cNvSpPr/>
          <p:nvPr/>
        </p:nvSpPr>
        <p:spPr>
          <a:xfrm>
            <a:off x="1714680" y="3929040"/>
            <a:ext cx="1571400" cy="15001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Улыбающееся лицо 28"/>
          <p:cNvSpPr/>
          <p:nvPr/>
        </p:nvSpPr>
        <p:spPr>
          <a:xfrm>
            <a:off x="3143160" y="4572000"/>
            <a:ext cx="1500120" cy="1500120"/>
          </a:xfrm>
          <a:prstGeom prst="smileyFace">
            <a:avLst>
              <a:gd name="adj" fmla="val 9282"/>
            </a:avLst>
          </a:prstGeom>
          <a:solidFill>
            <a:srgbClr val="fe58de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ambria"/>
              </a:rPr>
              <a:t>Цветовые предпочтения по половому признаку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284040" y="-928800"/>
          <a:ext cx="7315200" cy="76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-928800"/>
                    <a:ext cx="7315200" cy="76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ambria"/>
              </a:rPr>
              <a:t>Цветовые предпочтения по возрастному признаку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857240"/>
            <a:ext cx="73864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209520" y="1859040"/>
          <a:ext cx="7345440" cy="52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859040"/>
                    <a:ext cx="734544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ambria"/>
              </a:rPr>
              <a:t>Цветовые предпочтения по увлечениям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22" name="Object 5"/>
          <p:cNvGraphicFramePr/>
          <p:nvPr/>
        </p:nvGraphicFramePr>
        <p:xfrm>
          <a:off x="209520" y="1573200"/>
          <a:ext cx="740556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573200"/>
                    <a:ext cx="74055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ambria"/>
              </a:rPr>
              <a:t>Выводы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Cambria"/>
              </a:rPr>
              <a:t>Пол учащихся действительно влияет на предпочтение к какому-либо цв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Cambria"/>
              </a:rPr>
              <a:t>Возраст девочек существенно влияет на выбор цвета, в то время как возраст мальчиков практически не влияет на выбор цв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Cambria"/>
              </a:rPr>
              <a:t>Большинство учащихся, увлекающихся музыкой, спортом, танцами, выбрали в качестве любимого цвета красный и зелёный цв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Cambria"/>
              </a:rPr>
              <a:t>Предпочтения девочек отражаются более широкой цветовой гаммой, нежели предпочтения мальчик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3:05:10Z</dcterms:created>
  <dc:creator>1</dc:creator>
  <dc:description/>
  <dc:language>en-US</dc:language>
  <cp:lastModifiedBy>1</cp:lastModifiedBy>
  <dcterms:modified xsi:type="dcterms:W3CDTF">2011-12-29T15:08:56Z</dcterms:modified>
  <cp:revision>24</cp:revision>
  <dc:subject/>
  <dc:title>Слайд 1</dc:title>
</cp:coreProperties>
</file>