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4.jpeg" ContentType="image/jpeg"/>
  <Override PartName="/ppt/media/image22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FE3-5B9F-42F9-831E-78D35C9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B79-EA93-46DE-B452-8E0C2622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CEB-65C0-439F-9022-80862F9D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A68-4746-4925-8FDD-80313F06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F3F-1EFF-48B2-80EE-A271F5EB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05A-6E06-4AD3-8A38-3EFBEFB9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672-627C-4ECE-B189-8485C741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EFE-B0D6-4868-97B8-5E4137F5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034-A63E-475F-BBC8-13F8EEAB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A8B-5FA8-4457-BA68-2840FB2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E27-9693-4DAD-9DAB-B07C1F2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B64-4079-4081-82BF-A67B080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1388-CB86-4E36-B833-060D309F5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interweb.spb.ru/present/page.asp?4_1_2" TargetMode="External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terweb.spb.ru/" TargetMode="External"/><Relationship Id="rId2" Type="http://schemas.openxmlformats.org/officeDocument/2006/relationships/hyperlink" Target="http://www.unilib.stu.neva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1219320"/>
            <a:ext cx="6674040" cy="30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Презентация к уроку 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по творчеству 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Ф.М.Достоевского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27640" y="4581360"/>
            <a:ext cx="4176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Лиманская Ирина Анатольевна, учитель русского языка и литератур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МБОУ СОШ №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г.Сальск, Ростовская обл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48640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2895480" cy="6343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4343400"/>
            <a:ext cx="426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Властвует же над всем этим  убожеством великолепная панорама Невы, от которой на главного героя веет «духом немым и глухи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0492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0120" y="5029200"/>
            <a:ext cx="794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«Грязный, гадкий и зловонный Петербург летом так  идет к моему настроению и мог бы дать несколько ложного вдохновения для романа»,- писал Достоевск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644400"/>
            <a:ext cx="350496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Но вдохновение писателя оказалось подлинным и сильным.Его Петербург равнодушен к страданиям «униженных и оскорбленных». Город Евгения Онегина весьма далек от города Родиона Раскольникова, как и волшебный «перламутр петербургской ночи» Анны Ахматовой отличается от «зловещего дегтя» петербургского дня Осипа Мандельшта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29080" y="205740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Feci quod potui, faciant meliora pot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" y="4267080"/>
            <a:ext cx="800100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Monotype Corsiva"/>
              </a:rPr>
              <a:t>Текст работы составлен автором с использованием цитатного материала из произведений А.С. Пушкина,</a:t>
            </a: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Monotype Corsiva"/>
              </a:rPr>
              <a:t> Н.В. Гоголя, Н.А. Некрасова, Ф.М. Достоевского.</a:t>
            </a: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Monotype Corsiva"/>
              </a:rPr>
              <a:t>Иллюстрации взяты в ИНТЕРНЕТ по адресу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"/>
              </a:rPr>
              <a:t>www.interweb.spb.ru</a:t>
            </a: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"/>
              </a:rPr>
              <a:t>www.unilib.stu.neva.ru</a:t>
            </a: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wipe dir="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Monotype Corsiva"/>
              </a:rPr>
              <a:t>По роману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cc0066"/>
                </a:solidFill>
                <a:latin typeface="Monotype Corsiva"/>
              </a:rPr>
              <a:t>«Преступление и наказание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7520" y="1981080"/>
            <a:ext cx="274644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276360" cy="238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49568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листательный Санкт-Петербур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 раз становится действующ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ицом в произведениях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усс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исателей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6920" y="3352680"/>
            <a:ext cx="4876560" cy="3200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609480"/>
            <a:ext cx="541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«Люблю тебя, Петра творенье!»-восклицает А.С. Пушкин, создавая своеобразный гимн великому городу в своей поэме «Медный всадник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3809880"/>
            <a:ext cx="368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Полнощных стран кра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и диво» нарисован писателем так, что «перед младшею столицей померкла старая Москва»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ver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181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2538720"/>
            <a:ext cx="579096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240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имволом  гоголевского Петербурга явился «всемогущий Невский проспект», так ка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еверной столице нет ничего лучше этой «всеобщей коммуникации». Но показав, «какая быстрая совершается на  нем фантасмагор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течение одного…дня», Гоголь предостерегает: «О, не верьте этому Невскому проспекту! Он лжет во всякое время…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70000" cy="311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429000" y="228600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791320" y="228600"/>
            <a:ext cx="304776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3429000" cy="19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-36684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иболее беспощадным      в изображении Петербурга выступает Н.А. Некрасов   в цикле стихотворений        «О погод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4800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се сливается,стонет, гудё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ак-то глухо и грозно рокоч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ловно цепи куют на несчастный нар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ловно город обрушиться хочет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79b"/>
            </a:gs>
            <a:gs pos="50000">
              <a:srgbClr val="ffcc99"/>
            </a:gs>
            <a:gs pos="100000">
              <a:srgbClr val="73979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358128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50496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53352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родолжение такой картины мы наход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у Ф.М. Достоевского в его ром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«Преступление и наказани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51240" y="4800600"/>
            <a:ext cx="489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Поскольку писатель сам не имел возмож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снимать квартиры в богатых  районах столиц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а жил на так  называемых «серединных  улицах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то и его герои сторонятся «пушкинских кварталов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581280" y="1828800"/>
            <a:ext cx="2019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3124440" cy="3200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3276360" cy="320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91120" y="7621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Они живут на Гороховой, Мещанской, Подьяческой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41911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886200"/>
            <a:ext cx="388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 домах «без всякой архитектуры», кишащих цеховым и ремесленным населени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525920" cy="3236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4483080"/>
            <a:ext cx="76197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Родион Раскольников часто проходит через Сенную, где «жара … страшная, к тому же духота, толкотня, всюду известка, леса, кирпич, пыль и та особенная летняя вонь, столь известная каждому петербуржцу», когда «от природы отстать не желая, зацветает в каналах вода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3:51:51Z</dcterms:created>
  <dc:creator>1</dc:creator>
  <dc:description/>
  <dc:language>en-US</dc:language>
  <cp:lastModifiedBy>ИРИНА</cp:lastModifiedBy>
  <dcterms:modified xsi:type="dcterms:W3CDTF">2011-11-21T17:46:19Z</dcterms:modified>
  <cp:revision>48</cp:revision>
  <dc:subject/>
  <dc:title>Презентация PowerPoint</dc:title>
</cp:coreProperties>
</file>