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7CF-6999-4C61-A1DF-4F977999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ACB-25B0-48A0-9CFD-6841C344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9BF6-0A02-45EA-9879-BE6F7B22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26B-C456-482C-8CF3-2B33DB1D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908-6514-4B42-8D4D-5D416176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9F2-A020-4670-A61E-566A562A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CE0-E893-45E8-8696-C355D85A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AF9-80B2-4BD9-A78D-3030CE40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425-2574-4378-9DA8-1E6A9608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B57-57A7-4874-BF4F-F9BEAA6C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CD8-F5C4-4881-81C5-B9BDBFE1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83F-40B6-4351-9D70-23B9A5A1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C69A-F908-407B-8BA4-24586E06C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амооценка учащимися самостоятельной работы на уроке 7 б клас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6840" y="1419120"/>
          <a:ext cx="8974080" cy="54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1419120"/>
                    <a:ext cx="8974080" cy="54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амооценка учащимися самостоятельной работы на уроке 7 б клас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6840" y="1419120"/>
          <a:ext cx="8974080" cy="54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1419120"/>
                    <a:ext cx="8974080" cy="54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21:33:06Z</dcterms:created>
  <dc:creator>12ZZ</dc:creator>
  <dc:description/>
  <dc:language>en-US</dc:language>
  <cp:lastModifiedBy>12ZZ</cp:lastModifiedBy>
  <dcterms:modified xsi:type="dcterms:W3CDTF">2011-12-27T22:16:47Z</dcterms:modified>
  <cp:revision>5</cp:revision>
  <dc:subject/>
  <dc:title>Социально-личностное развитие класса</dc:title>
</cp:coreProperties>
</file>