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CD2-E259-4F50-AB44-C9CE55EC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A91-EF04-4137-9127-4EA216D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AF4-2546-43B8-8E75-68263991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9FE-0C6D-46A5-ABA1-ADC7618A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500-C75A-4F47-A3C3-05B6584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E07-1E9F-496B-9856-9BB5B8B7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734-69E1-49E1-879A-7764A97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C25-2D2F-4E9E-912E-8FABD7FE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18B-70B3-4A27-84D6-33DCAD79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F71-E493-4B0E-9888-A1AF366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2E8-5C24-4073-B13E-8D80FCA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57F-C1BA-473A-9E65-0FF1815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B96D-A216-4C42-B9DE-31E88A4A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о-личностное развитие 6 б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6840" y="1419120"/>
          <a:ext cx="89740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19120"/>
                    <a:ext cx="89740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о-личностное развитие 6 б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1:33:06Z</dcterms:created>
  <dc:creator>12ZZ</dc:creator>
  <dc:description/>
  <dc:language>en-US</dc:language>
  <cp:lastModifiedBy>12ZZ</cp:lastModifiedBy>
  <dcterms:modified xsi:type="dcterms:W3CDTF">2011-12-27T22:01:39Z</dcterms:modified>
  <cp:revision>4</cp:revision>
  <dc:subject/>
  <dc:title>Социально-личностное развитие класса</dc:title>
</cp:coreProperties>
</file>