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7B2-C81D-4F33-8F8E-E04E366C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329-9C0C-48E5-AB55-E943C0A6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B91-220B-48F0-8044-AD65AED2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42F-9F95-473C-844F-48720952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071-7CD2-4E7C-9443-B3068AC6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683-4E33-40EF-88E7-EAB54AD4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3DA-E01E-48E1-8525-D3A0D677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5CD-E738-4B4F-A98B-89CC47D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62E-1617-4104-92C8-BA06CCA1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D07-5E51-40E1-84F1-BBDAF13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1CD-940C-4EFF-9556-86FACC2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B0D-3F89-4498-9E2B-E0B6A6D3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412-B0B9-4ADB-A70A-96BC527A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о-личностное развитие 7 б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6840" y="1419120"/>
          <a:ext cx="8974080" cy="54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19120"/>
                    <a:ext cx="897408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о-личностное развитие 7 б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1:33:06Z</dcterms:created>
  <dc:creator>12ZZ</dc:creator>
  <dc:description/>
  <dc:language>en-US</dc:language>
  <cp:lastModifiedBy>12ZZ</cp:lastModifiedBy>
  <dcterms:modified xsi:type="dcterms:W3CDTF">2011-12-27T22:01:53Z</dcterms:modified>
  <cp:revision>4</cp:revision>
  <dc:subject/>
  <dc:title>Социально-личностное развитие класса</dc:title>
</cp:coreProperties>
</file>