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1A16-82A3-440C-B55D-DF299E29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8A1-3E9F-4835-877B-F99F458B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10D7-1BDF-44E6-ACD5-43DA9AF8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1481-33C6-49DA-918F-9E4C6E32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56E3-81D9-4DA8-95B3-908EF0D6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211F-8AD3-4247-895F-8BF9F3C3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249-38D1-4549-95B1-E5621AD2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A26-A4EF-4CF9-9DB9-CFC7DE79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FEFC-5291-4695-93FE-1ADEF581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582B-BD31-4686-97D6-C51CDE24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5DD3-25B2-42CE-A530-1AD6E2E9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45F2-E8DE-479F-9383-D9CA3675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BF0B-9C3F-4EFD-9A53-E0140C5338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DSCN398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5065560"/>
            <a:ext cx="9156960" cy="19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User\Рабочий стол\Фотоальбом\класс и друзья\просто уроки\на уроке.JPG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285840" y="201240"/>
            <a:ext cx="8501040" cy="667476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 – мир знаний, любви и теп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с годами всего нам да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расцветает  всё краше о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ца, улыбок и счастья пол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учшие годы вот-вот пролетят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ство, прощаясь, поманит ребя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забывайте Ваш солнечный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озвращайтесь почаще по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Екатерина Григоренк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User\Рабочий стол\Фотоальбом\семья\Последний звонок 2009\IMAG26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User\Рабочий стол\Фотоальбом\класс и друзья\школьные мероприятия\DSCN39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:\Documents and Settings\User\Рабочий стол\Фотоальбом\класс и друзья\СУББОТНИК!!!10 класс 2009\SDC119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User\Рабочий стол\Фотоальбом\Мисс Шарм 2008\цыганка и казах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User\Рабочий стол\Фотоальбом\класс и друзья\школьные мероприятия\всегда вмест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User\Рабочий стол\Фотоальбом\класс и друзья\школьные мероприятия\красим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3571920" y="340920"/>
            <a:ext cx="5572080" cy="618732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 краш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ь чудес на свете есть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м известно э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попросим мы у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е чудо све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удо восемь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 наш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гости просим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у краш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Екатерина Григоренк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User\Рабочий стол\Фотоальбом\Мисс Шарм 2008\отведай и поймешь меня...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User\Рабочий стол\Фотоальбом\класс и друзья\DSCN45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User\Рабочий стол\Фотоальбом\класс и друзья\школьные мероприятия\DSCN387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F:\IMG_66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3" descr=""/>
          <p:cNvPicPr/>
          <p:nvPr/>
        </p:nvPicPr>
        <p:blipFill>
          <a:blip r:embed="rId2"/>
          <a:stretch/>
        </p:blipFill>
        <p:spPr>
          <a:xfrm>
            <a:off x="268200" y="-133200"/>
            <a:ext cx="4449960" cy="61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C:\Documents and Settings\User\Рабочий стол\Фотоальбом\класс и друзья\День учителя 2009 1 сентября 2009\IMAG41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User\Рабочий стол\Фотоальбом\класс и друзья\учитель года 2009\IMAG196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Documents and Settings\User\Рабочий стол\Фотоальбом\класс и друзья\День учителя 2009 1 сентября 2009\IMAG41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User\Рабочий стол\Фотоальбом\класс и друзья\учитель года 2009\IMAG20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285840" y="199800"/>
            <a:ext cx="4071960" cy="667764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ша школа №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й не так уж много лет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сор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рых окон яркий свет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ё с зад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т так весело звен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-ре-ме-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не отпуская мен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-пре-мен-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е уже почти п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аль, конеч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со школьного д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утеш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тра тоже я уй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ир без кр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 тебе опять прид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, втора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C:\Documents and Settings\User\Рабочий стол\LastScaдиплом.jpg"/>
          <p:cNvPicPr/>
          <p:nvPr/>
        </p:nvPicPr>
        <p:blipFill>
          <a:blip r:embed="rId1"/>
          <a:stretch/>
        </p:blipFill>
        <p:spPr>
          <a:xfrm>
            <a:off x="0" y="0"/>
            <a:ext cx="4095720" cy="565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Documents and Settings\User\Рабочий стол\LastScan.jpg"/>
          <p:cNvPicPr/>
          <p:nvPr/>
        </p:nvPicPr>
        <p:blipFill>
          <a:blip r:embed="rId2"/>
          <a:stretch/>
        </p:blipFill>
        <p:spPr>
          <a:xfrm>
            <a:off x="2357280" y="642960"/>
            <a:ext cx="4023000" cy="5572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C:\Documents and Settings\User\Рабочий стол\LastScanр.jpg"/>
          <p:cNvPicPr/>
          <p:nvPr/>
        </p:nvPicPr>
        <p:blipFill>
          <a:blip r:embed="rId3"/>
          <a:stretch/>
        </p:blipFill>
        <p:spPr>
          <a:xfrm>
            <a:off x="5214960" y="1220760"/>
            <a:ext cx="3929040" cy="563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3" descr=""/>
          <p:cNvPicPr/>
          <p:nvPr/>
        </p:nvPicPr>
        <p:blipFill>
          <a:blip r:embed="rId2"/>
          <a:stretch/>
        </p:blipFill>
        <p:spPr>
          <a:xfrm>
            <a:off x="920880" y="4992840"/>
            <a:ext cx="7083360" cy="1639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85840" y="193320"/>
            <a:ext cx="8501040" cy="521244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Школьные годы чудес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ень улыбается яркими листочк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Школа разливается весело звоночк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Яркие букеты, флаги у крылеч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сни льются звонче, чем  водица в реч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уквари, тетрадки, ручки, сумки, книжки,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сё, чего так  долго ждали ребятишки! (Екатерина Григоренк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:\S1051549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User\Рабочий стол\Фотоальбом\класс и друзья\просто уроки\алгебра2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IMAG24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User\Рабочий стол\Фотоальбом\класс и друзья\просто уроки\еще ф-ра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User\Рабочий стол\Фотоальбом\класс и друзья\школьные мероприятия\аттеста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1:38:59Z</dcterms:created>
  <dc:creator>Samlab</dc:creator>
  <dc:description/>
  <dc:language>en-US</dc:language>
  <cp:lastModifiedBy>Uzer</cp:lastModifiedBy>
  <dcterms:modified xsi:type="dcterms:W3CDTF">2011-12-31T04:53:08Z</dcterms:modified>
  <cp:revision>20</cp:revision>
  <dc:subject/>
  <dc:title>Слайд 1</dc:title>
</cp:coreProperties>
</file>