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FB6-E291-495D-AEBA-54D8459D7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396-D849-4927-A51A-96C2BDDC4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2F3-5559-455A-940C-9F8E6A0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D1A-DBF9-4B03-8677-37E06B20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B3E-418F-4B5A-99A7-D9F28A7C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D3C-98BC-405C-ABEB-D8A28056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6CF-4117-49CF-B314-EFD73DC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E36-45D7-4097-865C-EC547D10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090-DFAC-4AD1-B9BC-AD4FB633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8CB-A80A-494E-B361-1FE9627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02B-016E-449A-99A0-2C61362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DB4-CDAA-4E25-9223-59493F0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80D-43FB-4C86-9F3C-637BA2E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AF8-5FAD-4DFC-8BEF-BCB3D39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5C1-DFE4-4A3D-B3D7-88596891D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69296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Районное методическое объединение учителей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Фоторепорт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«Использование кластеров на урока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Коровина Т.Ю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МОУ «СОШ р.п. Красный Октябр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Саратовского райо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екабрь 20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F:\Школа 2010\фото школа\IMG_0519.JPG"/>
          <p:cNvPicPr/>
          <p:nvPr/>
        </p:nvPicPr>
        <p:blipFill>
          <a:blip r:embed="rId1"/>
          <a:stretch/>
        </p:blipFill>
        <p:spPr>
          <a:xfrm>
            <a:off x="7697880" y="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:\Школа 2010\фото школа\IMG_0435.JPG"/>
          <p:cNvPicPr/>
          <p:nvPr/>
        </p:nvPicPr>
        <p:blipFill>
          <a:blip r:embed="rId2"/>
          <a:stretch/>
        </p:blipFill>
        <p:spPr>
          <a:xfrm>
            <a:off x="657216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:\Школа 2010\фото школа\IMG_0434.JPG"/>
          <p:cNvPicPr/>
          <p:nvPr/>
        </p:nvPicPr>
        <p:blipFill>
          <a:blip r:embed="rId3"/>
          <a:stretch/>
        </p:blipFill>
        <p:spPr>
          <a:xfrm>
            <a:off x="0" y="242892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F:\Школа 2010\фото школа\IMG_0525.JPG"/>
          <p:cNvPicPr/>
          <p:nvPr/>
        </p:nvPicPr>
        <p:blipFill>
          <a:blip r:embed="rId4"/>
          <a:stretch/>
        </p:blipFill>
        <p:spPr>
          <a:xfrm>
            <a:off x="0" y="5124600"/>
            <a:ext cx="2571840" cy="166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F:\Школа 2010\фото школа\IMG_0528.JPG"/>
          <p:cNvPicPr/>
          <p:nvPr/>
        </p:nvPicPr>
        <p:blipFill>
          <a:blip r:embed="rId5"/>
          <a:stretch/>
        </p:blipFill>
        <p:spPr>
          <a:xfrm>
            <a:off x="3429000" y="508968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F:\Школа 2010\фото школа\IMG_0549.JPG"/>
          <p:cNvPicPr/>
          <p:nvPr/>
        </p:nvPicPr>
        <p:blipFill>
          <a:blip r:embed="rId6"/>
          <a:stretch/>
        </p:blipFill>
        <p:spPr>
          <a:xfrm>
            <a:off x="2500200" y="2500200"/>
            <a:ext cx="1648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Школа 2010\фото школа\IMG_0528.JPG"/>
          <p:cNvPicPr/>
          <p:nvPr/>
        </p:nvPicPr>
        <p:blipFill>
          <a:blip r:embed="rId1"/>
          <a:stretch/>
        </p:blipFill>
        <p:spPr>
          <a:xfrm>
            <a:off x="785880" y="1000080"/>
            <a:ext cx="7715160" cy="57866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0" y="0"/>
            <a:ext cx="3143160" cy="1643040"/>
          </a:xfrm>
          <a:prstGeom prst="cloudCallout">
            <a:avLst>
              <a:gd name="adj1" fmla="val 72888"/>
              <a:gd name="adj2" fmla="val -263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мышление (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643200" y="0"/>
            <a:ext cx="2500560" cy="1785960"/>
          </a:xfrm>
          <a:prstGeom prst="cloudCallout">
            <a:avLst>
              <a:gd name="adj1" fmla="val -76601"/>
              <a:gd name="adj2" fmla="val -643"/>
            </a:avLst>
          </a:prstGeom>
          <a:solidFill>
            <a:srgbClr val="2ede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чащиеся осмысливают информацию, которую они получили на уро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643800" y="0"/>
            <a:ext cx="2500200" cy="1643040"/>
          </a:xfrm>
          <a:prstGeom prst="cloudCallout">
            <a:avLst>
              <a:gd name="adj1" fmla="val -66236"/>
              <a:gd name="adj2" fmla="val -176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Назовите те органы растений, которые у них отсутств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Школа 2010\фото школа\IMG_0531.JPG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2"/>
          <p:cNvSpPr/>
          <p:nvPr/>
        </p:nvSpPr>
        <p:spPr>
          <a:xfrm>
            <a:off x="0" y="0"/>
            <a:ext cx="3857760" cy="2428920"/>
          </a:xfrm>
          <a:prstGeom prst="cloudCallout">
            <a:avLst>
              <a:gd name="adj1" fmla="val 72888"/>
              <a:gd name="adj2" fmla="val -263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мышление (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:\Школа 2010\фото школа\IMG_0545.JPG"/>
          <p:cNvPicPr/>
          <p:nvPr/>
        </p:nvPicPr>
        <p:blipFill>
          <a:blip r:embed="rId1"/>
          <a:stretch/>
        </p:blipFill>
        <p:spPr>
          <a:xfrm>
            <a:off x="571680" y="1857240"/>
            <a:ext cx="7786440" cy="5000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2071800" y="15001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4"/>
          <p:cNvSpPr/>
          <p:nvPr/>
        </p:nvSpPr>
        <p:spPr>
          <a:xfrm>
            <a:off x="3635280" y="0"/>
            <a:ext cx="2786040" cy="1071720"/>
          </a:xfrm>
          <a:prstGeom prst="cloudCallout">
            <a:avLst>
              <a:gd name="adj1" fmla="val 95958"/>
              <a:gd name="adj2" fmla="val -1825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Calibri"/>
              </a:rPr>
              <a:t>Литературное 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4"/>
          <p:cNvSpPr/>
          <p:nvPr/>
        </p:nvSpPr>
        <p:spPr>
          <a:xfrm>
            <a:off x="0" y="1143000"/>
            <a:ext cx="5500800" cy="1428840"/>
          </a:xfrm>
          <a:prstGeom prst="cloudCallout">
            <a:avLst>
              <a:gd name="adj1" fmla="val 71759"/>
              <a:gd name="adj2" fmla="val -7843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Calibri"/>
              </a:rPr>
              <a:t>Тема: А.С.Пушкин «Сказка о царе Салтан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484360" y="404640"/>
            <a:ext cx="4786560" cy="2286000"/>
          </a:xfrm>
          <a:prstGeom prst="cloudCallout">
            <a:avLst>
              <a:gd name="adj1" fmla="val 62782"/>
              <a:gd name="adj2" fmla="val -24620"/>
            </a:avLst>
          </a:prstGeom>
          <a:solidFill>
            <a:srgbClr val="66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ктивизировать, заинтересовать учащегося, «вызвать» имеющиеся  знания, создать ассоциации по изучаемому вопро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7858080" y="0"/>
            <a:ext cx="12859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92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192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192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192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92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192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92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92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:\Школа 2010\фото школа\IMG_0546.JPG"/>
          <p:cNvPicPr/>
          <p:nvPr/>
        </p:nvPicPr>
        <p:blipFill>
          <a:blip r:embed="rId1"/>
          <a:stretch/>
        </p:blipFill>
        <p:spPr>
          <a:xfrm>
            <a:off x="1374840" y="857160"/>
            <a:ext cx="7769160" cy="6000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0" y="1785960"/>
            <a:ext cx="1357200" cy="2651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0" y="0"/>
            <a:ext cx="3000240" cy="1214280"/>
          </a:xfrm>
          <a:prstGeom prst="cloudCallout">
            <a:avLst>
              <a:gd name="adj1" fmla="val -15999"/>
              <a:gd name="adj2" fmla="val 11043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Calibri"/>
              </a:rPr>
              <a:t>II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Calibri"/>
              </a:rPr>
              <a:t>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Calibri"/>
              </a:rPr>
              <a:t>Осмысление (поиск отве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500280" y="0"/>
            <a:ext cx="5643720" cy="1714680"/>
          </a:xfrm>
          <a:prstGeom prst="cloudCallout">
            <a:avLst>
              <a:gd name="adj1" fmla="val -63180"/>
              <a:gd name="adj2" fmla="val 312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Учащиеся получают возможность познакомиться с новой информацией,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вязать её с уже имеющимися зн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2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:\Школа 2010\3 а 5.jpg"/>
          <p:cNvPicPr/>
          <p:nvPr/>
        </p:nvPicPr>
        <p:blipFill>
          <a:blip r:embed="rId1"/>
          <a:stretch/>
        </p:blipFill>
        <p:spPr>
          <a:xfrm>
            <a:off x="1285920" y="-3240"/>
            <a:ext cx="6715080" cy="6832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6143760" y="0"/>
            <a:ext cx="3000240" cy="1214280"/>
          </a:xfrm>
          <a:prstGeom prst="cloudCallout">
            <a:avLst>
              <a:gd name="adj1" fmla="val -15999"/>
              <a:gd name="adj2" fmla="val 11043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Calibri"/>
              </a:rPr>
              <a:t>II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Calibri"/>
              </a:rPr>
              <a:t>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Calibri"/>
              </a:rPr>
              <a:t>Осмысление (поиск отве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:\Школа 2010\фото школа\IMG_0549.JPG"/>
          <p:cNvPicPr/>
          <p:nvPr/>
        </p:nvPicPr>
        <p:blipFill>
          <a:blip r:embed="rId1"/>
          <a:stretch/>
        </p:blipFill>
        <p:spPr>
          <a:xfrm>
            <a:off x="4035600" y="47520"/>
            <a:ext cx="5108400" cy="68104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0" y="0"/>
            <a:ext cx="4786200" cy="2286000"/>
          </a:xfrm>
          <a:prstGeom prst="cloudCallout">
            <a:avLst>
              <a:gd name="adj1" fmla="val -47467"/>
              <a:gd name="adj2" fmla="val -4463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мышление (рефлекс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чащиеся осмысливают информацию, которую они получи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"/>
          <p:cNvSpPr/>
          <p:nvPr/>
        </p:nvSpPr>
        <p:spPr>
          <a:xfrm>
            <a:off x="2286000" y="2286000"/>
            <a:ext cx="25002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читайте название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"/>
          <p:cNvSpPr/>
          <p:nvPr/>
        </p:nvSpPr>
        <p:spPr>
          <a:xfrm>
            <a:off x="3714840" y="3429000"/>
            <a:ext cx="25002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те жанр произведения. (Сказ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8"/>
          <p:cNvSpPr/>
          <p:nvPr/>
        </p:nvSpPr>
        <p:spPr>
          <a:xfrm>
            <a:off x="4714920" y="1928880"/>
            <a:ext cx="2428920" cy="71424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те автора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9"/>
          <p:cNvSpPr/>
          <p:nvPr/>
        </p:nvSpPr>
        <p:spPr>
          <a:xfrm>
            <a:off x="6643800" y="3357720"/>
            <a:ext cx="214308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обозначим на схеме? (Кру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0"/>
          <p:cNvSpPr/>
          <p:nvPr/>
        </p:nvSpPr>
        <p:spPr>
          <a:xfrm>
            <a:off x="2928960" y="4929120"/>
            <a:ext cx="242892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те тему произведения. (Волшебст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1"/>
          <p:cNvSpPr/>
          <p:nvPr/>
        </p:nvSpPr>
        <p:spPr>
          <a:xfrm>
            <a:off x="5929200" y="4929120"/>
            <a:ext cx="2428920" cy="71460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им цветом обозначим? (Сини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2"/>
          <p:cNvSpPr/>
          <p:nvPr/>
        </p:nvSpPr>
        <p:spPr>
          <a:xfrm>
            <a:off x="4714920" y="5715000"/>
            <a:ext cx="2214360" cy="85716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ставьте модель обл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0" y="2394000"/>
            <a:ext cx="228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2000"/>
                            </p:stCondLst>
                            <p:childTnLst>
                              <p:par>
                                <p:cTn id="5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857240" y="0"/>
            <a:ext cx="5143680" cy="1500120"/>
          </a:xfrm>
          <a:prstGeom prst="cloudCallout">
            <a:avLst>
              <a:gd name="adj1" fmla="val -57245"/>
              <a:gd name="adj2" fmla="val -3142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словия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ющие крит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0" y="1571760"/>
            <a:ext cx="3214800" cy="2500200"/>
          </a:xfrm>
          <a:prstGeom prst="cloudCallout">
            <a:avLst>
              <a:gd name="adj1" fmla="val 62763"/>
              <a:gd name="adj2" fmla="val -5181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располагают временем и возможностью практики в критическом мыш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85880" y="4071960"/>
            <a:ext cx="3071880" cy="1643040"/>
          </a:xfrm>
          <a:prstGeom prst="cloudCallout">
            <a:avLst>
              <a:gd name="adj1" fmla="val 48000"/>
              <a:gd name="adj2" fmla="val -15064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поощряются в ходе учеб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5357880" y="2428920"/>
            <a:ext cx="3786120" cy="2143080"/>
          </a:xfrm>
          <a:prstGeom prst="cloudCallout">
            <a:avLst>
              <a:gd name="adj1" fmla="val -51587"/>
              <a:gd name="adj2" fmla="val -916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создаётся атмосфера, в которой нет насмешек, иронии  над чьим – либо мн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929040" y="4643280"/>
            <a:ext cx="3071880" cy="1643400"/>
          </a:xfrm>
          <a:prstGeom prst="cloudCallout">
            <a:avLst>
              <a:gd name="adj1" fmla="val -26421"/>
              <a:gd name="adj2" fmla="val -210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ются разнообразные идеи и 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Овал 6"/>
          <p:cNvSpPr/>
          <p:nvPr/>
        </p:nvSpPr>
        <p:spPr>
          <a:xfrm>
            <a:off x="1643040" y="0"/>
            <a:ext cx="5929200" cy="1214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 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я данной техн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7"/>
          <p:cNvSpPr/>
          <p:nvPr/>
        </p:nvSpPr>
        <p:spPr>
          <a:xfrm>
            <a:off x="0" y="1357200"/>
            <a:ext cx="3214800" cy="19288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еся при ответе  на поставленный вопрос проявляют способность доказывать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"/>
          <p:cNvSpPr/>
          <p:nvPr/>
        </p:nvSpPr>
        <p:spPr>
          <a:xfrm>
            <a:off x="357120" y="3643200"/>
            <a:ext cx="3357720" cy="185760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т дать адекватную самооценку и оценить работу своего товар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9"/>
          <p:cNvSpPr/>
          <p:nvPr/>
        </p:nvSpPr>
        <p:spPr>
          <a:xfrm>
            <a:off x="5902200" y="1052640"/>
            <a:ext cx="3241800" cy="1942920"/>
          </a:xfrm>
          <a:prstGeom prst="ellipse">
            <a:avLst/>
          </a:prstGeom>
          <a:solidFill>
            <a:srgbClr val="2ede4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результатам анкетирования, третья часть учащихся может выделить главное из полученной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0"/>
          <p:cNvSpPr/>
          <p:nvPr/>
        </p:nvSpPr>
        <p:spPr>
          <a:xfrm>
            <a:off x="6357960" y="3214800"/>
            <a:ext cx="2571840" cy="200016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еся владеют навыками работы в паре и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1"/>
          <p:cNvSpPr/>
          <p:nvPr/>
        </p:nvSpPr>
        <p:spPr>
          <a:xfrm>
            <a:off x="3214800" y="4857840"/>
            <a:ext cx="3786120" cy="178596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не боятся высказываться, верно или ошибочно, т.к.принимаются все м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/>
          <p:nvPr/>
        </p:nvCxnSpPr>
        <p:spPr>
          <a:xfrm flipH="1">
            <a:off x="2857320" y="1213920"/>
            <a:ext cx="357840" cy="3582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H="1">
            <a:off x="3071520" y="1285920"/>
            <a:ext cx="714960" cy="2358000"/>
          </a:xfrm>
          <a:prstGeom prst="straightConnector1">
            <a:avLst/>
          </a:prstGeom>
          <a:ln w="9360">
            <a:solidFill>
              <a:srgbClr val="ff66ff"/>
            </a:solidFill>
            <a:miter/>
            <a:tailEnd len="med" type="arrow" w="med"/>
          </a:ln>
        </p:spPr>
      </p:cxnSp>
      <p:cxnSp>
        <p:nvCxnSpPr>
          <p:cNvPr id="141" name="Прямая со стрелкой 18"/>
          <p:cNvCxnSpPr>
            <a:stCxn id="133" idx="4"/>
          </p:cNvCxnSpPr>
          <p:nvPr/>
        </p:nvCxnSpPr>
        <p:spPr>
          <a:xfrm>
            <a:off x="4608360" y="1227240"/>
            <a:ext cx="178200" cy="36885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2" name="Прямая со стрелкой 20"/>
          <p:cNvCxnSpPr/>
          <p:nvPr/>
        </p:nvCxnSpPr>
        <p:spPr>
          <a:xfrm>
            <a:off x="5076360" y="1268280"/>
            <a:ext cx="1755000" cy="2331360"/>
          </a:xfrm>
          <a:prstGeom prst="straightConnector1">
            <a:avLst/>
          </a:prstGeom>
          <a:ln w="9360">
            <a:solidFill>
              <a:srgbClr val="2ede4b"/>
            </a:solidFill>
            <a:miter/>
            <a:tailEnd len="med" type="arrow" w="med"/>
          </a:ln>
        </p:spPr>
      </p:cxnSp>
      <p:cxnSp>
        <p:nvCxnSpPr>
          <p:cNvPr id="143" name="Прямая со стрелкой 22"/>
          <p:cNvCxnSpPr/>
          <p:nvPr/>
        </p:nvCxnSpPr>
        <p:spPr>
          <a:xfrm>
            <a:off x="5713920" y="1285560"/>
            <a:ext cx="214920" cy="2149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0"/>
                            </p:stCondLst>
                            <p:childTnLst>
                              <p:par>
                                <p:cTn id="6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пример построения кластеров 1"/>
          <p:cNvPicPr/>
          <p:nvPr/>
        </p:nvPicPr>
        <p:blipFill>
          <a:blip r:embed="rId1"/>
          <a:stretch/>
        </p:blipFill>
        <p:spPr>
          <a:xfrm>
            <a:off x="5487840" y="5286240"/>
            <a:ext cx="1941840" cy="147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пример построения кластеров 2"/>
          <p:cNvPicPr/>
          <p:nvPr/>
        </p:nvPicPr>
        <p:blipFill>
          <a:blip r:embed="rId2"/>
          <a:stretch/>
        </p:blipFill>
        <p:spPr>
          <a:xfrm>
            <a:off x="4714920" y="3357720"/>
            <a:ext cx="358128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Лента лицом вниз 7"/>
          <p:cNvSpPr/>
          <p:nvPr/>
        </p:nvSpPr>
        <p:spPr>
          <a:xfrm>
            <a:off x="1000080" y="214200"/>
            <a:ext cx="6858000" cy="114300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2970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04" stAng="16200000" swAng="5400000"/>
                <a:lnTo>
                  <a:pt x="8100" y="5616"/>
                </a:lnTo>
                <a:lnTo>
                  <a:pt x="13500" y="5616"/>
                </a:lnTo>
                <a:lnTo>
                  <a:pt x="13500" y="1404"/>
                </a:lnTo>
                <a:arcTo wR="675" hR="1404" stAng="10800000" swAng="5400000"/>
                <a:lnTo>
                  <a:pt x="21600" y="0"/>
                </a:lnTo>
                <a:lnTo>
                  <a:pt x="18900" y="7992"/>
                </a:lnTo>
                <a:lnTo>
                  <a:pt x="21600" y="15984"/>
                </a:lnTo>
                <a:lnTo>
                  <a:pt x="16200" y="15984"/>
                </a:lnTo>
                <a:lnTo>
                  <a:pt x="16200" y="20196"/>
                </a:lnTo>
                <a:arcTo wR="675" hR="1404" stAng="0" swAng="5400000"/>
                <a:lnTo>
                  <a:pt x="6075" y="21600"/>
                </a:lnTo>
                <a:arcTo wR="675" hR="1404" stAng="5400000" swAng="5400000"/>
                <a:lnTo>
                  <a:pt x="5400" y="15984"/>
                </a:lnTo>
                <a:lnTo>
                  <a:pt x="0" y="15984"/>
                </a:lnTo>
                <a:lnTo>
                  <a:pt x="2700" y="7992"/>
                </a:lnTo>
                <a:close/>
              </a:path>
              <a:path fill="none" w="21600" h="21600">
                <a:moveTo>
                  <a:pt x="8100" y="1404"/>
                </a:moveTo>
                <a:arcTo wR="675" hR="1404" stAng="0" swAng="5400000"/>
                <a:lnTo>
                  <a:pt x="6075" y="2808"/>
                </a:lnTo>
                <a:arcTo wR="675" hR="1404" stAng="16200000" swAng="-5400000"/>
                <a:arcTo wR="675" hR="1404" stAng="10800000" swAng="-5400000"/>
                <a:lnTo>
                  <a:pt x="8100" y="5616"/>
                </a:lnTo>
              </a:path>
              <a:path fill="none" w="21600" h="21600">
                <a:moveTo>
                  <a:pt x="13500" y="1404"/>
                </a:moveTo>
                <a:arcTo wR="675" hR="1404" stAng="10800000" swAng="-5400000"/>
                <a:lnTo>
                  <a:pt x="15525" y="2808"/>
                </a:lnTo>
                <a:arcTo wR="675" hR="1404" stAng="16200000" swAng="5400000"/>
                <a:arcTo wR="675" hR="1404" stAng="0" swAng="5400000"/>
                <a:lnTo>
                  <a:pt x="13500" y="5616"/>
                </a:lnTo>
              </a:path>
              <a:path fill="none" w="21600" h="21600">
                <a:moveTo>
                  <a:pt x="5400" y="4212"/>
                </a:moveTo>
                <a:lnTo>
                  <a:pt x="5400" y="15984"/>
                </a:lnTo>
              </a:path>
              <a:path fill="none" w="21600" h="21600">
                <a:moveTo>
                  <a:pt x="16200" y="4212"/>
                </a:moveTo>
                <a:lnTo>
                  <a:pt x="16200" y="15984"/>
                </a:lnTo>
              </a:path>
            </a:pathLst>
          </a:cu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риёмов, активно используемых на уроках, является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ьная выноска 11"/>
          <p:cNvSpPr/>
          <p:nvPr/>
        </p:nvSpPr>
        <p:spPr>
          <a:xfrm>
            <a:off x="285840" y="1357200"/>
            <a:ext cx="3857400" cy="2143080"/>
          </a:xfrm>
          <a:prstGeom prst="wedgeEllipseCallout">
            <a:avLst>
              <a:gd name="adj1" fmla="val 119925"/>
              <a:gd name="adj2" fmla="val -12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Кластеры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о графические систематизаторы, которые показывают несколько различных типов связей между объектами или     явл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ьная выноска 12"/>
          <p:cNvSpPr/>
          <p:nvPr/>
        </p:nvSpPr>
        <p:spPr>
          <a:xfrm>
            <a:off x="0" y="3857760"/>
            <a:ext cx="4572000" cy="2214360"/>
          </a:xfrm>
          <a:prstGeom prst="wedgeEllipseCallout">
            <a:avLst>
              <a:gd name="adj1" fmla="val 97888"/>
              <a:gd name="adj2" fmla="val -1125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ащимся предла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тся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писать в центре слово, вокруг которого они фиксируют слова или предложения, связанны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6786720" y="1214280"/>
            <a:ext cx="16430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5"/>
          <p:cNvSpPr/>
          <p:nvPr/>
        </p:nvSpPr>
        <p:spPr>
          <a:xfrm>
            <a:off x="2571840" y="500040"/>
            <a:ext cx="3357360" cy="1571760"/>
          </a:xfrm>
          <a:prstGeom prst="cloudCallout">
            <a:avLst>
              <a:gd name="adj1" fmla="val 14254"/>
              <a:gd name="adj2" fmla="val 1072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ы 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1000080" y="4714920"/>
            <a:ext cx="3643200" cy="1071360"/>
          </a:xfrm>
          <a:prstGeom prst="cloudCallout">
            <a:avLst>
              <a:gd name="adj1" fmla="val 25824"/>
              <a:gd name="adj2" fmla="val -239226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метки на пол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642960" y="3643200"/>
            <a:ext cx="2428920" cy="928800"/>
          </a:xfrm>
          <a:prstGeom prst="cloudCallout">
            <a:avLst>
              <a:gd name="adj1" fmla="val 58462"/>
              <a:gd name="adj2" fmla="val -174314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с остано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571840" y="3071880"/>
            <a:ext cx="3571920" cy="2000160"/>
          </a:xfrm>
          <a:prstGeom prst="cloudCallout">
            <a:avLst>
              <a:gd name="adj1" fmla="val -564"/>
              <a:gd name="adj2" fmla="val -832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0" y="2428920"/>
            <a:ext cx="2571840" cy="1071360"/>
          </a:xfrm>
          <a:prstGeom prst="cloudCallout">
            <a:avLst>
              <a:gd name="adj1" fmla="val 48324"/>
              <a:gd name="adj2" fmla="val -72523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 (пятистиш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857920" y="4000680"/>
            <a:ext cx="2643120" cy="1000080"/>
          </a:xfrm>
          <a:prstGeom prst="cloudCallout">
            <a:avLst>
              <a:gd name="adj1" fmla="val -66611"/>
              <a:gd name="adj2" fmla="val -18112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товой жур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143760" y="2357280"/>
            <a:ext cx="2643120" cy="1000440"/>
          </a:xfrm>
          <a:prstGeom prst="cloudCallout">
            <a:avLst>
              <a:gd name="adj1" fmla="val -55078"/>
              <a:gd name="adj2" fmla="val -8664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3714840" y="5786280"/>
            <a:ext cx="4786200" cy="714600"/>
          </a:xfrm>
          <a:prstGeom prst="cloudCallout">
            <a:avLst>
              <a:gd name="adj1" fmla="val -27430"/>
              <a:gd name="adj2" fmla="val -397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л – хочу узнать - уз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Овал 5"/>
          <p:cNvSpPr/>
          <p:nvPr/>
        </p:nvSpPr>
        <p:spPr>
          <a:xfrm>
            <a:off x="1571760" y="0"/>
            <a:ext cx="6357960" cy="14288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Развитие критического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рез чтение и письм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2500200" y="1928880"/>
            <a:ext cx="4429080" cy="92880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ё применение позволяет разв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ьная выноска 9"/>
          <p:cNvSpPr/>
          <p:nvPr/>
        </p:nvSpPr>
        <p:spPr>
          <a:xfrm>
            <a:off x="428760" y="3000240"/>
            <a:ext cx="2714400" cy="2286000"/>
          </a:xfrm>
          <a:prstGeom prst="wedgeEllipseCallout">
            <a:avLst>
              <a:gd name="adj1" fmla="val 41578"/>
              <a:gd name="adj2" fmla="val -617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ние анализировать, сравнивать, выделять глав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ьная выноска 10"/>
          <p:cNvSpPr/>
          <p:nvPr/>
        </p:nvSpPr>
        <p:spPr>
          <a:xfrm>
            <a:off x="4000680" y="5072040"/>
            <a:ext cx="4357440" cy="857160"/>
          </a:xfrm>
          <a:prstGeom prst="wedgeEllipseCallout">
            <a:avLst>
              <a:gd name="adj1" fmla="val -18759"/>
              <a:gd name="adj2" fmla="val -305805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обность к самосовершенств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ьная выноска 11"/>
          <p:cNvSpPr/>
          <p:nvPr/>
        </p:nvSpPr>
        <p:spPr>
          <a:xfrm>
            <a:off x="642960" y="5572080"/>
            <a:ext cx="3714840" cy="928800"/>
          </a:xfrm>
          <a:prstGeom prst="wedgeEllipseCallout">
            <a:avLst>
              <a:gd name="adj1" fmla="val 60277"/>
              <a:gd name="adj2" fmla="val -325384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екватно оценить свой ответ и ответ товар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ьная выноска 12"/>
          <p:cNvSpPr/>
          <p:nvPr/>
        </p:nvSpPr>
        <p:spPr>
          <a:xfrm>
            <a:off x="6215040" y="3643200"/>
            <a:ext cx="2928960" cy="857520"/>
          </a:xfrm>
          <a:prstGeom prst="wedgeEllipseCallout">
            <a:avLst>
              <a:gd name="adj1" fmla="val -41601"/>
              <a:gd name="adj2" fmla="val -14924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слышать отвеча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4"/>
          <p:cNvSpPr/>
          <p:nvPr/>
        </p:nvSpPr>
        <p:spPr>
          <a:xfrm>
            <a:off x="4429080" y="150012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5048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2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8"/>
          <p:cNvSpPr/>
          <p:nvPr/>
        </p:nvSpPr>
        <p:spPr>
          <a:xfrm>
            <a:off x="1643040" y="1785960"/>
            <a:ext cx="1276200" cy="838080"/>
          </a:xfrm>
          <a:prstGeom prst="cloudCallout">
            <a:avLst>
              <a:gd name="adj1" fmla="val 51597"/>
              <a:gd name="adj2" fmla="val -104712"/>
            </a:avLst>
          </a:prstGeom>
          <a:solidFill>
            <a:srgbClr val="2ede4b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вы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932200" y="2214720"/>
            <a:ext cx="1996920" cy="657000"/>
          </a:xfrm>
          <a:prstGeom prst="cloudCallout">
            <a:avLst>
              <a:gd name="adj1" fmla="val 17824"/>
              <a:gd name="adj2" fmla="val -20184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осмыс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5357880" y="1571760"/>
            <a:ext cx="2786040" cy="1000080"/>
          </a:xfrm>
          <a:prstGeom prst="cloudCallout">
            <a:avLst>
              <a:gd name="adj1" fmla="val -51268"/>
              <a:gd name="adj2" fmla="val -7143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I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размышление (рефлекс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500720" y="2857680"/>
            <a:ext cx="4500360" cy="1857240"/>
          </a:xfrm>
          <a:prstGeom prst="cloudCallout">
            <a:avLst>
              <a:gd name="adj1" fmla="val -15314"/>
              <a:gd name="adj2" fmla="val -696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оисходит обобщение, и присвоение информации; вырабатывается собственное отношение к изучаемому материалу; информация творчески перерабат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2286000" y="4714920"/>
            <a:ext cx="4357800" cy="2143080"/>
          </a:xfrm>
          <a:prstGeom prst="cloudCallout">
            <a:avLst>
              <a:gd name="adj1" fmla="val -11152"/>
              <a:gd name="adj2" fmla="val -12315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дёт работа с информацией: поиск ответов на вопросы, поставленные в начале урока; учащиеся получают возможность связать новую информацию с уже имеющимися зна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1785960" y="0"/>
            <a:ext cx="6143760" cy="1143000"/>
          </a:xfrm>
          <a:prstGeom prst="cloudCallout">
            <a:avLst>
              <a:gd name="adj1" fmla="val -54240"/>
              <a:gd name="adj2" fmla="val 469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Calibri"/>
              </a:rPr>
              <a:t>Основу технологии составляет трёхфазовая структур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3286080"/>
            <a:ext cx="3929040" cy="1928880"/>
          </a:xfrm>
          <a:prstGeom prst="cloudCallout">
            <a:avLst>
              <a:gd name="adj1" fmla="val 11736"/>
              <a:gd name="adj2" fmla="val -78597"/>
            </a:avLst>
          </a:prstGeom>
          <a:solidFill>
            <a:srgbClr val="2ede4b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ктивизировать, заинтересовать учащего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«вызвать» имеющиеся  знания, создать ассоциации по изучаемому вопро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6430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Школа 2010\фото школа\б 1.jpg"/>
          <p:cNvPicPr/>
          <p:nvPr/>
        </p:nvPicPr>
        <p:blipFill>
          <a:blip r:embed="rId1"/>
          <a:stretch/>
        </p:blipFill>
        <p:spPr>
          <a:xfrm>
            <a:off x="3732120" y="2282760"/>
            <a:ext cx="5411880" cy="4575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4286160" y="0"/>
            <a:ext cx="4857840" cy="2500200"/>
          </a:xfrm>
          <a:prstGeom prst="cloudCallout">
            <a:avLst>
              <a:gd name="adj1" fmla="val -67532"/>
              <a:gd name="adj2" fmla="val -21800"/>
            </a:avLst>
          </a:prstGeom>
          <a:solidFill>
            <a:srgbClr val="66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ктивизировать, заинтересовать учащегося, «вызвать» имеющиеся  знания, создать ассоциации по изучаемому вопро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500200" y="0"/>
            <a:ext cx="1490760" cy="695160"/>
          </a:xfrm>
          <a:prstGeom prst="cloudCallout">
            <a:avLst>
              <a:gd name="adj1" fmla="val 97148"/>
              <a:gd name="adj2" fmla="val 35287"/>
            </a:avLst>
          </a:prstGeom>
          <a:solidFill>
            <a:srgbClr val="ff000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I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Calibri"/>
              </a:rPr>
              <a:t>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Calibri"/>
              </a:rPr>
              <a:t>выз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Вертикальный свиток 8"/>
          <p:cNvSpPr/>
          <p:nvPr/>
        </p:nvSpPr>
        <p:spPr>
          <a:xfrm>
            <a:off x="0" y="1571760"/>
            <a:ext cx="3929040" cy="4857480"/>
          </a:xfrm>
          <a:prstGeom prst="verticalScroll">
            <a:avLst>
              <a:gd name="adj" fmla="val 14634"/>
            </a:avLst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 «Главные члены предложения».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записано ключевое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относится к грамматической основе предло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главные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лежащее?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казуем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1357200" y="0"/>
            <a:ext cx="2500560" cy="928800"/>
          </a:xfrm>
          <a:prstGeom prst="cloudCallout">
            <a:avLst>
              <a:gd name="adj1" fmla="val -55523"/>
              <a:gd name="adj2" fmla="val 9637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осмы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0" y="571680"/>
            <a:ext cx="1357200" cy="265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F:\Школа 2010\фото школа\IMG_0439.JPG"/>
          <p:cNvPicPr/>
          <p:nvPr/>
        </p:nvPicPr>
        <p:blipFill>
          <a:blip r:embed="rId2"/>
          <a:stretch/>
        </p:blipFill>
        <p:spPr>
          <a:xfrm>
            <a:off x="1714680" y="1285920"/>
            <a:ext cx="7429320" cy="55720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3000240" y="0"/>
            <a:ext cx="6143760" cy="2571840"/>
          </a:xfrm>
          <a:prstGeom prst="cloudCallout">
            <a:avLst>
              <a:gd name="adj1" fmla="val -75444"/>
              <a:gd name="adj2" fmla="val 16620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 с учеб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за различными способами выражения подлежа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за различными способами выражения  сказуем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Школа 2010\фото школа\IMG_0521.JPG"/>
          <p:cNvPicPr/>
          <p:nvPr/>
        </p:nvPicPr>
        <p:blipFill>
          <a:blip r:embed="rId1"/>
          <a:stretch/>
        </p:blipFill>
        <p:spPr>
          <a:xfrm>
            <a:off x="971640" y="1773360"/>
            <a:ext cx="7488000" cy="48574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2"/>
          <p:cNvSpPr/>
          <p:nvPr/>
        </p:nvSpPr>
        <p:spPr>
          <a:xfrm>
            <a:off x="214200" y="571680"/>
            <a:ext cx="2786040" cy="1143000"/>
          </a:xfrm>
          <a:prstGeom prst="cloudCallout">
            <a:avLst>
              <a:gd name="adj1" fmla="val -51268"/>
              <a:gd name="adj2" fmla="val -71435"/>
            </a:avLst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I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размышление (рефлекс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000240" y="0"/>
            <a:ext cx="6143760" cy="3143160"/>
          </a:xfrm>
          <a:prstGeom prst="cloudCallout">
            <a:avLst>
              <a:gd name="adj1" fmla="val -66018"/>
              <a:gd name="adj2" fmla="val 17472"/>
            </a:avLst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позволяет выяснить, насколько ребенок понял т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ы задаваться 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ы должны быть по возможности полными и расширенными. Учащиеся осмысливают все то, что они изучали на уроке, выражают мысли и понятия через информацию, которую они получили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Школа 2010\3 а 1.jpg"/>
          <p:cNvPicPr/>
          <p:nvPr/>
        </p:nvPicPr>
        <p:blipFill>
          <a:blip r:embed="rId1"/>
          <a:stretch/>
        </p:blipFill>
        <p:spPr>
          <a:xfrm>
            <a:off x="755640" y="1714680"/>
            <a:ext cx="792792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0" y="0"/>
            <a:ext cx="3071880" cy="857160"/>
          </a:xfrm>
          <a:prstGeom prst="cloudCallout">
            <a:avLst>
              <a:gd name="adj1" fmla="val 60749"/>
              <a:gd name="adj2" fmla="val 39217"/>
            </a:avLst>
          </a:prstGeom>
          <a:solidFill>
            <a:srgbClr val="ff000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О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Calibri"/>
              </a:rPr>
              <a:t>кружающий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4"/>
          <p:cNvSpPr/>
          <p:nvPr/>
        </p:nvSpPr>
        <p:spPr>
          <a:xfrm>
            <a:off x="3000240" y="0"/>
            <a:ext cx="6143760" cy="1928880"/>
          </a:xfrm>
          <a:prstGeom prst="cloudCallout">
            <a:avLst>
              <a:gd name="adj1" fmla="val -48995"/>
              <a:gd name="adj2" fmla="val -4243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тема уро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сходит актуализация имеющихся знаний по тем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ясняется, что дети уже знают                           об это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6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0:12:27Z</dcterms:created>
  <dc:creator>user</dc:creator>
  <dc:description/>
  <dc:language>en-US</dc:language>
  <cp:lastModifiedBy>Александр</cp:lastModifiedBy>
  <dcterms:modified xsi:type="dcterms:W3CDTF">2012-01-02T18:40:17Z</dcterms:modified>
  <cp:revision>102</cp:revision>
  <dc:subject/>
  <dc:title>Слайд 1</dc:title>
</cp:coreProperties>
</file>