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gif" ContentType="image/gif"/>
  <Override PartName="/ppt/media/image6.wmf" ContentType="image/x-wmf"/>
  <Override PartName="/ppt/media/image11.wmf" ContentType="image/x-wmf"/>
  <Override PartName="/ppt/media/image2.png" ContentType="image/png"/>
  <Override PartName="/ppt/media/image4.jpeg" ContentType="image/jpeg"/>
  <Override PartName="/ppt/media/image5.wmf" ContentType="image/x-wmf"/>
  <Override PartName="/ppt/media/image7.gif" ContentType="image/gif"/>
  <Override PartName="/ppt/media/image12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0FF-44DD-46BC-83D1-5B1E00EB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63F-8B60-4B6F-B975-315740C7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C05-0549-40DF-A390-5D83E15F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9C0-8949-4FAC-B578-80408733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1F0-9310-4629-A5A7-722CDD49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227-9D98-4BB8-97D2-710F59BA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3D5-43BD-4048-A4D6-C88AFABF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486-B99D-486C-80F7-4AD9E973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376-DBA0-4518-8120-515F772A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AB7-B982-4C4D-9604-398C90B2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998-3744-41CF-B3E2-8E41EDA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87A-97C7-4512-A98B-57F79056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E1F0-A93C-4D14-89C1-F51BB310C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549360"/>
            <a:ext cx="7458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лассы неорганических соединен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" name="Line 6"/>
          <p:cNvSpPr/>
          <p:nvPr/>
        </p:nvSpPr>
        <p:spPr>
          <a:xfrm flipH="1">
            <a:off x="1907640" y="1484280"/>
            <a:ext cx="792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 flipH="1">
            <a:off x="3851280" y="1844640"/>
            <a:ext cx="43344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6732720" y="1484280"/>
            <a:ext cx="79200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187280" y="2565360"/>
            <a:ext cx="1667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сиды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5580000" y="1844640"/>
            <a:ext cx="57636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2843280" y="3429000"/>
            <a:ext cx="21812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ания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12"/>
          <p:cNvSpPr txBox="1"/>
          <p:nvPr/>
        </p:nvSpPr>
        <p:spPr>
          <a:xfrm>
            <a:off x="5364000" y="2997360"/>
            <a:ext cx="1791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ислоты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3"/>
          <p:cNvSpPr txBox="1"/>
          <p:nvPr/>
        </p:nvSpPr>
        <p:spPr>
          <a:xfrm>
            <a:off x="7308720" y="2349360"/>
            <a:ext cx="122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и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450828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Что такое окси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755640" y="530064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Что такое основания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4"/>
          <p:cNvSpPr/>
          <p:nvPr/>
        </p:nvSpPr>
        <p:spPr>
          <a:xfrm flipH="1">
            <a:off x="1402920" y="2060640"/>
            <a:ext cx="2016360" cy="93492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427640" y="2205000"/>
            <a:ext cx="0" cy="165564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5364000" y="2133720"/>
            <a:ext cx="1727280" cy="93492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908000" y="620640"/>
            <a:ext cx="51501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cc0000"/>
                </a:solidFill>
                <a:uFillTx/>
                <a:latin typeface="Arial"/>
              </a:rPr>
              <a:t>кислоты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о наличию водорода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250920" y="314172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дноосновные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3132000" y="393372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вухосновные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9" name="WordArt 11"/>
          <p:cNvSpPr txBox="1"/>
          <p:nvPr/>
        </p:nvSpPr>
        <p:spPr>
          <a:xfrm>
            <a:off x="6084720" y="3213000"/>
            <a:ext cx="2914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рёхосновные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189800" y="3835440"/>
            <a:ext cx="10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974160" y="4724280"/>
            <a:ext cx="167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4141800" y="4626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3926160" y="527544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7094880" y="412272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Кислоты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делятся на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кислородсодержа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безкислородные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по наличию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 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одноосновные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двухосновные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трёхосновные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по количеству ато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од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J0254477"/>
          <p:cNvPicPr/>
          <p:nvPr/>
        </p:nvPicPr>
        <p:blipFill>
          <a:blip r:embed="rId1"/>
          <a:stretch/>
        </p:blipFill>
        <p:spPr>
          <a:xfrm>
            <a:off x="3276720" y="4581360"/>
            <a:ext cx="2087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77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77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5"/>
          <p:cNvSpPr/>
          <p:nvPr/>
        </p:nvSpPr>
        <p:spPr>
          <a:xfrm>
            <a:off x="2743200" y="2604960"/>
            <a:ext cx="3773520" cy="16876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6227640" y="765000"/>
            <a:ext cx="2592360" cy="1800360"/>
          </a:xfrm>
          <a:prstGeom prst="cloudCallout">
            <a:avLst>
              <a:gd name="adj1" fmla="val -58939"/>
              <a:gd name="adj2" fmla="val 41620"/>
            </a:avLst>
          </a:prstGeom>
          <a:gradFill rotWithShape="0">
            <a:gsLst>
              <a:gs pos="0">
                <a:srgbClr val="66ccff"/>
              </a:gs>
              <a:gs pos="50000">
                <a:srgbClr val="bbe0e3"/>
              </a:gs>
              <a:gs pos="100000">
                <a:srgbClr val="66ccff"/>
              </a:gs>
            </a:gsLst>
            <a:lin ang="189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ть твёрдые кисл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6156360" y="4724280"/>
            <a:ext cx="2376360" cy="1152720"/>
          </a:xfrm>
          <a:prstGeom prst="cloudCallout">
            <a:avLst>
              <a:gd name="adj1" fmla="val -55879"/>
              <a:gd name="adj2" fmla="val -74106"/>
            </a:avLst>
          </a:prstGeom>
          <a:gradFill rotWithShape="0">
            <a:gsLst>
              <a:gs pos="0">
                <a:srgbClr val="66ccff"/>
              </a:gs>
              <a:gs pos="50000">
                <a:srgbClr val="bbe0e3"/>
              </a:gs>
              <a:gs pos="100000">
                <a:srgbClr val="66ccff"/>
              </a:gs>
            </a:gsLst>
            <a:lin ang="189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исл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539640" y="4724280"/>
            <a:ext cx="3095640" cy="1657440"/>
          </a:xfrm>
          <a:prstGeom prst="cloudCallout">
            <a:avLst>
              <a:gd name="adj1" fmla="val 60666"/>
              <a:gd name="adj2" fmla="val -62259"/>
            </a:avLst>
          </a:prstGeom>
          <a:gradFill rotWithShape="0">
            <a:gsLst>
              <a:gs pos="0">
                <a:srgbClr val="66ccff"/>
              </a:gs>
              <a:gs pos="50000">
                <a:srgbClr val="bbe0e3"/>
              </a:gs>
              <a:gs pos="100000">
                <a:srgbClr val="66ccff"/>
              </a:gs>
            </a:gsLst>
            <a:lin ang="189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чти все раствори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250920" y="692280"/>
            <a:ext cx="3313080" cy="1657080"/>
          </a:xfrm>
          <a:prstGeom prst="cloudCallout">
            <a:avLst>
              <a:gd name="adj1" fmla="val 52541"/>
              <a:gd name="adj2" fmla="val 45018"/>
            </a:avLst>
          </a:prstGeom>
          <a:gradFill rotWithShape="0">
            <a:gsLst>
              <a:gs pos="0">
                <a:srgbClr val="66ccff"/>
              </a:gs>
              <a:gs pos="50000">
                <a:srgbClr val="bbe0e3"/>
              </a:gs>
              <a:gs pos="100000">
                <a:srgbClr val="66ccff"/>
              </a:gs>
            </a:gsLst>
            <a:lin ang="189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сцветные жидк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332000" y="907920"/>
            <a:ext cx="568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232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Интересный опыт:</a:t>
            </a:r>
            <a:endParaRPr b="1" i="1" lang="en-US" sz="3200" spc="1" strike="noStrike">
              <a:ln w="2232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04" name="Picture 3" descr="10"/>
          <p:cNvPicPr/>
          <p:nvPr/>
        </p:nvPicPr>
        <p:blipFill>
          <a:blip r:embed="rId1">
            <a:lum contrast="36000"/>
          </a:blip>
          <a:srcRect l="0" t="10620" r="2507" b="0"/>
          <a:stretch/>
        </p:blipFill>
        <p:spPr>
          <a:xfrm>
            <a:off x="324000" y="1700280"/>
            <a:ext cx="4176720" cy="3895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572000" y="2133720"/>
            <a:ext cx="42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Что произойдет, если к сахару добавить концентрированную серную кислот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8"/>
          <p:cNvPicPr/>
          <p:nvPr/>
        </p:nvPicPr>
        <p:blipFill>
          <a:blip r:embed="rId1"/>
          <a:stretch/>
        </p:blipFill>
        <p:spPr>
          <a:xfrm>
            <a:off x="4716360" y="1484280"/>
            <a:ext cx="4105440" cy="388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9"/>
          <p:cNvPicPr/>
          <p:nvPr/>
        </p:nvPicPr>
        <p:blipFill>
          <a:blip r:embed="rId2"/>
          <a:stretch/>
        </p:blipFill>
        <p:spPr>
          <a:xfrm>
            <a:off x="324000" y="1484280"/>
            <a:ext cx="4140000" cy="3861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95280" y="57340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Концентрированная серная кислота обугливает органические ве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Bookman Old Style"/>
              </a:rPr>
              <a:t>ЗАПОМНИ ПРАВИЛО ПРИГОТОВЛЕНИЯ РАСТВОРОВ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5076720" y="1701720"/>
          <a:ext cx="35989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701720"/>
                    <a:ext cx="3598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5"/>
          <p:cNvSpPr/>
          <p:nvPr/>
        </p:nvSpPr>
        <p:spPr>
          <a:xfrm>
            <a:off x="395280" y="2781360"/>
            <a:ext cx="469116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Estrangelo Edess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Estrangelo Edess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Estrangelo Edess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strangelo Edessa"/>
              </a:rPr>
              <a:t>КИСЛОТУ ЛЕЙ В ВОДУ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57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 баллов –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-5 баллов –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«4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балла –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1484280"/>
            <a:ext cx="914400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§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32,  упр. 1,8  стр. 1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учить формулы и названия кисло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3" descr="J0287289"/>
          <p:cNvPicPr/>
          <p:nvPr/>
        </p:nvPicPr>
        <p:blipFill>
          <a:blip r:embed="rId1"/>
          <a:stretch/>
        </p:blipFill>
        <p:spPr>
          <a:xfrm>
            <a:off x="7164360" y="620640"/>
            <a:ext cx="138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J0199367"/>
          <p:cNvPicPr/>
          <p:nvPr/>
        </p:nvPicPr>
        <p:blipFill>
          <a:blip r:embed="rId2"/>
          <a:stretch/>
        </p:blipFill>
        <p:spPr>
          <a:xfrm>
            <a:off x="179280" y="4005360"/>
            <a:ext cx="223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Mor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755640" y="5229360"/>
            <a:ext cx="801036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агодарю вас за работу на уроке!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у фруктов кислый вку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"/>
          <p:cNvPicPr/>
          <p:nvPr/>
        </p:nvPicPr>
        <p:blipFill>
          <a:blip r:embed="rId1"/>
          <a:stretch/>
        </p:blipFill>
        <p:spPr>
          <a:xfrm>
            <a:off x="1258920" y="2421000"/>
            <a:ext cx="6840360" cy="3449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549360"/>
            <a:ext cx="5111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 любите фрукт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en"/>
          <p:cNvPicPr/>
          <p:nvPr/>
        </p:nvPicPr>
        <p:blipFill>
          <a:blip r:embed="rId1"/>
          <a:stretch/>
        </p:blipFill>
        <p:spPr>
          <a:xfrm flipH="1" rot="21581400">
            <a:off x="684000" y="1699560"/>
            <a:ext cx="3316320" cy="381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1557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Что такое КИСЛО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230560" y="4581360"/>
            <a:ext cx="6913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Какие бывают КИСЛОТЫ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61214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Кислоты. Состав и классифик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42560" y="6021360"/>
            <a:ext cx="597708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по химии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J0286856"/>
          <p:cNvPicPr/>
          <p:nvPr/>
        </p:nvPicPr>
        <p:blipFill>
          <a:blip r:embed="rId1"/>
          <a:stretch/>
        </p:blipFill>
        <p:spPr>
          <a:xfrm>
            <a:off x="7020000" y="4869000"/>
            <a:ext cx="1979640" cy="177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дать определение кисло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рассмотреть состав кисл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классифицировать кисл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узнать физические свойства кисл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ознакомиться с формулами и названиями основных неорганических 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Определение, состав 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и классификация 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(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Line 24"/>
          <p:cNvSpPr/>
          <p:nvPr/>
        </p:nvSpPr>
        <p:spPr>
          <a:xfrm>
            <a:off x="539640" y="1700280"/>
            <a:ext cx="8064720" cy="432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КИСЛО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885672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олекулы кислот образованы атомами водорода и кислотным остатк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84360" y="292428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Р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95640" y="292428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877080" y="2924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CL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2060640"/>
            <a:ext cx="74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– </a:t>
            </a:r>
            <a:r>
              <a:rPr b="1" i="1" lang="ru-RU" sz="3600" spc="-1" strike="noStrike">
                <a:solidFill>
                  <a:srgbClr val="cc00cc"/>
                </a:solidFill>
                <a:latin typeface="Tahoma"/>
              </a:rPr>
              <a:t>ЭТО СЛОЖНЫЕ ВЕЩЕСТВА, СОСТОЯЩИЕ ИЗ АТОМОВ ВОДОРОДА, СОЕДИНЕННЫХ С КИСЛОТНЫМ ОСТАТКОМ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684360" y="476280"/>
            <a:ext cx="540036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ИСЛОТЫ</a:t>
            </a:r>
            <a:endParaRPr b="1" i="1" lang="en-US" sz="4400" spc="1" strike="noStrike">
              <a:ln w="19080">
                <a:solidFill>
                  <a:srgbClr val="0000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5" descr="J0286860"/>
          <p:cNvPicPr/>
          <p:nvPr/>
        </p:nvPicPr>
        <p:blipFill>
          <a:blip r:embed="rId1"/>
          <a:stretch/>
        </p:blipFill>
        <p:spPr>
          <a:xfrm>
            <a:off x="6012000" y="4437000"/>
            <a:ext cx="24526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кислоты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наличию кислор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 flipH="1">
            <a:off x="2771640" y="2060640"/>
            <a:ext cx="11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5292720" y="2060640"/>
            <a:ext cx="1079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324000" y="2997360"/>
            <a:ext cx="3533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Impact"/>
              </a:rPr>
              <a:t>безкислородны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Impact"/>
              <a:ea typeface="Impact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4356000" y="3068640"/>
            <a:ext cx="4648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кислородсодержащ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332000" y="39337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1334160" y="4724280"/>
            <a:ext cx="10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5942160" y="397836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6013800" y="469908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19:22Z</dcterms:created>
  <dc:creator>Р4</dc:creator>
  <dc:description/>
  <dc:language>en-US</dc:language>
  <cp:lastModifiedBy>МОУ Верхурюмская СОШ</cp:lastModifiedBy>
  <dcterms:modified xsi:type="dcterms:W3CDTF">2011-03-01T06:02:30Z</dcterms:modified>
  <cp:revision>10</cp:revision>
  <dc:subject/>
  <dc:title>Кислоты. Состав и классификация.</dc:title>
</cp:coreProperties>
</file>