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D21-A89E-4387-AE05-1983DD42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281-28F9-4580-B3C1-EDE0020D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295-3467-4D80-A30E-C4EC27BB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0F7-AF4B-48A5-BA56-3312AEE8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279-663F-4D03-8228-5F2E8079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3CE-2EB4-4711-A224-77B21E6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26F-F6DD-4B70-9637-39814C0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D40-8017-418F-9AD9-3BEBC337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C7E-6E58-4C0C-858A-20EC75E9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364-7E80-4A93-BC3F-2A1A75C2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3AC-6B44-4EEA-940E-BE4CC48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226-07D8-4405-AF26-CC01D4F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3FDB-926D-47B4-A888-BEB01990A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7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765000"/>
            <a:ext cx="7810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ивительный ми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смос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2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056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2:23:42Z</dcterms:created>
  <dc:creator>Валерия</dc:creator>
  <dc:description/>
  <dc:language>en-US</dc:language>
  <cp:lastModifiedBy>Валерия</cp:lastModifiedBy>
  <dcterms:modified xsi:type="dcterms:W3CDTF">2012-01-03T15:18:12Z</dcterms:modified>
  <cp:revision>6</cp:revision>
  <dc:subject/>
  <dc:title>Слайд 1</dc:title>
</cp:coreProperties>
</file>