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FB2-E86F-4777-A721-EE1B42CB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98A-7FB9-49C8-92E7-F4286F7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D79-5756-4440-99D4-A1004F9D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AE5-238D-4A67-9131-90DCEB8D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A853-1ADA-4ACB-9F71-5ECBA18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204-6E4D-4854-828B-4BA0C0CF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59D-3D23-49B2-9177-04328679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457-F2CD-492C-9E0C-B18D35C8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3B9-F1CE-4A09-80FF-46E3A601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54A-3A52-4480-9D9A-6573A1F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9DB-3BF3-42BA-A191-098EE83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FC5-1564-4439-B55F-57DE81E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CF7-1BC9-472D-B7A3-6984C26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8EE-0D59-45F3-B471-1E41694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EC8-1696-42E1-A68E-9D90F036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B639-ED21-4170-AA37-DA025F50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B3B9-30F3-46A3-B759-AF7BAF0B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07B-7795-44AC-B091-5FB861A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29A-75B4-4A09-B7D1-F9D34495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EA0-8386-4097-A60F-259FBA9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0A4-8AB8-4ACA-BC43-817A17D5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239-1916-43C3-82F8-CA34B37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135-0488-4B82-8200-CA55A76C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DC0-CADE-4D1F-884A-0DED1FAD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DE4-FDFE-4D4E-93F3-2496D6181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700B-9F81-4C18-932A-31B65372B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476280"/>
            <a:ext cx="734364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урока: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рестьянские восстания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 Франции и в Англии"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1280" y="404640"/>
            <a:ext cx="777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НЫЙ ВОПРОС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2060640"/>
            <a:ext cx="88236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ое из восстаний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ыло более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зованным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8420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ИЗУЧЕНИЯ КРЕСТЬЯНСКОГО ВОССТ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7" descr="img361"/>
          <p:cNvPicPr/>
          <p:nvPr/>
        </p:nvPicPr>
        <p:blipFill>
          <a:blip r:embed="rId4"/>
          <a:stretch/>
        </p:blipFill>
        <p:spPr>
          <a:xfrm>
            <a:off x="0" y="148428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80200" y="200808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12000" y="1628640"/>
            <a:ext cx="29224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) Год событ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) 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рестьян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с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) Ход вос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) Итоги и последств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с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19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ЖАКЕ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А) 1358 г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) Рост налогов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Грабежи в стране со стороны обеих арм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еудачи в Столетней вой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) До 100 тыс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учас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осстанием охвачена обширная область с десятками гор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осставших поддержали не вс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Французских феодалов поддержали английские вой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Г) ПРИЧИНЫ ПОРАЖЕНИЯ ВОССТАНИЯ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ихийность выступ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зрозненность отря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хое вооружение восставш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тсутствие поддержки со стороны горож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верчивость восставших к враг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ПОСЛЕДСТВИЕ ВОССТАНИЯ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Феодалы прекратили увеличение крестьянских повинностей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0" y="333360"/>
            <a:ext cx="419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ОССТАНИЕ УОТА ТАЙЛ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А) 1381 г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) Рост налогов для продолжения вой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еудачи в Столетней вой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естокие законы против бездом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) Восстанием охвачена большая часть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омощью городской бедноты была захвачена столица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осставшие вручили королю свои треб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Часть восставших покинула Лонд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тавшиеся в городе крестьяне предъявили королю дополнительные треб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Г) ПРИЧИНЫ ПОРАЖЕНИЯ ВОСС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ихийность выступ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зрозненность отря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тсутствие поддержки со стороны богатых горож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верчивость восставших к враг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ПОСЛЕДСТВИЯ ВОССТАНИЯ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шинство крестьян обрело личную свобо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ногие феодалы отказались от барщи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вободные крестьяне вносили точно установленные платежи за пользование зем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мягчены законы против бед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8:12:31Z</dcterms:created>
  <dc:creator>-</dc:creator>
  <dc:description/>
  <dc:language>en-US</dc:language>
  <cp:lastModifiedBy>-</cp:lastModifiedBy>
  <dcterms:modified xsi:type="dcterms:W3CDTF">2011-12-15T19:02:41Z</dcterms:modified>
  <cp:revision>3</cp:revision>
  <dc:subject/>
  <dc:title>Слайд 1</dc:title>
</cp:coreProperties>
</file>