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F94-A295-4FC8-998F-A7BEF904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626-7D9F-4842-9127-AA8B253B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4F771-3198-4971-ADE1-9C9C87A5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6359C-1BC2-4A55-B93F-A62666B2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C671B-88F7-4078-830B-82D57688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E4E8F-DE40-4069-B429-29580025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70856-7DE5-44BE-B108-510261F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7FE81-2B27-4791-BAAD-E22F1BBA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F22EE-8603-4420-BCFF-B29CA80E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1AF82-E8E7-43B7-8C9A-84085853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F0378-5C54-42CF-BFFB-1D2C0BDD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1C6-642E-4B26-930B-7772BE1A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3D4-792D-40E2-B561-D321A6B8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8F85-E3AC-4EB9-B4FD-CF7A6506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72DA-ED4E-4CA9-9A9E-3C62062E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F7BF-629A-4A35-8969-C6803DFE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2977-B01E-4997-9883-A4B74C70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98D9-1545-4F70-A71E-C45B2BF8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DD8A-80F5-4D73-9A25-07A8A87B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A849-716C-4BED-9904-6464FCB9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CD4-BA1E-4ECA-B0E0-FCE86FD4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1420-C808-459C-8F6F-939A4781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10FF-6726-4CF3-859B-AF721EE7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FBCB-3CC2-40A8-BB78-4FEC6427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2562-22B0-4359-BD52-5CBC6593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E916-C5BB-4894-B9CE-B886F874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3285-C4B4-4CFF-9879-D8B381E9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956EF-2164-418A-AD08-CAF7C8EE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653A7-08CC-49EC-B4CF-95FF6D97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A6711-FC1D-4779-AF0F-21CAE1D9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FC1A9-3683-4E20-9516-8592C8A6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364-F87F-4750-B04B-D35A26C4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0D593-F36D-4757-BA8C-8A598820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26C28-FC11-4AE6-A2AE-E29D1604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50776-88EA-4F2C-ADB2-11CC4410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D50C-79DB-4D7B-96F0-EF7FD863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755B-143E-4921-A246-14292EBC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6AEC-7114-46F9-9E49-5D00EA64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04ABD-A20C-41DB-B8BF-33BA3D05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9DF23-C45E-4BC7-9594-8A14B368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D3772-8A8C-4216-8900-09D597D6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31DBC-7F83-4874-9CD0-807F020B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5EC-5B00-463B-8E2B-76FD2FDB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1E83E-AAD0-4531-849A-8B5EAB14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17BA0-E613-4BE2-86AB-B0DB2764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6CE47-EA16-4596-B1CD-75DF241C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8D21-A9B6-432D-B2FD-A1235A50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F9E61-3C17-4375-86B4-03439EBF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2C975-D951-4FF1-AB60-E834A0A0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2F26A-97DE-456D-AE9E-72A943A0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73B62-09D1-45E8-9059-F18937A3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A4178-2B92-4493-997A-9375F3B3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C2695-515E-461E-BFB6-2E5CBE72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2CA-A4BB-456D-8722-0C2E6C5B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B0F5D-7A60-4EC4-AB4B-D059C9DA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D4B4F-E054-4019-A9EB-948BDF3A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73AB0-F450-4B0F-95BA-6A9AC465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C2FE3-3280-4A14-950A-8DC5C450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03B52-0554-4BD8-93BF-93B2B4DB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F5D2A-BA3E-4D37-9FB5-39D3E23A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ADFD1-DCDE-4130-8C42-EC2D2F38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57DE7-B69C-4A13-8094-C3363B7B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3A3EB-E469-485D-A5BE-8EFA3103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77434-F8BF-4E3C-8DF3-8B8844FA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3A6-7632-4ACB-869F-ECDB2F7C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F5E61-08D2-4E56-90F2-C5F5A62D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C58B5-3D07-4E6B-9F3A-758078B9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FD001-60D3-499B-9799-2EDF7952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0E1B5-2F4F-430E-BBE8-7CAFCBB0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08789-30A7-47E1-8AC2-79E232DB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0E73E-8524-4233-92F7-3FCD0F46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10E6A-C869-4E7F-93ED-E94FBCF2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CB292-F21F-49B8-B9FB-0BE865E8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C14B9-FA47-4685-99F5-2A974123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0CF23-2E7C-4550-AB5D-655D33AB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568-B335-4AE4-989A-A30F1F47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A9B47-7045-438E-B3A0-7405B913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6476E-27FE-451F-8B5B-898F7C87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52D34-D495-46CD-9D84-6A32595E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241AC-D250-4546-A149-4A345050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5E89D-81A7-44F7-A6B2-17F27071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732A7-6BA6-40E6-876A-8F541603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B9749-B168-4816-A6BE-4C24E084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A5880-F160-4104-BA62-FAAA0CAA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0840A-8F20-4CB5-B488-5366981E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3C65F-A350-4B31-A453-7E11B081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3403-4FBF-4DFA-AD92-9CC8D6AD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92404-4D11-47E5-BD7C-183C02CA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5828D-92A1-442A-A7D7-6357136D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A6FAA-339F-4D12-93C0-BDE3C267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62821-36D4-44F1-8ABE-5530ACFC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3CC38-2343-4846-9A65-0358FFCE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7077D-931C-4161-9CD0-53915FB6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88F8C-2407-4FBB-B787-390CA1E4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8B7A3-FEED-40EC-86C8-A9F49612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A0E94-2874-4995-8939-41A89037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66839-CCF9-44D5-BBB4-5297D6E2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C9C-42A4-439F-B7A4-8FA284EE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82F06-9A51-4CBF-8A42-5C18ACF4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BA249-41BF-4A69-97E2-50CCA18F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FEBB7-C97F-43C4-8FFA-5B334051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B7642-4F66-4C6A-8FDA-087CC891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4AC2C-4F20-44C5-9186-EEB18F16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53750-1202-4A7E-8BCE-8D21822F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5D699-0EA6-4B4D-87CD-1DD5D785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67865-06A8-404B-A932-CD613192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540AA-0CFC-46EA-ADDD-D7111594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00C54-61F2-4378-B952-579DB440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B179-2CD4-47F3-8992-88C154930A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3C72-F244-490D-8EB0-BEDCA00584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E3C6-876E-4FB6-B18A-92036BE1426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A47E-F7E3-446A-A387-F7F2210BCB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2480-0B41-49B4-852B-C25521195F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6968-12E5-4E58-B718-A81D3F7EBF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5711-F68A-4EAF-8965-8471EB3954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CFF4-DF42-42A9-879C-8B525C55927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2830-2265-41BF-95F4-AB31B4C6EB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80960" y="-92160"/>
            <a:ext cx="7980480" cy="19447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Кондратьева Н.К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БГОУ средняя школа № 332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Санкт-Петербург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ассмотреть случаи, когда один из треугольников частично накрывает другой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крепить и совершенствовать навыки решения задач на применение признаков равенства треугольник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4" name="Содержимое 3" descr="Мои презентации.jpg"/>
          <p:cNvPicPr/>
          <p:nvPr/>
        </p:nvPicPr>
        <p:blipFill>
          <a:blip r:embed="rId1"/>
          <a:stretch/>
        </p:blipFill>
        <p:spPr>
          <a:xfrm>
            <a:off x="-66600" y="1633680"/>
            <a:ext cx="5132160" cy="46638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4"/>
          <p:cNvSpPr/>
          <p:nvPr/>
        </p:nvSpPr>
        <p:spPr>
          <a:xfrm>
            <a:off x="6012000" y="1628640"/>
            <a:ext cx="237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=      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=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 = 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5867280" y="2781360"/>
                <a:ext cx="5763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5"/>
              <p:cNvSpPr txBox="1"/>
              <p:nvPr/>
            </p:nvSpPr>
            <p:spPr>
              <a:xfrm>
                <a:off x="6804000" y="2781360"/>
                <a:ext cx="2365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6"/>
              <p:cNvSpPr txBox="1"/>
              <p:nvPr/>
            </p:nvSpPr>
            <p:spPr>
              <a:xfrm>
                <a:off x="5940360" y="3068640"/>
                <a:ext cx="3096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7"/>
              <p:cNvSpPr txBox="1"/>
              <p:nvPr/>
            </p:nvSpPr>
            <p:spPr>
              <a:xfrm>
                <a:off x="6804000" y="3068640"/>
                <a:ext cx="4428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1" name="Содержимое 3" descr="Мои презентации 1.jpg"/>
          <p:cNvPicPr/>
          <p:nvPr/>
        </p:nvPicPr>
        <p:blipFill>
          <a:blip r:embed="rId1"/>
          <a:stretch/>
        </p:blipFill>
        <p:spPr>
          <a:xfrm>
            <a:off x="-6480" y="2414520"/>
            <a:ext cx="6815160" cy="1670040"/>
          </a:xfrm>
          <a:prstGeom prst="rect">
            <a:avLst/>
          </a:prstGeom>
          <a:ln w="0">
            <a:noFill/>
          </a:ln>
        </p:spPr>
      </p:pic>
      <p:sp>
        <p:nvSpPr>
          <p:cNvPr id="412" name="TextBox 4"/>
          <p:cNvSpPr/>
          <p:nvPr/>
        </p:nvSpPr>
        <p:spPr>
          <a:xfrm>
            <a:off x="7164360" y="1844640"/>
            <a:ext cx="19796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2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 =     D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C =     B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C = ∆ 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2"/>
              <p:cNvSpPr txBox="1"/>
              <p:nvPr/>
            </p:nvSpPr>
            <p:spPr>
              <a:xfrm>
                <a:off x="8172360" y="3645000"/>
                <a:ext cx="36036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7020000" y="2997360"/>
                <a:ext cx="3078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4"/>
              <p:cNvSpPr txBox="1"/>
              <p:nvPr/>
            </p:nvSpPr>
            <p:spPr>
              <a:xfrm>
                <a:off x="8101080" y="2997360"/>
                <a:ext cx="2872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5"/>
              <p:cNvSpPr txBox="1"/>
              <p:nvPr/>
            </p:nvSpPr>
            <p:spPr>
              <a:xfrm>
                <a:off x="7164360" y="3645000"/>
                <a:ext cx="30960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3" descr="Мои презентации 1.jpg"/>
          <p:cNvPicPr/>
          <p:nvPr/>
        </p:nvPicPr>
        <p:blipFill>
          <a:blip r:embed="rId2"/>
          <a:srcRect l="44458" t="42051" r="11108" b="24812"/>
          <a:stretch/>
        </p:blipFill>
        <p:spPr>
          <a:xfrm>
            <a:off x="395280" y="1413000"/>
            <a:ext cx="3889440" cy="29527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4"/>
          <p:cNvSpPr/>
          <p:nvPr/>
        </p:nvSpPr>
        <p:spPr>
          <a:xfrm>
            <a:off x="5364000" y="1268280"/>
            <a:ext cx="29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Δ 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= 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=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ВС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= 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= D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5651640" y="4941720"/>
                <a:ext cx="587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3"/>
              <p:cNvSpPr txBox="1"/>
              <p:nvPr/>
            </p:nvSpPr>
            <p:spPr>
              <a:xfrm>
                <a:off x="6659640" y="5013360"/>
                <a:ext cx="4428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равнобедренном треугольнике АВС проведены медианы АЕ и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D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казать, что медиана АЕ равна медиане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C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5" name="Содержимое 3" descr="Мои презентации2.jpg"/>
          <p:cNvPicPr/>
          <p:nvPr/>
        </p:nvPicPr>
        <p:blipFill>
          <a:blip r:embed="rId1">
            <a:lum bright="-30000"/>
          </a:blip>
          <a:srcRect l="2753" t="4016" r="0" b="17687"/>
          <a:stretch/>
        </p:blipFill>
        <p:spPr>
          <a:xfrm>
            <a:off x="395280" y="0"/>
            <a:ext cx="83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вторить п.15 п.18,, п.19,  п.20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ешить задачи № 125, № 126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полнить пропуски в классной задач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03:17:25Z</dcterms:created>
  <dc:creator>RICHARD</dc:creator>
  <dc:description/>
  <dc:language>en-US</dc:language>
  <cp:lastModifiedBy>Натусик</cp:lastModifiedBy>
  <dcterms:modified xsi:type="dcterms:W3CDTF">2012-01-03T07:26:17Z</dcterms:modified>
  <cp:revision>11</cp:revision>
  <dc:subject/>
  <dc:title>Решение задач на равенство треугольников и их элементов</dc:title>
</cp:coreProperties>
</file>