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wmf" ContentType="image/x-wmf"/>
  <Override PartName="/ppt/media/image14.wmf" ContentType="image/x-wmf"/>
  <Override PartName="/ppt/media/image12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9.wmf" ContentType="image/x-wmf"/>
  <Override PartName="/ppt/media/image39.wmf" ContentType="image/x-wmf"/>
  <Override PartName="/ppt/media/image41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9508-61AD-4FE0-8B6D-9783D83C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6FA-2E2C-45AB-BA37-B277A17A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EB6-3972-4E46-9294-C296C3C8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BCE-6605-4400-B08A-63079FC2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23E-8F27-48C3-93A1-5583D838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805-3612-4358-8E01-6B0C3EE4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D5E-A357-43E5-A049-CA9664B8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F2C-FE33-4586-BD60-38838C3D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5DC-6CF2-46D0-9AE8-108CE07D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F92-0128-4665-AE45-03F3CE0F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234-A45E-42F3-B29A-89874088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EA4-FA58-47D3-ADDB-DC1D1D7C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E72A-CEE3-4AEB-B815-057B7DD91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.wmf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0.wm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ox-m.info/uploads/posts/2009-04/1238954029_1.jpg" TargetMode="External"/><Relationship Id="rId3" Type="http://schemas.openxmlformats.org/officeDocument/2006/relationships/hyperlink" Target="http://www.box-m.info/uploads/posts/2009-04/1238954029_1.jpg" TargetMode="External"/><Relationship Id="rId4" Type="http://schemas.openxmlformats.org/officeDocument/2006/relationships/hyperlink" Target="http://www.box-m.info/uploads/posts/2009-04/1238954029_1.jpg" TargetMode="External"/><Relationship Id="rId5" Type="http://schemas.openxmlformats.org/officeDocument/2006/relationships/hyperlink" Target="http://www.box-m.info/uploads/posts/2009-04/1238954029_1.jpg" TargetMode="External"/><Relationship Id="rId6" Type="http://schemas.openxmlformats.org/officeDocument/2006/relationships/hyperlink" Target="http://www.box-m.info/uploads/posts/2009-04/1238954029_1.jpg" TargetMode="External"/><Relationship Id="rId7" Type="http://schemas.openxmlformats.org/officeDocument/2006/relationships/hyperlink" Target="http://www.box-m.info/uploads/posts/2009-04/1238954029_1.jpg" TargetMode="External"/><Relationship Id="rId8" Type="http://schemas.openxmlformats.org/officeDocument/2006/relationships/hyperlink" Target="http://www.box-m.info/uploads/posts/2009-04/1238954029_1.jpg" TargetMode="External"/><Relationship Id="rId9" Type="http://schemas.openxmlformats.org/officeDocument/2006/relationships/hyperlink" Target="http://aida.ucoz.ru/" TargetMode="External"/><Relationship Id="rId10" Type="http://schemas.openxmlformats.org/officeDocument/2006/relationships/hyperlink" Target="http://aida.ucoz.ru/" TargetMode="External"/><Relationship Id="rId11" Type="http://schemas.openxmlformats.org/officeDocument/2006/relationships/hyperlink" Target="http://aida.ucoz.ru/" TargetMode="External"/><Relationship Id="rId12" Type="http://schemas.openxmlformats.org/officeDocument/2006/relationships/hyperlink" Target="http://aida.ucoz.ru/" TargetMode="External"/><Relationship Id="rId13" Type="http://schemas.openxmlformats.org/officeDocument/2006/relationships/hyperlink" Target="http://aida.ucoz.ru/" TargetMode="External"/><Relationship Id="rId14" Type="http://schemas.openxmlformats.org/officeDocument/2006/relationships/hyperlink" Target="http://aida.ucoz.ru/" TargetMode="External"/><Relationship Id="rId15" Type="http://schemas.openxmlformats.org/officeDocument/2006/relationships/hyperlink" Target="http://aida.ucoz.ru/" TargetMode="External"/><Relationship Id="rId16" Type="http://schemas.openxmlformats.org/officeDocument/2006/relationships/hyperlink" Target="http://s39.radikal.ru/i084/1008/34/683cd4886d3f.jpg" TargetMode="External"/><Relationship Id="rId17" Type="http://schemas.openxmlformats.org/officeDocument/2006/relationships/image" Target="../media/image41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6.wmf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wm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52680" y="1844640"/>
            <a:ext cx="7772400" cy="22338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Arial"/>
              </a:rPr>
              <a:t>Применение метода интервалов для решения неравен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910160" y="765000"/>
            <a:ext cx="70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ОУ «Инсарская средняя общеобразовательная школа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690560" y="5743440"/>
            <a:ext cx="727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Чудаева Елена Владимировна, учитель математи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. Инсар, Республика Морд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47815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рок алгебры в 9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74600" y="981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Решение рациональных неравен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940440" y="836640"/>
          <a:ext cx="159228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0440" y="836640"/>
                    <a:ext cx="1592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7" name=""/>
          <p:cNvGrpSpPr/>
          <p:nvPr/>
        </p:nvGrpSpPr>
        <p:grpSpPr>
          <a:xfrm>
            <a:off x="1042920" y="2060640"/>
            <a:ext cx="7523280" cy="482400"/>
            <a:chOff x="1042920" y="2060640"/>
            <a:chExt cx="7523280" cy="482400"/>
          </a:xfrm>
        </p:grpSpPr>
        <p:sp>
          <p:nvSpPr>
            <p:cNvPr id="308" name=""/>
            <p:cNvSpPr/>
            <p:nvPr/>
          </p:nvSpPr>
          <p:spPr>
            <a:xfrm>
              <a:off x="1042920" y="212724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Умножим обе части такого неравенства на многочле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9" name=""/>
            <p:cNvGraphicFramePr/>
            <p:nvPr/>
          </p:nvGraphicFramePr>
          <p:xfrm>
            <a:off x="7635960" y="2060640"/>
            <a:ext cx="930240" cy="482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35960" y="2060640"/>
                      <a:ext cx="93024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1" name=""/>
          <p:cNvGrpSpPr/>
          <p:nvPr/>
        </p:nvGrpSpPr>
        <p:grpSpPr>
          <a:xfrm>
            <a:off x="1042920" y="2579760"/>
            <a:ext cx="7201080" cy="452520"/>
            <a:chOff x="1042920" y="2579760"/>
            <a:chExt cx="7201080" cy="452520"/>
          </a:xfrm>
        </p:grpSpPr>
        <p:sp>
          <p:nvSpPr>
            <p:cNvPr id="312" name=""/>
            <p:cNvSpPr/>
            <p:nvPr/>
          </p:nvSpPr>
          <p:spPr>
            <a:xfrm>
              <a:off x="1042920" y="2597040"/>
              <a:ext cx="720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нак исходного неравенства не меняется, (т.к                    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3" name=""/>
            <p:cNvGraphicFramePr/>
            <p:nvPr/>
          </p:nvGraphicFramePr>
          <p:xfrm>
            <a:off x="6689880" y="2579760"/>
            <a:ext cx="1225440" cy="452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89880" y="2579760"/>
                      <a:ext cx="122544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5" name=""/>
          <p:cNvGrpSpPr/>
          <p:nvPr/>
        </p:nvGrpSpPr>
        <p:grpSpPr>
          <a:xfrm>
            <a:off x="1116000" y="3029040"/>
            <a:ext cx="7848720" cy="825480"/>
            <a:chOff x="1116000" y="3029040"/>
            <a:chExt cx="7848720" cy="825480"/>
          </a:xfrm>
        </p:grpSpPr>
        <p:sp>
          <p:nvSpPr>
            <p:cNvPr id="316" name=""/>
            <p:cNvSpPr/>
            <p:nvPr/>
          </p:nvSpPr>
          <p:spPr>
            <a:xfrm>
              <a:off x="1116000" y="302904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олучаем неравенство                               , равносильное данному неравенству, которое решаем методом интервал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7" name=""/>
            <p:cNvGraphicFramePr/>
            <p:nvPr/>
          </p:nvGraphicFramePr>
          <p:xfrm>
            <a:off x="4140360" y="3100320"/>
            <a:ext cx="1871640" cy="397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140360" y="3100320"/>
                      <a:ext cx="187164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9" name=""/>
          <p:cNvGrpSpPr/>
          <p:nvPr/>
        </p:nvGrpSpPr>
        <p:grpSpPr>
          <a:xfrm>
            <a:off x="3492360" y="4179960"/>
            <a:ext cx="5256360" cy="1873080"/>
            <a:chOff x="3492360" y="4179960"/>
            <a:chExt cx="5256360" cy="1873080"/>
          </a:xfrm>
        </p:grpSpPr>
        <p:sp>
          <p:nvSpPr>
            <p:cNvPr id="320" name=""/>
            <p:cNvSpPr/>
            <p:nvPr/>
          </p:nvSpPr>
          <p:spPr>
            <a:xfrm>
              <a:off x="3492360" y="4179960"/>
              <a:ext cx="5256360" cy="187308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78200" y="4270320"/>
              <a:ext cx="482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ешение рациональных неравенств равносильно решению системы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2" name=""/>
            <p:cNvGraphicFramePr/>
            <p:nvPr/>
          </p:nvGraphicFramePr>
          <p:xfrm>
            <a:off x="4140360" y="5045040"/>
            <a:ext cx="3485880" cy="8971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2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140360" y="5045040"/>
                      <a:ext cx="3485880" cy="89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4" name=""/>
          <p:cNvSpPr/>
          <p:nvPr/>
        </p:nvSpPr>
        <p:spPr>
          <a:xfrm>
            <a:off x="1042560" y="396396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187280" y="4335480"/>
            <a:ext cx="2232360" cy="1596960"/>
            <a:chOff x="1187280" y="4335480"/>
            <a:chExt cx="2232360" cy="1596960"/>
          </a:xfrm>
        </p:grpSpPr>
        <p:pic>
          <p:nvPicPr>
            <p:cNvPr id="326" name="" descr=""/>
            <p:cNvPicPr/>
            <p:nvPr/>
          </p:nvPicPr>
          <p:blipFill>
            <a:blip r:embed="rId12"/>
            <a:stretch/>
          </p:blipFill>
          <p:spPr>
            <a:xfrm>
              <a:off x="1187280" y="4335480"/>
              <a:ext cx="223236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700360" y="5227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537080" y="5229360"/>
            <a:ext cx="252360" cy="252360"/>
          </a:xfrm>
          <a:prstGeom prst="ellipse">
            <a:avLst/>
          </a:prstGeom>
          <a:solidFill>
            <a:srgbClr val="ff6600">
              <a:alpha val="19000"/>
            </a:srgbClr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258920" y="4826160"/>
            <a:ext cx="5249880" cy="349200"/>
            <a:chOff x="1258920" y="4826160"/>
            <a:chExt cx="5249880" cy="349200"/>
          </a:xfrm>
        </p:grpSpPr>
        <p:sp>
          <p:nvSpPr>
            <p:cNvPr id="330" name=""/>
            <p:cNvSpPr/>
            <p:nvPr/>
          </p:nvSpPr>
          <p:spPr>
            <a:xfrm>
              <a:off x="1258920" y="4851360"/>
              <a:ext cx="1065240" cy="306360"/>
            </a:xfrm>
            <a:custGeom>
              <a:avLst/>
              <a:gdLst/>
              <a:ahLst/>
              <a:rect l="l" t="t" r="r" b="b"/>
              <a:pathLst>
                <a:path w="671" h="193">
                  <a:moveTo>
                    <a:pt x="0" y="193"/>
                  </a:moveTo>
                  <a:lnTo>
                    <a:pt x="671" y="192"/>
                  </a:lnTo>
                  <a:lnTo>
                    <a:pt x="651" y="148"/>
                  </a:lnTo>
                  <a:lnTo>
                    <a:pt x="599" y="96"/>
                  </a:lnTo>
                  <a:lnTo>
                    <a:pt x="519" y="52"/>
                  </a:lnTo>
                  <a:lnTo>
                    <a:pt x="439" y="28"/>
                  </a:lnTo>
                  <a:lnTo>
                    <a:pt x="359" y="12"/>
                  </a:lnTo>
                  <a:lnTo>
                    <a:pt x="219" y="0"/>
                  </a:lnTo>
                  <a:lnTo>
                    <a:pt x="3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03640" y="4826160"/>
              <a:ext cx="720720" cy="331560"/>
            </a:xfrm>
            <a:custGeom>
              <a:avLst/>
              <a:gdLst/>
              <a:ahLst/>
              <a:rect l="l" t="t" r="r" b="b"/>
              <a:pathLst>
                <a:path w="454" h="209">
                  <a:moveTo>
                    <a:pt x="0" y="209"/>
                  </a:moveTo>
                  <a:lnTo>
                    <a:pt x="18" y="104"/>
                  </a:lnTo>
                  <a:lnTo>
                    <a:pt x="78" y="16"/>
                  </a:lnTo>
                  <a:lnTo>
                    <a:pt x="182" y="0"/>
                  </a:lnTo>
                  <a:lnTo>
                    <a:pt x="330" y="8"/>
                  </a:lnTo>
                  <a:lnTo>
                    <a:pt x="378" y="24"/>
                  </a:lnTo>
                  <a:lnTo>
                    <a:pt x="434" y="100"/>
                  </a:lnTo>
                  <a:lnTo>
                    <a:pt x="454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08720" y="4826160"/>
              <a:ext cx="1000080" cy="349200"/>
            </a:xfrm>
            <a:custGeom>
              <a:avLst/>
              <a:gdLst/>
              <a:ahLst/>
              <a:rect l="l" t="t" r="r" b="b"/>
              <a:pathLst>
                <a:path w="630" h="220">
                  <a:moveTo>
                    <a:pt x="0" y="209"/>
                  </a:moveTo>
                  <a:lnTo>
                    <a:pt x="25" y="104"/>
                  </a:lnTo>
                  <a:lnTo>
                    <a:pt x="109" y="16"/>
                  </a:lnTo>
                  <a:lnTo>
                    <a:pt x="255" y="0"/>
                  </a:lnTo>
                  <a:lnTo>
                    <a:pt x="462" y="8"/>
                  </a:lnTo>
                  <a:lnTo>
                    <a:pt x="529" y="24"/>
                  </a:lnTo>
                  <a:lnTo>
                    <a:pt x="607" y="100"/>
                  </a:lnTo>
                  <a:lnTo>
                    <a:pt x="630" y="220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26600" y="4714200"/>
            <a:ext cx="7878600" cy="1194480"/>
            <a:chOff x="426600" y="4714200"/>
            <a:chExt cx="7878600" cy="1194480"/>
          </a:xfrm>
        </p:grpSpPr>
        <p:sp>
          <p:nvSpPr>
            <p:cNvPr id="334" name=""/>
            <p:cNvSpPr/>
            <p:nvPr/>
          </p:nvSpPr>
          <p:spPr>
            <a:xfrm flipH="1" flipV="1" rot="10422000">
              <a:off x="467280" y="4854960"/>
              <a:ext cx="1863720" cy="84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47" y="3"/>
                  </a:moveTo>
                  <a:arcTo wR="10800" hR="10800" stAng="-5480390" swAng="54803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47" y="3"/>
                  </a:moveTo>
                  <a:arcTo wR="10800" hR="10800" stAng="-5480390" swAng="548039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 rot="11178000">
              <a:off x="6514200" y="4806360"/>
              <a:ext cx="1740600" cy="100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9652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96524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5400000">
              <a:off x="2572200" y="4591800"/>
              <a:ext cx="360360" cy="90180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30320 h 901800"/>
                <a:gd name="textAreaBottom" fmla="*/ 771480 h 9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3382560" y="4653000"/>
              <a:ext cx="360360" cy="71892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3680 h 718920"/>
                <a:gd name="textAreaBottom" fmla="*/ 61524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4101840" y="4652640"/>
              <a:ext cx="360360" cy="71928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4040 h 719280"/>
                <a:gd name="textAreaBottom" fmla="*/ 61524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4894560" y="4580640"/>
              <a:ext cx="360360" cy="86364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24920 h 863640"/>
                <a:gd name="textAreaBottom" fmla="*/ 7387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5830560" y="4508280"/>
              <a:ext cx="360360" cy="100836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45800 h 1008360"/>
                <a:gd name="textAreaBottom" fmla="*/ 86256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547640" y="4703760"/>
            <a:ext cx="4678560" cy="563040"/>
            <a:chOff x="1547640" y="4703760"/>
            <a:chExt cx="4678560" cy="563040"/>
          </a:xfrm>
        </p:grpSpPr>
        <p:sp>
          <p:nvSpPr>
            <p:cNvPr id="342" name=""/>
            <p:cNvSpPr/>
            <p:nvPr/>
          </p:nvSpPr>
          <p:spPr>
            <a:xfrm>
              <a:off x="154764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67280" y="471816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48000" y="477684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56000" y="476100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59280" y="4703760"/>
              <a:ext cx="432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6728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948360" y="47037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050920" y="4508640"/>
            <a:ext cx="4826160" cy="435240"/>
            <a:chOff x="2050920" y="4508640"/>
            <a:chExt cx="4826160" cy="435240"/>
          </a:xfrm>
        </p:grpSpPr>
        <p:sp>
          <p:nvSpPr>
            <p:cNvPr id="350" name=""/>
            <p:cNvSpPr/>
            <p:nvPr/>
          </p:nvSpPr>
          <p:spPr>
            <a:xfrm>
              <a:off x="6372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2764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9272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08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87640" y="451476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50920" y="451476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116000" y="547560"/>
            <a:ext cx="7704000" cy="100980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621320" y="617400"/>
          <a:ext cx="3001680" cy="92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21320" y="617400"/>
                    <a:ext cx="30016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1618200" y="81360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71640" y="1700280"/>
            <a:ext cx="71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Найдем область определения неравен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258920" y="1989000"/>
          <a:ext cx="4164120" cy="48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1989000"/>
                    <a:ext cx="41641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5464080" y="20098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к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6472080" y="2046240"/>
          <a:ext cx="2374920" cy="360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72080" y="2046240"/>
                    <a:ext cx="2374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971640" y="247824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Сведем данное рациональное неравенство к алгебраическому, умножив неравенство на квадрат знаменател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273320" y="3164040"/>
          <a:ext cx="4522680" cy="47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73320" y="3164040"/>
                    <a:ext cx="45226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971640" y="3716280"/>
            <a:ext cx="802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Находим корни многочлена и определяем их кратнос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 (четная кратность), корни 3, -1, 0, 5, -2 (нечетная кратност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4720" y="5553000"/>
            <a:ext cx="80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, и расставим остальные знаки с учетом кратности кор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508640"/>
            <a:ext cx="93672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0" y="227"/>
                </a:moveTo>
                <a:lnTo>
                  <a:pt x="862" y="227"/>
                </a:lnTo>
                <a:lnTo>
                  <a:pt x="816" y="136"/>
                </a:lnTo>
                <a:lnTo>
                  <a:pt x="794" y="98"/>
                </a:lnTo>
                <a:lnTo>
                  <a:pt x="754" y="54"/>
                </a:lnTo>
                <a:lnTo>
                  <a:pt x="680" y="0"/>
                </a:lnTo>
                <a:lnTo>
                  <a:pt x="181" y="0"/>
                </a:lnTo>
                <a:lnTo>
                  <a:pt x="94" y="58"/>
                </a:lnTo>
                <a:lnTo>
                  <a:pt x="45" y="136"/>
                </a:lnTo>
                <a:lnTo>
                  <a:pt x="0" y="227"/>
                </a:lnTo>
                <a:close/>
              </a:path>
            </a:pathLst>
          </a:cu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258920" y="5157720"/>
            <a:ext cx="6481800" cy="398880"/>
            <a:chOff x="1258920" y="5157720"/>
            <a:chExt cx="6481800" cy="398880"/>
          </a:xfrm>
        </p:grpSpPr>
        <p:sp>
          <p:nvSpPr>
            <p:cNvPr id="373" name=""/>
            <p:cNvSpPr/>
            <p:nvPr/>
          </p:nvSpPr>
          <p:spPr>
            <a:xfrm>
              <a:off x="1258920" y="5157720"/>
              <a:ext cx="6337440" cy="3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80360" y="51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124000" y="5106960"/>
            <a:ext cx="503280" cy="411120"/>
            <a:chOff x="2124000" y="5106960"/>
            <a:chExt cx="503280" cy="411120"/>
          </a:xfrm>
        </p:grpSpPr>
        <p:sp>
          <p:nvSpPr>
            <p:cNvPr id="376" name=""/>
            <p:cNvSpPr/>
            <p:nvPr/>
          </p:nvSpPr>
          <p:spPr>
            <a:xfrm>
              <a:off x="212400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68360" y="51069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780000" y="5113440"/>
            <a:ext cx="287280" cy="405000"/>
            <a:chOff x="3780000" y="5113440"/>
            <a:chExt cx="287280" cy="405000"/>
          </a:xfrm>
        </p:grpSpPr>
        <p:sp>
          <p:nvSpPr>
            <p:cNvPr id="379" name=""/>
            <p:cNvSpPr/>
            <p:nvPr/>
          </p:nvSpPr>
          <p:spPr>
            <a:xfrm>
              <a:off x="378000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87640" y="511344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364000" y="5114880"/>
            <a:ext cx="287640" cy="403200"/>
            <a:chOff x="5364000" y="5114880"/>
            <a:chExt cx="287640" cy="403200"/>
          </a:xfrm>
        </p:grpSpPr>
        <p:sp>
          <p:nvSpPr>
            <p:cNvPr id="382" name=""/>
            <p:cNvSpPr/>
            <p:nvPr/>
          </p:nvSpPr>
          <p:spPr>
            <a:xfrm>
              <a:off x="5364000" y="51498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72000" y="511488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987640" y="5106960"/>
            <a:ext cx="503280" cy="411120"/>
            <a:chOff x="2987640" y="5106960"/>
            <a:chExt cx="503280" cy="411120"/>
          </a:xfrm>
        </p:grpSpPr>
        <p:sp>
          <p:nvSpPr>
            <p:cNvPr id="385" name=""/>
            <p:cNvSpPr/>
            <p:nvPr/>
          </p:nvSpPr>
          <p:spPr>
            <a:xfrm>
              <a:off x="298764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320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500720" y="5106960"/>
            <a:ext cx="287280" cy="411120"/>
            <a:chOff x="4500720" y="5106960"/>
            <a:chExt cx="287280" cy="411120"/>
          </a:xfrm>
        </p:grpSpPr>
        <p:sp>
          <p:nvSpPr>
            <p:cNvPr id="388" name=""/>
            <p:cNvSpPr/>
            <p:nvPr/>
          </p:nvSpPr>
          <p:spPr>
            <a:xfrm>
              <a:off x="4500720" y="51498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738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372360" y="5121360"/>
            <a:ext cx="287280" cy="397080"/>
            <a:chOff x="6372360" y="5121360"/>
            <a:chExt cx="287280" cy="397080"/>
          </a:xfrm>
        </p:grpSpPr>
        <p:sp>
          <p:nvSpPr>
            <p:cNvPr id="391" name=""/>
            <p:cNvSpPr/>
            <p:nvPr/>
          </p:nvSpPr>
          <p:spPr>
            <a:xfrm>
              <a:off x="637236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80000" y="51213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044720" y="6237360"/>
            <a:ext cx="6438600" cy="441360"/>
            <a:chOff x="1044720" y="6237360"/>
            <a:chExt cx="6438600" cy="441360"/>
          </a:xfrm>
        </p:grpSpPr>
        <p:sp>
          <p:nvSpPr>
            <p:cNvPr id="395" name=""/>
            <p:cNvSpPr/>
            <p:nvPr/>
          </p:nvSpPr>
          <p:spPr>
            <a:xfrm>
              <a:off x="1044720" y="6242040"/>
              <a:ext cx="28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пишем ответ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6" name=""/>
            <p:cNvGraphicFramePr/>
            <p:nvPr/>
          </p:nvGraphicFramePr>
          <p:xfrm>
            <a:off x="3389400" y="6237360"/>
            <a:ext cx="409392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9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389400" y="6237360"/>
                      <a:ext cx="409392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8" name=""/>
          <p:cNvSpPr/>
          <p:nvPr/>
        </p:nvSpPr>
        <p:spPr>
          <a:xfrm>
            <a:off x="1619280" y="4149720"/>
            <a:ext cx="2160720" cy="431640"/>
          </a:xfrm>
          <a:prstGeom prst="roundRect">
            <a:avLst>
              <a:gd name="adj" fmla="val 40074"/>
            </a:avLst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195640" y="5229360"/>
            <a:ext cx="4464000" cy="252360"/>
            <a:chOff x="2195640" y="5229360"/>
            <a:chExt cx="4464000" cy="252360"/>
          </a:xfrm>
        </p:grpSpPr>
        <p:sp>
          <p:nvSpPr>
            <p:cNvPr id="400" name=""/>
            <p:cNvSpPr/>
            <p:nvPr/>
          </p:nvSpPr>
          <p:spPr>
            <a:xfrm>
              <a:off x="381492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59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9564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5229360"/>
              <a:ext cx="25272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07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156360" y="4149720"/>
            <a:ext cx="2663640" cy="431640"/>
          </a:xfrm>
          <a:prstGeom prst="roundRect">
            <a:avLst>
              <a:gd name="adj" fmla="val 40074"/>
            </a:avLst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738960" y="1366200"/>
            <a:ext cx="2058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9 (а, в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0 (в, г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3(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4(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844720" y="692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Работа с учеб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116000" y="1557360"/>
            <a:ext cx="2447640" cy="1726920"/>
            <a:chOff x="1116000" y="1557360"/>
            <a:chExt cx="2447640" cy="1726920"/>
          </a:xfrm>
        </p:grpSpPr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1116000" y="1557360"/>
              <a:ext cx="24476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2717280" y="2482920"/>
              <a:ext cx="375120" cy="37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187280" y="3645000"/>
            <a:ext cx="8066160" cy="3081240"/>
            <a:chOff x="1187280" y="3645000"/>
            <a:chExt cx="8066160" cy="3081240"/>
          </a:xfrm>
        </p:grpSpPr>
        <p:sp>
          <p:nvSpPr>
            <p:cNvPr id="413" name=""/>
            <p:cNvSpPr/>
            <p:nvPr/>
          </p:nvSpPr>
          <p:spPr>
            <a:xfrm>
              <a:off x="2916360" y="3645000"/>
              <a:ext cx="633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66"/>
                  </a:solidFill>
                  <a:uFillTx/>
                  <a:latin typeface="Arial"/>
                </a:rPr>
                <a:t>Для тех кто желает знать больш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08360" y="4400640"/>
              <a:ext cx="543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остройте эскизы графиков функци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5" name=""/>
            <p:cNvGraphicFramePr/>
            <p:nvPr/>
          </p:nvGraphicFramePr>
          <p:xfrm>
            <a:off x="3841920" y="4797360"/>
            <a:ext cx="2457360" cy="50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41920" y="4797360"/>
                      <a:ext cx="245736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"/>
            <p:cNvGraphicFramePr/>
            <p:nvPr/>
          </p:nvGraphicFramePr>
          <p:xfrm>
            <a:off x="3851280" y="5302080"/>
            <a:ext cx="2521080" cy="565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51280" y="5302080"/>
                      <a:ext cx="252108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9" name=""/>
            <p:cNvGraphicFramePr/>
            <p:nvPr/>
          </p:nvGraphicFramePr>
          <p:xfrm>
            <a:off x="3851280" y="5877000"/>
            <a:ext cx="136836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51280" y="5877000"/>
                      <a:ext cx="136836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21" name=""/>
            <p:cNvGrpSpPr/>
            <p:nvPr/>
          </p:nvGrpSpPr>
          <p:grpSpPr>
            <a:xfrm>
              <a:off x="1187280" y="4508640"/>
              <a:ext cx="2447640" cy="1726560"/>
              <a:chOff x="1187280" y="4508640"/>
              <a:chExt cx="2447640" cy="1726560"/>
            </a:xfrm>
          </p:grpSpPr>
          <p:pic>
            <p:nvPicPr>
              <p:cNvPr id="42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187280" y="4508640"/>
                <a:ext cx="2447640" cy="172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2788560" y="5433840"/>
                <a:ext cx="375120" cy="371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911680" y="1379880"/>
            <a:ext cx="5892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§15 (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89 (б), № 390 (б), №393(б), №394(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86880" y="73980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042920" y="517536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 Что вам более всего удалось, какие моменты были выполнены наиболее успеш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7672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987640" y="3284640"/>
            <a:ext cx="61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Что вы ожидали от работы  на данном уроке? Сравните свои предварительные цели и реально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042920" y="443700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Какие чувства и ощущения возникали у вас в ходе работы? Что оказалось для вас самым неожиданн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044720" y="5823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Перечислите основные трудности, которые вы испытывали во время урока. Как вы их преодолев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042920" y="1224000"/>
            <a:ext cx="1873440" cy="1341360"/>
            <a:chOff x="1042920" y="1224000"/>
            <a:chExt cx="1873440" cy="1341360"/>
          </a:xfrm>
        </p:grpSpPr>
        <p:pic>
          <p:nvPicPr>
            <p:cNvPr id="432" name="" descr=""/>
            <p:cNvPicPr/>
            <p:nvPr/>
          </p:nvPicPr>
          <p:blipFill>
            <a:blip r:embed="rId2"/>
            <a:stretch/>
          </p:blipFill>
          <p:spPr>
            <a:xfrm>
              <a:off x="1042920" y="1224000"/>
              <a:ext cx="18734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2268360" y="1916280"/>
              <a:ext cx="28764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114560" y="3095640"/>
            <a:ext cx="1873080" cy="1341360"/>
            <a:chOff x="1114560" y="3095640"/>
            <a:chExt cx="1873080" cy="1341360"/>
          </a:xfrm>
        </p:grpSpPr>
        <p:pic>
          <p:nvPicPr>
            <p:cNvPr id="435" name="" descr=""/>
            <p:cNvPicPr/>
            <p:nvPr/>
          </p:nvPicPr>
          <p:blipFill>
            <a:blip r:embed="rId3"/>
            <a:stretch/>
          </p:blipFill>
          <p:spPr>
            <a:xfrm>
              <a:off x="1114560" y="3095640"/>
              <a:ext cx="18730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2340000" y="3814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413080" y="9079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Использованные 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16000" y="1700280"/>
            <a:ext cx="7848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: Алгебра-9 класс, Ю.Н. Макарычев, Н.Г. Миндюк, К.И. Нешков, С.Б. Суворова, М.: Просвещение,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урукин А.Н., Полякова С.А., Поурочные разработки по алгебре: 9 класс. – М.: ВАКО, 2010 –  (В помощь школьному учител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Для создания шаблона презентации использовалась картинк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box-m.info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pload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ost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2009-04/1238954029_1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 шаблон с сайта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ida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ucoz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зображение кот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s39.radikal.ru/i084/1008/34/683cd4886d3f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7"/>
          <a:stretch/>
        </p:blipFill>
        <p:spPr>
          <a:xfrm>
            <a:off x="7091280" y="5013360"/>
            <a:ext cx="187344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124000" y="2062080"/>
            <a:ext cx="6840360" cy="4246200"/>
            <a:chOff x="2124000" y="2062080"/>
            <a:chExt cx="6840360" cy="4246200"/>
          </a:xfrm>
        </p:grpSpPr>
        <p:sp>
          <p:nvSpPr>
            <p:cNvPr id="46" name=""/>
            <p:cNvSpPr/>
            <p:nvPr/>
          </p:nvSpPr>
          <p:spPr>
            <a:xfrm>
              <a:off x="2124000" y="2062080"/>
              <a:ext cx="6768360" cy="4246200"/>
            </a:xfrm>
            <a:prstGeom prst="roundRect">
              <a:avLst>
                <a:gd name="adj" fmla="val 21875"/>
              </a:avLst>
            </a:prstGeom>
            <a:solidFill>
              <a:srgbClr val="bbe0e3">
                <a:alpha val="8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3"/>
            <p:cNvSpPr/>
            <p:nvPr/>
          </p:nvSpPr>
          <p:spPr>
            <a:xfrm>
              <a:off x="2270160" y="2311560"/>
              <a:ext cx="6694200" cy="39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ложить многочлен на простые множител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йти корни многочлен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зобразить их на числовой прямой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бить числовую прямую на интервалы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пределить знаки множителей на интервалах знакопостоянств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брать промежутки нужного знак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писать ответ (с помощью скобок или знаков неравенства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42920" y="1224000"/>
            <a:ext cx="2016360" cy="144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0000" y="76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План применения метода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1989000"/>
            <a:ext cx="287640" cy="289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436572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06064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47640" y="2781360"/>
          <a:ext cx="2460960" cy="4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2460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619280" y="3441600"/>
          <a:ext cx="216540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34416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44440" y="4941720"/>
          <a:ext cx="3140280" cy="50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44440" y="4941720"/>
                    <a:ext cx="31402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580000" y="2781360"/>
          <a:ext cx="2495520" cy="41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80000" y="2781360"/>
                    <a:ext cx="2495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651640" y="3441600"/>
          <a:ext cx="216036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651640" y="3441600"/>
                    <a:ext cx="2160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219640" y="4941720"/>
          <a:ext cx="3456000" cy="505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19640" y="4941720"/>
                    <a:ext cx="34560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547640" y="187668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5832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30280" y="43646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32240" y="14590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780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3440" y="14605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2056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004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692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1835280" y="5452920"/>
            <a:ext cx="1800000" cy="1289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60720" y="610092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33720" y="5950080"/>
            <a:ext cx="35910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Желаю удач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2720" y="5013360"/>
            <a:ext cx="136836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0" y="227"/>
                </a:moveTo>
                <a:lnTo>
                  <a:pt x="862" y="227"/>
                </a:lnTo>
                <a:lnTo>
                  <a:pt x="816" y="136"/>
                </a:lnTo>
                <a:lnTo>
                  <a:pt x="794" y="98"/>
                </a:lnTo>
                <a:lnTo>
                  <a:pt x="754" y="54"/>
                </a:lnTo>
                <a:lnTo>
                  <a:pt x="680" y="0"/>
                </a:lnTo>
                <a:lnTo>
                  <a:pt x="181" y="0"/>
                </a:lnTo>
                <a:lnTo>
                  <a:pt x="94" y="58"/>
                </a:lnTo>
                <a:lnTo>
                  <a:pt x="45" y="136"/>
                </a:lnTo>
                <a:lnTo>
                  <a:pt x="0" y="227"/>
                </a:lnTo>
                <a:close/>
              </a:path>
            </a:pathLst>
          </a:cu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2781360"/>
            <a:ext cx="136836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0" y="227"/>
                </a:moveTo>
                <a:lnTo>
                  <a:pt x="862" y="227"/>
                </a:lnTo>
                <a:lnTo>
                  <a:pt x="816" y="136"/>
                </a:lnTo>
                <a:lnTo>
                  <a:pt x="794" y="98"/>
                </a:lnTo>
                <a:lnTo>
                  <a:pt x="754" y="54"/>
                </a:lnTo>
                <a:lnTo>
                  <a:pt x="680" y="0"/>
                </a:lnTo>
                <a:lnTo>
                  <a:pt x="181" y="0"/>
                </a:lnTo>
                <a:lnTo>
                  <a:pt x="94" y="58"/>
                </a:lnTo>
                <a:lnTo>
                  <a:pt x="45" y="136"/>
                </a:lnTo>
                <a:lnTo>
                  <a:pt x="0" y="227"/>
                </a:lnTo>
                <a:close/>
              </a:path>
            </a:pathLst>
          </a:cu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24720" y="4981680"/>
            <a:ext cx="993960" cy="392040"/>
          </a:xfrm>
          <a:custGeom>
            <a:avLst/>
            <a:gdLst/>
            <a:ahLst/>
            <a:rect l="l" t="t" r="r" b="b"/>
            <a:pathLst>
              <a:path w="626" h="247">
                <a:moveTo>
                  <a:pt x="626" y="244"/>
                </a:moveTo>
                <a:lnTo>
                  <a:pt x="622" y="0"/>
                </a:lnTo>
                <a:lnTo>
                  <a:pt x="272" y="20"/>
                </a:lnTo>
                <a:lnTo>
                  <a:pt x="91" y="110"/>
                </a:lnTo>
                <a:lnTo>
                  <a:pt x="0" y="247"/>
                </a:lnTo>
                <a:lnTo>
                  <a:pt x="626" y="244"/>
                </a:lnTo>
                <a:close/>
              </a:path>
            </a:pathLst>
          </a:cu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9880" y="4981680"/>
            <a:ext cx="780840" cy="392040"/>
          </a:xfrm>
          <a:custGeom>
            <a:avLst/>
            <a:gdLst/>
            <a:ahLst/>
            <a:rect l="l" t="t" r="r" b="b"/>
            <a:pathLst>
              <a:path w="492" h="247">
                <a:moveTo>
                  <a:pt x="0" y="247"/>
                </a:moveTo>
                <a:lnTo>
                  <a:pt x="0" y="0"/>
                </a:lnTo>
                <a:lnTo>
                  <a:pt x="120" y="0"/>
                </a:lnTo>
                <a:lnTo>
                  <a:pt x="272" y="20"/>
                </a:lnTo>
                <a:lnTo>
                  <a:pt x="400" y="72"/>
                </a:lnTo>
                <a:lnTo>
                  <a:pt x="440" y="124"/>
                </a:lnTo>
                <a:lnTo>
                  <a:pt x="484" y="200"/>
                </a:lnTo>
                <a:lnTo>
                  <a:pt x="492" y="236"/>
                </a:lnTo>
                <a:lnTo>
                  <a:pt x="0" y="247"/>
                </a:lnTo>
                <a:close/>
              </a:path>
            </a:pathLst>
          </a:cu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2749680"/>
            <a:ext cx="993960" cy="392040"/>
          </a:xfrm>
          <a:custGeom>
            <a:avLst/>
            <a:gdLst/>
            <a:ahLst/>
            <a:rect l="l" t="t" r="r" b="b"/>
            <a:pathLst>
              <a:path w="626" h="247">
                <a:moveTo>
                  <a:pt x="626" y="244"/>
                </a:moveTo>
                <a:lnTo>
                  <a:pt x="622" y="0"/>
                </a:lnTo>
                <a:lnTo>
                  <a:pt x="272" y="20"/>
                </a:lnTo>
                <a:lnTo>
                  <a:pt x="91" y="110"/>
                </a:lnTo>
                <a:lnTo>
                  <a:pt x="0" y="247"/>
                </a:lnTo>
                <a:lnTo>
                  <a:pt x="626" y="244"/>
                </a:lnTo>
                <a:close/>
              </a:path>
            </a:pathLst>
          </a:cu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2749680"/>
            <a:ext cx="780840" cy="392040"/>
          </a:xfrm>
          <a:custGeom>
            <a:avLst/>
            <a:gdLst/>
            <a:ahLst/>
            <a:rect l="l" t="t" r="r" b="b"/>
            <a:pathLst>
              <a:path w="492" h="247">
                <a:moveTo>
                  <a:pt x="0" y="247"/>
                </a:moveTo>
                <a:lnTo>
                  <a:pt x="0" y="0"/>
                </a:lnTo>
                <a:lnTo>
                  <a:pt x="120" y="0"/>
                </a:lnTo>
                <a:lnTo>
                  <a:pt x="272" y="20"/>
                </a:lnTo>
                <a:lnTo>
                  <a:pt x="400" y="72"/>
                </a:lnTo>
                <a:lnTo>
                  <a:pt x="440" y="124"/>
                </a:lnTo>
                <a:lnTo>
                  <a:pt x="484" y="200"/>
                </a:lnTo>
                <a:lnTo>
                  <a:pt x="492" y="236"/>
                </a:lnTo>
                <a:lnTo>
                  <a:pt x="0" y="247"/>
                </a:lnTo>
                <a:close/>
              </a:path>
            </a:pathLst>
          </a:cu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1347840"/>
            <a:ext cx="68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92360" y="2133720"/>
          <a:ext cx="2460600" cy="4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2133720"/>
                    <a:ext cx="2460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724360" y="2133720"/>
          <a:ext cx="249588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24360" y="2133720"/>
                    <a:ext cx="2495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26216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2440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332000" y="3103560"/>
            <a:ext cx="3456000" cy="398880"/>
            <a:chOff x="1332000" y="3103560"/>
            <a:chExt cx="3456000" cy="398880"/>
          </a:xfrm>
        </p:grpSpPr>
        <p:sp>
          <p:nvSpPr>
            <p:cNvPr id="95" name=""/>
            <p:cNvSpPr/>
            <p:nvPr/>
          </p:nvSpPr>
          <p:spPr>
            <a:xfrm>
              <a:off x="133200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1200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508720" y="3103560"/>
            <a:ext cx="3456000" cy="398880"/>
            <a:chOff x="5508720" y="3103560"/>
            <a:chExt cx="3456000" cy="398880"/>
          </a:xfrm>
        </p:grpSpPr>
        <p:sp>
          <p:nvSpPr>
            <p:cNvPr id="98" name=""/>
            <p:cNvSpPr/>
            <p:nvPr/>
          </p:nvSpPr>
          <p:spPr>
            <a:xfrm>
              <a:off x="550872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8872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13200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872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 rot="10422000">
            <a:off x="672120" y="2752560"/>
            <a:ext cx="1441080" cy="84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06" y="11"/>
                </a:moveTo>
                <a:arcTo wR="10800" hR="10800" stAng="-5557197" swAng="5557197"/>
                <a:lnTo>
                  <a:pt x="10800" y="10800"/>
                </a:lnTo>
                <a:close/>
              </a:path>
              <a:path fill="none" w="21600" h="21600">
                <a:moveTo>
                  <a:pt x="10306" y="11"/>
                </a:moveTo>
                <a:arcTo wR="10800" hR="10800" stAng="-5557197" swAng="555719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 rot="11178000">
            <a:off x="3386880" y="2761200"/>
            <a:ext cx="1738800" cy="86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553840" y="231300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272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 rot="10422000">
            <a:off x="4919760" y="2746080"/>
            <a:ext cx="1441800" cy="84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06" y="11"/>
                </a:moveTo>
                <a:arcTo wR="10800" hR="10800" stAng="-5557197" swAng="5557197"/>
                <a:lnTo>
                  <a:pt x="10800" y="10800"/>
                </a:lnTo>
                <a:close/>
              </a:path>
              <a:path fill="none" w="21600" h="21600">
                <a:moveTo>
                  <a:pt x="10306" y="11"/>
                </a:moveTo>
                <a:arcTo wR="10800" hR="10800" stAng="-5557197" swAng="555719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 rot="11178000">
            <a:off x="7634520" y="2755080"/>
            <a:ext cx="173952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6802200" y="230652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6436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964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4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6000" y="3679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59896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5080" y="270828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83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59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052720" y="3645000"/>
          <a:ext cx="2592360" cy="460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2720" y="3645000"/>
                    <a:ext cx="25923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184480" y="5775480"/>
          <a:ext cx="1101600" cy="84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84480" y="5775480"/>
                    <a:ext cx="11016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763640" y="4330800"/>
          <a:ext cx="216540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63640" y="43308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796000" y="4330800"/>
          <a:ext cx="2160720" cy="419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96000" y="4330800"/>
                    <a:ext cx="2160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1026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652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332000" y="5337000"/>
            <a:ext cx="3456000" cy="398880"/>
            <a:chOff x="1332000" y="5337000"/>
            <a:chExt cx="3456000" cy="398880"/>
          </a:xfrm>
        </p:grpSpPr>
        <p:sp>
          <p:nvSpPr>
            <p:cNvPr id="133" name=""/>
            <p:cNvSpPr/>
            <p:nvPr/>
          </p:nvSpPr>
          <p:spPr>
            <a:xfrm>
              <a:off x="133200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1200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13200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 rot="10422000">
            <a:off x="672120" y="4986360"/>
            <a:ext cx="1441080" cy="84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06" y="11"/>
                </a:moveTo>
                <a:arcTo wR="10800" hR="10800" stAng="-5557197" swAng="5557197"/>
                <a:lnTo>
                  <a:pt x="10800" y="10800"/>
                </a:lnTo>
                <a:close/>
              </a:path>
              <a:path fill="none" w="21600" h="21600">
                <a:moveTo>
                  <a:pt x="10306" y="11"/>
                </a:moveTo>
                <a:arcTo wR="10800" hR="10800" stAng="-5557197" swAng="555719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 rot="11178000">
            <a:off x="3386880" y="4995000"/>
            <a:ext cx="173880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255384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272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508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375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423120" y="3693960"/>
          <a:ext cx="1125360" cy="454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423120" y="3693960"/>
                    <a:ext cx="112536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" name=""/>
          <p:cNvGrpSpPr/>
          <p:nvPr/>
        </p:nvGrpSpPr>
        <p:grpSpPr>
          <a:xfrm>
            <a:off x="5508720" y="5337000"/>
            <a:ext cx="3456000" cy="398880"/>
            <a:chOff x="5508720" y="5337000"/>
            <a:chExt cx="3456000" cy="398880"/>
          </a:xfrm>
        </p:grpSpPr>
        <p:sp>
          <p:nvSpPr>
            <p:cNvPr id="149" name=""/>
            <p:cNvSpPr/>
            <p:nvPr/>
          </p:nvSpPr>
          <p:spPr>
            <a:xfrm>
              <a:off x="550872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872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30872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 rot="10422000">
            <a:off x="4848840" y="4986360"/>
            <a:ext cx="1441080" cy="84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06" y="11"/>
                </a:moveTo>
                <a:arcTo wR="10800" hR="10800" stAng="-5557197" swAng="5557197"/>
                <a:lnTo>
                  <a:pt x="10800" y="10800"/>
                </a:lnTo>
                <a:close/>
              </a:path>
              <a:path fill="none" w="21600" h="21600">
                <a:moveTo>
                  <a:pt x="10306" y="11"/>
                </a:moveTo>
                <a:arcTo wR="10800" hR="10800" stAng="-5557197" swAng="555719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 rot="11178000">
            <a:off x="7563600" y="4995000"/>
            <a:ext cx="173880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673056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2944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85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180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61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92720" y="6046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195960" y="5815080"/>
          <a:ext cx="2658960" cy="853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95960" y="5815080"/>
                    <a:ext cx="265896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" descr=""/>
          <p:cNvPicPr/>
          <p:nvPr/>
        </p:nvPicPr>
        <p:blipFill>
          <a:blip r:embed="rId18"/>
          <a:srcRect l="0" t="22068" r="-14123" b="0"/>
          <a:stretch/>
        </p:blipFill>
        <p:spPr>
          <a:xfrm>
            <a:off x="4572000" y="2206800"/>
            <a:ext cx="576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0" t="39365" r="-14123" b="0"/>
          <a:stretch/>
        </p:blipFill>
        <p:spPr>
          <a:xfrm>
            <a:off x="4572000" y="2276640"/>
            <a:ext cx="576360" cy="35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1144440" y="2276640"/>
          <a:ext cx="314028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4440" y="2276640"/>
                    <a:ext cx="3140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219640" y="2276640"/>
          <a:ext cx="345600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2276640"/>
                    <a:ext cx="3456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430280" y="15548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189080" y="3141720"/>
          <a:ext cx="1727280" cy="85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908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836720" y="4208400"/>
            <a:ext cx="136836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0" y="227"/>
                </a:moveTo>
                <a:lnTo>
                  <a:pt x="862" y="227"/>
                </a:lnTo>
                <a:lnTo>
                  <a:pt x="816" y="136"/>
                </a:lnTo>
                <a:lnTo>
                  <a:pt x="794" y="98"/>
                </a:lnTo>
                <a:lnTo>
                  <a:pt x="754" y="54"/>
                </a:lnTo>
                <a:lnTo>
                  <a:pt x="680" y="0"/>
                </a:lnTo>
                <a:lnTo>
                  <a:pt x="181" y="0"/>
                </a:lnTo>
                <a:lnTo>
                  <a:pt x="94" y="58"/>
                </a:lnTo>
                <a:lnTo>
                  <a:pt x="45" y="136"/>
                </a:lnTo>
                <a:lnTo>
                  <a:pt x="0" y="227"/>
                </a:lnTo>
                <a:close/>
              </a:path>
            </a:pathLst>
          </a:cu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116000" y="4532400"/>
            <a:ext cx="3456000" cy="398880"/>
            <a:chOff x="1116000" y="4532400"/>
            <a:chExt cx="3456000" cy="398880"/>
          </a:xfrm>
        </p:grpSpPr>
        <p:sp>
          <p:nvSpPr>
            <p:cNvPr id="179" name=""/>
            <p:cNvSpPr/>
            <p:nvPr/>
          </p:nvSpPr>
          <p:spPr>
            <a:xfrm>
              <a:off x="111600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9600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06072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 rot="10422000">
            <a:off x="456120" y="4181400"/>
            <a:ext cx="1441080" cy="84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06" y="11"/>
                </a:moveTo>
                <a:arcTo wR="10800" hR="10800" stAng="-5557197" swAng="5557197"/>
                <a:lnTo>
                  <a:pt x="10800" y="10800"/>
                </a:lnTo>
                <a:close/>
              </a:path>
              <a:path fill="none" w="21600" h="21600">
                <a:moveTo>
                  <a:pt x="10306" y="11"/>
                </a:moveTo>
                <a:arcTo wR="10800" hR="10800" stAng="-5557197" swAng="555719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 rot="11178000">
            <a:off x="3170520" y="4190040"/>
            <a:ext cx="173952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233820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6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236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979640" y="5002200"/>
          <a:ext cx="863640" cy="51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964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219640" y="3141720"/>
          <a:ext cx="1727280" cy="852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964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013440" y="4208400"/>
            <a:ext cx="136836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0" y="227"/>
                </a:moveTo>
                <a:lnTo>
                  <a:pt x="862" y="227"/>
                </a:lnTo>
                <a:lnTo>
                  <a:pt x="816" y="136"/>
                </a:lnTo>
                <a:lnTo>
                  <a:pt x="794" y="98"/>
                </a:lnTo>
                <a:lnTo>
                  <a:pt x="754" y="54"/>
                </a:lnTo>
                <a:lnTo>
                  <a:pt x="680" y="0"/>
                </a:lnTo>
                <a:lnTo>
                  <a:pt x="181" y="0"/>
                </a:lnTo>
                <a:lnTo>
                  <a:pt x="94" y="58"/>
                </a:lnTo>
                <a:lnTo>
                  <a:pt x="45" y="136"/>
                </a:lnTo>
                <a:lnTo>
                  <a:pt x="0" y="227"/>
                </a:lnTo>
                <a:close/>
              </a:path>
            </a:pathLst>
          </a:cu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92720" y="4532400"/>
            <a:ext cx="3456000" cy="398880"/>
            <a:chOff x="5292720" y="4532400"/>
            <a:chExt cx="3456000" cy="398880"/>
          </a:xfrm>
        </p:grpSpPr>
        <p:sp>
          <p:nvSpPr>
            <p:cNvPr id="198" name=""/>
            <p:cNvSpPr/>
            <p:nvPr/>
          </p:nvSpPr>
          <p:spPr>
            <a:xfrm>
              <a:off x="529272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7272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23744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 rot="10422000">
            <a:off x="4632840" y="4181400"/>
            <a:ext cx="1441080" cy="84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06" y="11"/>
                </a:moveTo>
                <a:arcTo wR="10800" hR="10800" stAng="-5557197" swAng="5557197"/>
                <a:lnTo>
                  <a:pt x="10800" y="10800"/>
                </a:lnTo>
                <a:close/>
              </a:path>
              <a:path fill="none" w="21600" h="21600">
                <a:moveTo>
                  <a:pt x="10306" y="11"/>
                </a:moveTo>
                <a:arcTo wR="10800" hR="10800" stAng="-5557197" swAng="555719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 rot="11178000">
            <a:off x="7347240" y="4190040"/>
            <a:ext cx="173952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651492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344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08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908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1964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6908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1672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156360" y="5002200"/>
          <a:ext cx="863640" cy="517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5636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116000" y="2781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48360" y="28162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132000" y="1712880"/>
            <a:ext cx="5761080" cy="1079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35280" y="69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Оценка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92360" y="1712880"/>
            <a:ext cx="5183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каждый верно выполненный пример – поставьте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56000" y="390852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 – удовлетворительно, «3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45561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 – хорошо, «4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56000" y="52768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 – отлично, «5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32590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баллов – плохо,  «2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2233800" cy="1600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556000" y="227664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237440" y="4516560"/>
            <a:ext cx="1100160" cy="390240"/>
          </a:xfrm>
          <a:custGeom>
            <a:avLst/>
            <a:gdLst/>
            <a:ahLst/>
            <a:rect l="l" t="t" r="r" b="b"/>
            <a:pathLst>
              <a:path w="693" h="246">
                <a:moveTo>
                  <a:pt x="693" y="246"/>
                </a:moveTo>
                <a:lnTo>
                  <a:pt x="693" y="0"/>
                </a:lnTo>
                <a:lnTo>
                  <a:pt x="495" y="3"/>
                </a:lnTo>
                <a:lnTo>
                  <a:pt x="276" y="33"/>
                </a:lnTo>
                <a:lnTo>
                  <a:pt x="90" y="85"/>
                </a:lnTo>
                <a:lnTo>
                  <a:pt x="0" y="160"/>
                </a:lnTo>
                <a:lnTo>
                  <a:pt x="3" y="246"/>
                </a:lnTo>
                <a:lnTo>
                  <a:pt x="693" y="246"/>
                </a:lnTo>
                <a:close/>
              </a:path>
            </a:pathLst>
          </a:cu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13200" y="4506840"/>
            <a:ext cx="1209600" cy="409680"/>
          </a:xfrm>
          <a:custGeom>
            <a:avLst/>
            <a:gdLst/>
            <a:ahLst/>
            <a:rect l="l" t="t" r="r" b="b"/>
            <a:pathLst>
              <a:path w="762" h="258">
                <a:moveTo>
                  <a:pt x="0" y="258"/>
                </a:moveTo>
                <a:lnTo>
                  <a:pt x="762" y="252"/>
                </a:lnTo>
                <a:lnTo>
                  <a:pt x="747" y="189"/>
                </a:lnTo>
                <a:lnTo>
                  <a:pt x="738" y="132"/>
                </a:lnTo>
                <a:lnTo>
                  <a:pt x="711" y="75"/>
                </a:lnTo>
                <a:lnTo>
                  <a:pt x="654" y="6"/>
                </a:lnTo>
                <a:lnTo>
                  <a:pt x="114" y="0"/>
                </a:lnTo>
                <a:lnTo>
                  <a:pt x="39" y="66"/>
                </a:lnTo>
                <a:lnTo>
                  <a:pt x="3" y="162"/>
                </a:lnTo>
                <a:lnTo>
                  <a:pt x="0" y="258"/>
                </a:lnTo>
                <a:close/>
              </a:path>
            </a:pathLst>
          </a:cu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rcRect l="0" t="0" r="0" b="20914"/>
          <a:stretch/>
        </p:blipFill>
        <p:spPr>
          <a:xfrm>
            <a:off x="1476360" y="4483080"/>
            <a:ext cx="7056360" cy="817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484360" y="1125360"/>
            <a:ext cx="6588360" cy="115272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69120" y="548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708360" y="522360"/>
          <a:ext cx="515304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522360"/>
                    <a:ext cx="51530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1" name=""/>
          <p:cNvGrpSpPr/>
          <p:nvPr/>
        </p:nvGrpSpPr>
        <p:grpSpPr>
          <a:xfrm>
            <a:off x="2556000" y="1125360"/>
            <a:ext cx="6984720" cy="1241280"/>
            <a:chOff x="2556000" y="1125360"/>
            <a:chExt cx="6984720" cy="1241280"/>
          </a:xfrm>
        </p:grpSpPr>
        <p:sp>
          <p:nvSpPr>
            <p:cNvPr id="232" name=""/>
            <p:cNvSpPr/>
            <p:nvPr/>
          </p:nvSpPr>
          <p:spPr>
            <a:xfrm>
              <a:off x="2556000" y="1125360"/>
              <a:ext cx="698472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Если в разложении многочлена на множители входит сомножитель                   , то говорят, что  -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рень многочлена кратност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3" name=""/>
            <p:cNvGraphicFramePr/>
            <p:nvPr/>
          </p:nvGraphicFramePr>
          <p:xfrm>
            <a:off x="4378320" y="1414080"/>
            <a:ext cx="1130400" cy="57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78320" y="1414080"/>
                      <a:ext cx="11304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5" name=""/>
          <p:cNvSpPr/>
          <p:nvPr/>
        </p:nvSpPr>
        <p:spPr>
          <a:xfrm>
            <a:off x="1079640" y="2421000"/>
            <a:ext cx="78483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многочлен имеет кор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5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6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2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3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1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2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3716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несем эти корни на числовую 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4720" y="530064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на каждом интерва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42160" y="450684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57800" y="45226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0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9416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44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05080" y="443556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-3636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532320" y="5805360"/>
          <a:ext cx="417348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32320" y="5805360"/>
                    <a:ext cx="4173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044720" y="58053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ем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2920" y="6272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Рассмотрим смену знаков в корнях различной кратност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0836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9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9564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93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61080" y="41529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26920" y="1125360"/>
            <a:ext cx="1800360" cy="1289160"/>
            <a:chOff x="826920" y="1125360"/>
            <a:chExt cx="1800360" cy="1289160"/>
          </a:xfrm>
        </p:grpSpPr>
        <p:pic>
          <p:nvPicPr>
            <p:cNvPr id="255" name="" descr=""/>
            <p:cNvPicPr/>
            <p:nvPr/>
          </p:nvPicPr>
          <p:blipFill>
            <a:blip r:embed="rId9"/>
            <a:stretch/>
          </p:blipFill>
          <p:spPr>
            <a:xfrm>
              <a:off x="826920" y="1125360"/>
              <a:ext cx="180036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2052720" y="1773360"/>
              <a:ext cx="28728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427640" y="476280"/>
            <a:ext cx="4032000" cy="3097080"/>
            <a:chOff x="4427640" y="476280"/>
            <a:chExt cx="4032000" cy="3097080"/>
          </a:xfrm>
        </p:grpSpPr>
        <p:sp>
          <p:nvSpPr>
            <p:cNvPr id="258" name=""/>
            <p:cNvSpPr/>
            <p:nvPr/>
          </p:nvSpPr>
          <p:spPr>
            <a:xfrm>
              <a:off x="442764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9928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835280" y="476280"/>
            <a:ext cx="5473440" cy="3097080"/>
            <a:chOff x="1835280" y="476280"/>
            <a:chExt cx="5473440" cy="3097080"/>
          </a:xfrm>
        </p:grpSpPr>
        <p:sp>
          <p:nvSpPr>
            <p:cNvPr id="261" name=""/>
            <p:cNvSpPr/>
            <p:nvPr/>
          </p:nvSpPr>
          <p:spPr>
            <a:xfrm>
              <a:off x="183528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4836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427640" y="476280"/>
            <a:ext cx="1584360" cy="2665440"/>
            <a:chOff x="4427640" y="476280"/>
            <a:chExt cx="1584360" cy="2665440"/>
          </a:xfrm>
        </p:grpSpPr>
        <p:sp>
          <p:nvSpPr>
            <p:cNvPr id="264" name=""/>
            <p:cNvSpPr/>
            <p:nvPr/>
          </p:nvSpPr>
          <p:spPr>
            <a:xfrm>
              <a:off x="442764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8000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835280" y="476280"/>
            <a:ext cx="3025800" cy="2665440"/>
            <a:chOff x="1835280" y="476280"/>
            <a:chExt cx="3025800" cy="2665440"/>
          </a:xfrm>
        </p:grpSpPr>
        <p:sp>
          <p:nvSpPr>
            <p:cNvPr id="267" name=""/>
            <p:cNvSpPr/>
            <p:nvPr/>
          </p:nvSpPr>
          <p:spPr>
            <a:xfrm>
              <a:off x="183528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00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084720" y="476280"/>
            <a:ext cx="2448000" cy="2665440"/>
            <a:chOff x="6084720" y="476280"/>
            <a:chExt cx="2448000" cy="2665440"/>
          </a:xfrm>
        </p:grpSpPr>
        <p:sp>
          <p:nvSpPr>
            <p:cNvPr id="270" name=""/>
            <p:cNvSpPr/>
            <p:nvPr/>
          </p:nvSpPr>
          <p:spPr>
            <a:xfrm>
              <a:off x="694836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84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19564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3528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9420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600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20000" y="5013360"/>
            <a:ext cx="43164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195640" y="3308400"/>
            <a:ext cx="5689440" cy="79200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22560" y="1795320"/>
            <a:ext cx="5689440" cy="79236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286000" y="1846440"/>
          <a:ext cx="5300640" cy="57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846440"/>
                    <a:ext cx="5300640" cy="57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286000" y="3382920"/>
          <a:ext cx="5092560" cy="57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3382920"/>
                    <a:ext cx="5092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3348000" y="692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4200" y="134136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94200" y="28684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48000" y="4292640"/>
            <a:ext cx="56149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делайте выводы о смене знака на интервалах, в зависимости от степени кратности кор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6"/>
          <a:stretch/>
        </p:blipFill>
        <p:spPr>
          <a:xfrm>
            <a:off x="1042920" y="4292640"/>
            <a:ext cx="223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87280" y="69228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Обобщая ваши наблюдения, делаем 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114560" y="3139920"/>
            <a:ext cx="7850160" cy="1271880"/>
            <a:chOff x="1114560" y="3139920"/>
            <a:chExt cx="7850160" cy="1271880"/>
          </a:xfrm>
        </p:grpSpPr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1114560" y="317340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916360" y="313992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3211560"/>
              <a:ext cx="583236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один и тот же зна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не 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68360" y="3860640"/>
              <a:ext cx="265320" cy="26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042920" y="4782960"/>
            <a:ext cx="7921800" cy="1238400"/>
            <a:chOff x="1042920" y="4782960"/>
            <a:chExt cx="7921800" cy="1238400"/>
          </a:xfrm>
        </p:grpSpPr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1042920" y="478296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916360" y="479736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00360" y="4853160"/>
              <a:ext cx="619272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не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противоположные зна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из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95640" y="5443560"/>
              <a:ext cx="26496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114560" y="1471680"/>
            <a:ext cx="7850160" cy="1380960"/>
            <a:chOff x="1114560" y="1471680"/>
            <a:chExt cx="7850160" cy="1380960"/>
          </a:xfrm>
        </p:grpSpPr>
        <p:sp>
          <p:nvSpPr>
            <p:cNvPr id="300" name=""/>
            <p:cNvSpPr/>
            <p:nvPr/>
          </p:nvSpPr>
          <p:spPr>
            <a:xfrm>
              <a:off x="2916360" y="162864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87640" y="1790640"/>
              <a:ext cx="583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ля решения неравенства важно знать, является ли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четным или нечетным число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4"/>
            <a:stretch/>
          </p:blipFill>
          <p:spPr>
            <a:xfrm>
              <a:off x="1114560" y="1471680"/>
              <a:ext cx="172872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2268360" y="2133720"/>
              <a:ext cx="26532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06:21:21Z</dcterms:created>
  <dc:creator>NOUT_1</dc:creator>
  <dc:description/>
  <dc:language>en-US</dc:language>
  <cp:lastModifiedBy>1</cp:lastModifiedBy>
  <dcterms:modified xsi:type="dcterms:W3CDTF">2010-09-05T18:23:44Z</dcterms:modified>
  <cp:revision>18</cp:revision>
  <dc:subject/>
  <dc:title>Слайд 1</dc:title>
</cp:coreProperties>
</file>