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6E6-5582-445F-9F8A-8E1A68BE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375-1122-41CC-9CE8-819D8497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2BC-0080-4691-9BBB-2384DDA6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C1C-C009-400E-9FE8-B156C439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A513B-2620-4D42-BAFD-9CBB3265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6F5E4-F0FE-4600-8C51-B8A59B9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7366-8EAB-4E3E-8290-F57FCE31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4C9A-7D44-4215-B0EF-EE00153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80B96-1177-44CB-8883-CB9B14A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0F9FB-406E-4029-A402-BB3DC49E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5402C-E05A-4280-B999-7F4AA29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50B-5D74-497C-BFAC-B0B610A4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9E58-47CC-43EC-83C6-6FAF6338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263A1-3827-49E2-9889-C1D1CF7B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8DABA-AB54-47D3-978A-40034D1C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FDCD4-658A-49C2-BFD5-9F28410F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C96AA-CD3D-44F6-A802-42CE7671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3C17-CA2C-4CF0-BF9D-77209C7C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79FD-6D9D-49F4-AAF4-16FF799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772A-C334-4321-B49C-3755453B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AB53-8A05-4EE0-B98B-440D314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D00C-914A-4E7B-B4F7-B7FC0ADF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945-2927-4B63-B9A6-23234F3B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D65C-D799-430B-A734-3DA63A5A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7D83-8BB4-4FD9-85AD-31A2B87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E3DD-56B4-42CF-8ECA-472C7338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DF4D-A1ED-4051-912B-B84B204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2DDF-9C1D-4065-A823-EBE4E43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BBE6-1BAA-45AE-B890-41E2B4B4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03C9-E4FE-4D53-AA1A-AA7F1381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A2520-CA48-43C3-8CD0-F7AD2D02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7D73C-C370-457C-B5FA-F91393CD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C5F2E-D5FB-4F5C-A6BE-E14F6CF1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E16-E4C3-4B83-B527-9E94E37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CF76B-C5D5-41C8-9640-0C81D9CB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F5CB1-BBEF-49A9-B283-07489F11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21180-D9D5-4483-81D7-58F92D77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EF2ED-A96D-4E3A-A227-06C253AB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FE500-9579-4B24-8966-D55A4E7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8A26E-2FDD-4717-A549-0D3066D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7E3FD-2B2A-41C3-9077-7995983E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857DB-D67B-46D4-8015-03B30FB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F99E9-FB23-499B-8C54-E0EA5288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14A-DCB0-45B6-81DD-6B34E00B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238-7F5B-4CF3-8BE8-903C600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9BF-730C-4CAD-BC8D-B99FC20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156-7979-4187-9F72-3647C82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35A-55BC-445B-8795-261D836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4D0-AD4E-4202-97EB-B8EAF3067504}" type="slidenum">
              <a:rPr b="0" lang="ru-RU" sz="1600" spc="-1" strike="noStrike">
                <a:solidFill>
                  <a:srgbClr val="e3ded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f2936"/>
          </a:solidFill>
          <a:ln w="25560">
            <a:solidFill>
              <a:srgbClr val="9f293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BCC3-2B17-458B-8330-5150AFA9F315}" type="slidenum">
              <a:rPr b="0" lang="ru-RU" sz="1600" spc="-1" strike="noStrike">
                <a:solidFill>
                  <a:srgbClr val="e3ded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CE62-AE9B-4FA6-B65D-725751A71154}" type="slidenum">
              <a:rPr b="0" lang="ru-RU" sz="1600" spc="-1" strike="noStrike">
                <a:solidFill>
                  <a:srgbClr val="e3ded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D8F0-0A74-4EEE-AE88-F093DD2B33F8}" type="slidenum">
              <a:rPr b="0" lang="ru-RU" sz="1600" spc="-1" strike="noStrike">
                <a:solidFill>
                  <a:srgbClr val="e3ded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762560" y="549360"/>
            <a:ext cx="52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ающий мир 4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К «Перспективная нача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944640"/>
            <a:ext cx="8790120" cy="5243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5006880" y="5157720"/>
            <a:ext cx="386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ытова Ирина Ив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Нижнемуллинская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6" descr="2 006.jpg"/>
          <p:cNvPicPr/>
          <p:nvPr/>
        </p:nvPicPr>
        <p:blipFill>
          <a:blip r:embed="rId1"/>
          <a:stretch/>
        </p:blipFill>
        <p:spPr>
          <a:xfrm>
            <a:off x="3786120" y="428760"/>
            <a:ext cx="3429000" cy="6145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-2728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14920" y="714240"/>
            <a:ext cx="4562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ВАН 1, КАЛИ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 I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304920" y="528624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лита» – др.рус. – «кошел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шок с деньг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2" descr="2 003.jpg"/>
          <p:cNvPicPr/>
          <p:nvPr/>
        </p:nvPicPr>
        <p:blipFill>
          <a:blip r:embed="rId1"/>
          <a:stretch/>
        </p:blipFill>
        <p:spPr>
          <a:xfrm>
            <a:off x="2071800" y="214200"/>
            <a:ext cx="4910040" cy="5997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34560" y="5357880"/>
            <a:ext cx="91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ительство белокаменного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Москве. 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6429240" y="357120"/>
            <a:ext cx="24148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2 00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85840" y="357120"/>
            <a:ext cx="865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2033640" y="5176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20" y="214200"/>
            <a:ext cx="8259840" cy="62182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1448280" y="5643720"/>
            <a:ext cx="643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вещенский  со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осковском Кремле. Конец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1" descr=""/>
          <p:cNvPicPr/>
          <p:nvPr/>
        </p:nvPicPr>
        <p:blipFill>
          <a:blip r:embed="rId1"/>
          <a:stretch/>
        </p:blipFill>
        <p:spPr>
          <a:xfrm>
            <a:off x="225360" y="1871640"/>
            <a:ext cx="8778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1" descr=""/>
          <p:cNvPicPr/>
          <p:nvPr/>
        </p:nvPicPr>
        <p:blipFill>
          <a:blip r:embed="rId1"/>
          <a:stretch/>
        </p:blipFill>
        <p:spPr>
          <a:xfrm>
            <a:off x="1182600" y="0"/>
            <a:ext cx="6340680" cy="1809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468360" y="1214280"/>
            <a:ext cx="31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Река   Не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4815000" y="214308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Крестонос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3900600" y="2928960"/>
            <a:ext cx="52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Ледовое   побоищ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654120" y="3643200"/>
            <a:ext cx="23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1242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-204840" y="4572000"/>
            <a:ext cx="778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«Кто с мечом к нам придё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от меча и погибнет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6786720" y="4213080"/>
            <a:ext cx="1857240" cy="206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42960" y="1928880"/>
            <a:ext cx="2835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Acer 5740G\Pictures\2011-09-15 4\4 001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47628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81240" y="1916280"/>
            <a:ext cx="2678040" cy="2981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3097080" cy="231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 rot="20406000">
            <a:off x="5651280" y="3644640"/>
            <a:ext cx="2547720" cy="283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 rot="20305800">
            <a:off x="4067280" y="25992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5"/>
          <a:stretch/>
        </p:blipFill>
        <p:spPr>
          <a:xfrm rot="959400">
            <a:off x="6119280" y="993240"/>
            <a:ext cx="3024360" cy="2257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6"/>
          <a:stretch/>
        </p:blipFill>
        <p:spPr>
          <a:xfrm rot="20733600">
            <a:off x="509400" y="2303640"/>
            <a:ext cx="2352600" cy="2619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7"/>
          <a:stretch/>
        </p:blipFill>
        <p:spPr>
          <a:xfrm rot="1074600">
            <a:off x="468360" y="404280"/>
            <a:ext cx="2663640" cy="19893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2"/>
          <p:cNvSpPr txBox="1"/>
          <p:nvPr/>
        </p:nvSpPr>
        <p:spPr>
          <a:xfrm>
            <a:off x="826920" y="1125360"/>
            <a:ext cx="6696360" cy="49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ск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686160" y="907920"/>
            <a:ext cx="316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Ю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лгору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6210720" y="59691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.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2 009.jpg"/>
          <p:cNvPicPr/>
          <p:nvPr/>
        </p:nvPicPr>
        <p:blipFill>
          <a:blip r:embed="rId1"/>
          <a:stretch/>
        </p:blipFill>
        <p:spPr>
          <a:xfrm>
            <a:off x="428760" y="2928960"/>
            <a:ext cx="5972040" cy="3500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5000760" y="357120"/>
            <a:ext cx="3595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Acer 5740G\Pictures\2011-09-18 1\1 001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28800" y="214200"/>
            <a:ext cx="7286400" cy="6407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945360" y="35712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ирание земель вокруг Москв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 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2 009.jpg"/>
          <p:cNvPicPr/>
          <p:nvPr/>
        </p:nvPicPr>
        <p:blipFill>
          <a:blip r:embed="rId1"/>
          <a:stretch/>
        </p:blipFill>
        <p:spPr>
          <a:xfrm>
            <a:off x="250920" y="476280"/>
            <a:ext cx="8566200" cy="5759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648720" y="642924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. 3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001840" y="16060680"/>
            <a:ext cx="1928880" cy="3156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Acer 5740G\Pictures\2011-09-18 1\1 001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500040"/>
            <a:ext cx="8618760" cy="55008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863280" y="63579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.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6332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934920" y="62866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.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7:17:39Z</dcterms:created>
  <dc:creator>Dell</dc:creator>
  <dc:description/>
  <dc:language>en-US</dc:language>
  <cp:lastModifiedBy>Acer 5740G</cp:lastModifiedBy>
  <dcterms:modified xsi:type="dcterms:W3CDTF">2012-01-04T10:47:44Z</dcterms:modified>
  <cp:revision>14</cp:revision>
  <dc:subject/>
  <dc:title>Слайд 1</dc:title>
</cp:coreProperties>
</file>