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8.wmf" ContentType="image/x-wmf"/>
  <Override PartName="/ppt/media/cashreg.wav" ContentType="audio/x-wav"/>
  <Override PartName="/ppt/media/image7.png" ContentType="image/png"/>
  <Override PartName="/ppt/media/image6.wmf" ContentType="image/x-wmf"/>
  <Override PartName="/ppt/media/image19.jpeg" ContentType="image/jpeg"/>
  <Override PartName="/ppt/media/image11.gif" ContentType="image/gif"/>
  <Override PartName="/ppt/media/image9.wmf" ContentType="image/x-wmf"/>
  <Override PartName="/ppt/media/image10.jpeg" ContentType="image/jpeg"/>
  <Override PartName="/ppt/media/image5.jpeg" ContentType="image/jpeg"/>
  <Override PartName="/ppt/media/image21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6.wmf" ContentType="image/x-wmf"/>
  <Override PartName="/ppt/media/image14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21A-00E0-4350-9F28-262DFED2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949-22DD-45D7-9B44-40B9ABCB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966-3579-4344-94E8-F0C511FB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3B5-700C-439B-A378-7E8A59B4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8670-B26C-4FB0-B2F3-FA53785F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D806-B788-4FBE-91C2-B27670E8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4386-6C50-4584-94CD-67E7C69B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7E64-6C8A-4948-9E68-8282A7BC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7902-8DEE-4B36-8757-C5A25F16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7CBD-8B1F-43D8-BD9F-A7ED9653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FD9F-4279-41C2-8304-3FC92C2B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3AC-8F2E-490B-8814-75B72E1E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56D4-ACC0-4984-8AD8-A8BC6CB4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704-459C-4880-B796-8A3153F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8481-4670-4BD4-B0BE-6F4270B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E1EC-E94D-449B-BC24-D7222D54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C780-7E86-423F-9F20-B4FAA56F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E28-526A-4A2F-8DA5-699FE615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68C-F084-485B-8422-89D93340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470-4CD8-41BA-BC39-7C0BFE5F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190-0E31-468A-8B7A-2F4002A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D1A-E3F5-41A4-8224-D2F4B8AC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067-D436-449A-B6B0-F325CC1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138-A0EE-462C-9719-45603E9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312-B60F-4E7C-9E66-CEBB3512222E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1D2B-CF0E-4913-A6A7-0AC9900C66FB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audio" Target="../media/cashreg.wav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19240" y="1365120"/>
            <a:ext cx="8723160" cy="1895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нятие «Школы юного филолог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000080" y="35712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МОУ «СОШ №13 с УИОП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Этимология 3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вляются ли этимологически родственными слов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овля, кровать, покрывал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58" name="Управляющая кнопка: домой 3"/>
          <p:cNvGrpSpPr/>
          <p:nvPr/>
        </p:nvGrpSpPr>
        <p:grpSpPr>
          <a:xfrm>
            <a:off x="7424640" y="4608360"/>
            <a:ext cx="1189080" cy="1189080"/>
            <a:chOff x="7424640" y="4608360"/>
            <a:chExt cx="1189080" cy="1189080"/>
          </a:xfrm>
        </p:grpSpPr>
        <p:pic>
          <p:nvPicPr>
            <p:cNvPr id="159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424640" y="460836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500960" y="4643280"/>
              <a:ext cx="104292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61" name="TextBox 8"/>
          <p:cNvSpPr/>
          <p:nvPr/>
        </p:nvSpPr>
        <p:spPr>
          <a:xfrm>
            <a:off x="5143680" y="214200"/>
            <a:ext cx="3786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Являются кровля и покрывало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В них чередуются В/В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Кровля – общеслав. – от слова «кров». От этого слова происходят слова: кров, сокровище, покров, крыша, покрывал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Кровать не родственное, оно древнерус., заимств. из греческого. Кровать – буквально «ложе из дуба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2" name="Содержимое 10" descr="кровать.jpg"/>
          <p:cNvPicPr/>
          <p:nvPr/>
        </p:nvPicPr>
        <p:blipFill>
          <a:blip r:embed="rId3"/>
          <a:stretch/>
        </p:blipFill>
        <p:spPr>
          <a:xfrm>
            <a:off x="857160" y="4429080"/>
            <a:ext cx="1449360" cy="1930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1" descr="сон.gif"/>
          <p:cNvPicPr/>
          <p:nvPr/>
        </p:nvPicPr>
        <p:blipFill>
          <a:blip r:embed="rId4"/>
          <a:stretch/>
        </p:blipFill>
        <p:spPr>
          <a:xfrm>
            <a:off x="285840" y="4143240"/>
            <a:ext cx="1116000" cy="857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домик 3.wmf"/>
          <p:cNvPicPr/>
          <p:nvPr/>
        </p:nvPicPr>
        <p:blipFill>
          <a:blip r:embed="rId5"/>
          <a:stretch/>
        </p:blipFill>
        <p:spPr>
          <a:xfrm>
            <a:off x="2714760" y="3786120"/>
            <a:ext cx="2894040" cy="2524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6" name="cashreg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Этимология 4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вляются ли этимологически родственными слов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втра, заутреня, завтра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67" name="Управляющая кнопка: домой 3"/>
          <p:cNvGrpSpPr/>
          <p:nvPr/>
        </p:nvGrpSpPr>
        <p:grpSpPr>
          <a:xfrm>
            <a:off x="7711920" y="249120"/>
            <a:ext cx="1187640" cy="1189080"/>
            <a:chOff x="7711920" y="249120"/>
            <a:chExt cx="1187640" cy="1189080"/>
          </a:xfrm>
        </p:grpSpPr>
        <p:pic>
          <p:nvPicPr>
            <p:cNvPr id="168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11920" y="249120"/>
              <a:ext cx="1187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786800" y="28584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70" name="TextBox 8"/>
          <p:cNvSpPr/>
          <p:nvPr/>
        </p:nvSpPr>
        <p:spPr>
          <a:xfrm>
            <a:off x="4500720" y="1714680"/>
            <a:ext cx="435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Завтра – общеслав. Сращение за+утра с изменением безударного У в В. Буквально «время, следующее за утром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Заутреня – завтрак – общеслав. За+утра. Первоначально заутръкъ – заутрок – завтрак. О перешло в А после закрепления аканья, а У перешло в В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Содержимое 10" descr="Федотов Завтрак аристократа.jpg"/>
          <p:cNvPicPr/>
          <p:nvPr/>
        </p:nvPicPr>
        <p:blipFill>
          <a:blip r:embed="rId3"/>
          <a:stretch/>
        </p:blipFill>
        <p:spPr>
          <a:xfrm>
            <a:off x="2428920" y="3929040"/>
            <a:ext cx="1920960" cy="2492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Этимология 5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773000"/>
            <a:ext cx="38577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вляются ли этимологически родственными слов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едомость, вожак, вожделение, проводни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74" name="Управляющая кнопка: домой 3"/>
          <p:cNvGrpSpPr/>
          <p:nvPr/>
        </p:nvGrpSpPr>
        <p:grpSpPr>
          <a:xfrm>
            <a:off x="7711920" y="249120"/>
            <a:ext cx="1187640" cy="1189080"/>
            <a:chOff x="7711920" y="249120"/>
            <a:chExt cx="1187640" cy="1189080"/>
          </a:xfrm>
        </p:grpSpPr>
        <p:pic>
          <p:nvPicPr>
            <p:cNvPr id="17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11920" y="249120"/>
              <a:ext cx="1187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786800" y="28584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177" name="Содержимое 10" descr="Воины скульптура.jpg"/>
          <p:cNvPicPr/>
          <p:nvPr/>
        </p:nvPicPr>
        <p:blipFill>
          <a:blip r:embed="rId3"/>
          <a:stretch/>
        </p:blipFill>
        <p:spPr>
          <a:xfrm>
            <a:off x="428760" y="4357800"/>
            <a:ext cx="1923840" cy="20286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1" descr="свиток 2.png"/>
          <p:cNvPicPr/>
          <p:nvPr/>
        </p:nvPicPr>
        <p:blipFill>
          <a:blip r:embed="rId4"/>
          <a:stretch/>
        </p:blipFill>
        <p:spPr>
          <a:xfrm>
            <a:off x="2000160" y="5857920"/>
            <a:ext cx="174168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2"/>
          <p:cNvSpPr/>
          <p:nvPr/>
        </p:nvSpPr>
        <p:spPr>
          <a:xfrm>
            <a:off x="4357800" y="1714680"/>
            <a:ext cx="414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Вожак и проводник этимологически родственные слова, в них чередуются Ж/Д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Вожак – тот, кто ведёт, идёт вперед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Проводник – тот, кто проводит, указывает пу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Вожделение также родственное слово, в нём чередуются ЖД/Ж/Д. Это слово старослав. Буквально «то, что двигает чувствами, желаниями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Ведомость не этимологически родственное, оно от слова «ведать» то есть «знать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5" name="cashreg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Объясни фразеологизм 1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пределите значение приведённых фразеологизмов и подберите к ним: А) синонимичные фразеологизмы, Б) антонимичные фразеологизм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 всех ног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т наплака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агон и маленькая тележ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82" name="Управляющая кнопка: домой 3"/>
          <p:cNvGrpSpPr/>
          <p:nvPr/>
        </p:nvGrpSpPr>
        <p:grpSpPr>
          <a:xfrm>
            <a:off x="7711920" y="249120"/>
            <a:ext cx="1187640" cy="1189080"/>
            <a:chOff x="7711920" y="249120"/>
            <a:chExt cx="1187640" cy="1189080"/>
          </a:xfrm>
        </p:grpSpPr>
        <p:pic>
          <p:nvPicPr>
            <p:cNvPr id="183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11920" y="249120"/>
              <a:ext cx="1187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786800" y="28584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 всех ног – очень быстро, на всех парах, во весь дух; черепашьим шагом, нога за ног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т наплакал – мало, не ахти сколько; сила несметная, тьма-тьмуща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агон и маленькая тележка – очень много (см. кот наплакал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Объясни фразеологизм 2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амоклов ме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ватать с неба звёзд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лать погод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тча во языце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88" name="Управляющая кнопка: домой 3"/>
          <p:cNvGrpSpPr/>
          <p:nvPr/>
        </p:nvGrpSpPr>
        <p:grpSpPr>
          <a:xfrm>
            <a:off x="7211880" y="5175360"/>
            <a:ext cx="1189080" cy="1189080"/>
            <a:chOff x="7211880" y="5175360"/>
            <a:chExt cx="1189080" cy="1189080"/>
          </a:xfrm>
        </p:grpSpPr>
        <p:pic>
          <p:nvPicPr>
            <p:cNvPr id="189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11880" y="517536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286760" y="521496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191" name="Содержимое 11" descr="звезда.wmf"/>
          <p:cNvPicPr/>
          <p:nvPr/>
        </p:nvPicPr>
        <p:blipFill>
          <a:blip r:embed="rId3"/>
          <a:stretch/>
        </p:blipFill>
        <p:spPr>
          <a:xfrm>
            <a:off x="714240" y="4143240"/>
            <a:ext cx="1762200" cy="1819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2" descr="звезда 1.gif"/>
          <p:cNvPicPr/>
          <p:nvPr/>
        </p:nvPicPr>
        <p:blipFill>
          <a:blip r:embed="rId4"/>
          <a:stretch/>
        </p:blipFill>
        <p:spPr>
          <a:xfrm>
            <a:off x="857160" y="0"/>
            <a:ext cx="962280" cy="10573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3" descr="звезда 2.gif"/>
          <p:cNvPicPr/>
          <p:nvPr/>
        </p:nvPicPr>
        <p:blipFill>
          <a:blip r:embed="rId5"/>
          <a:stretch/>
        </p:blipFill>
        <p:spPr>
          <a:xfrm>
            <a:off x="3214800" y="4000680"/>
            <a:ext cx="752400" cy="7524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4"/>
          <p:cNvSpPr/>
          <p:nvPr/>
        </p:nvSpPr>
        <p:spPr>
          <a:xfrm>
            <a:off x="4357800" y="1785960"/>
            <a:ext cx="45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амоклов меч – о постоянно грозящей опасно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ватать с неба звёзды – легко добиваться успех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елать погоду – иметь решающее значение в каком-нибудь дел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тча во языцех – предмет всеобщих разговор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6" name="cashreg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11" descr="41 Иван Грозный.JPG"/>
          <p:cNvPicPr/>
          <p:nvPr/>
        </p:nvPicPr>
        <p:blipFill>
          <a:blip r:embed="rId1"/>
          <a:stretch/>
        </p:blipFill>
        <p:spPr>
          <a:xfrm>
            <a:off x="1643040" y="4429080"/>
            <a:ext cx="1676520" cy="2146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Объясни фразеологизм 3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357200"/>
            <a:ext cx="318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осстановите фразеологизм. Объясни его значение и происхожде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уриданов 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…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ешек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азанская 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рфянская 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98" name="Управляющая кнопка: домой 3"/>
          <p:cNvGrpSpPr/>
          <p:nvPr/>
        </p:nvGrpSpPr>
        <p:grpSpPr>
          <a:xfrm>
            <a:off x="7858080" y="5608800"/>
            <a:ext cx="1189080" cy="1188720"/>
            <a:chOff x="7858080" y="5608800"/>
            <a:chExt cx="1189080" cy="1188720"/>
          </a:xfrm>
        </p:grpSpPr>
        <p:pic>
          <p:nvPicPr>
            <p:cNvPr id="199" name="Управляющая кнопка: домой 3" descr=""/>
            <p:cNvPicPr/>
            <p:nvPr/>
          </p:nvPicPr>
          <p:blipFill>
            <a:blip r:embed="rId2"/>
            <a:stretch/>
          </p:blipFill>
          <p:spPr>
            <a:xfrm>
              <a:off x="7858080" y="5608800"/>
              <a:ext cx="11890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29720" y="564372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3429000" y="1000080"/>
            <a:ext cx="550080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уриданов осёл – о крайне нерешительном человеке. Связано с именем французского философа Буридана, который доказывал, что поступки живых существ зависят от внешних причин, и приводил в пример осла между двумя охапками сен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репкий орешек – о трудной, неразрешимой задаче. Связано со взятием Петром Первым крепости Орешек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азанская сирота – притворяющийся несчастным. Связано со взятием Казани Иваном Грозным. Татарские мурзы называли себя униженно «сиротами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рфянская стрела – находчивый довод, приберегаемый к концу спора. Парфяне славились хорошими стрелками. Они прибегали к приёму: обращались в бегство, а когда противник устремлялся за ними, резко поворачивались и стрелял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Рисунок 10" descr="Пётр 1 (4).jpg"/>
          <p:cNvPicPr/>
          <p:nvPr/>
        </p:nvPicPr>
        <p:blipFill>
          <a:blip r:embed="rId3"/>
          <a:stretch/>
        </p:blipFill>
        <p:spPr>
          <a:xfrm>
            <a:off x="-42840" y="3803760"/>
            <a:ext cx="2200320" cy="3230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Объясни фразеологизм 4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20960"/>
            <a:ext cx="2971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бъясните значение и происхождение фразеологизмов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Ахиллесова пя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Железная пя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абушка надвое сказал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т тебе, бабушка, и Юрьев ден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642840" y="1920960"/>
            <a:ext cx="52866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Ахиллесова пята – слабое, уязвимое место. Из древнегреческого миф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Железная пята – о капитализме. Из романа Джека Лондона «Железная пята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абушка надвое сказала – неизвестно, сбудется ли то, что предполагают. Из усечённой пословицы «Бабушка гадала, да надвое сказала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т тебе, бабушка, и Юрьев день – о неожиданно не сбывшихся надеждах. Выражение возникло в связи с отменой права перехода крестьян от одного помещика к другому раз в году в день святого Георгия (Юрия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06" name="Управляющая кнопка: домой 3"/>
          <p:cNvGrpSpPr/>
          <p:nvPr/>
        </p:nvGrpSpPr>
        <p:grpSpPr>
          <a:xfrm>
            <a:off x="2712960" y="5321160"/>
            <a:ext cx="1189080" cy="1189080"/>
            <a:chOff x="2712960" y="5321160"/>
            <a:chExt cx="1189080" cy="1189080"/>
          </a:xfrm>
        </p:grpSpPr>
        <p:pic>
          <p:nvPicPr>
            <p:cNvPr id="207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2712960" y="532116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786040" y="535788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2" name="cashreg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Объясни фразеологизм 5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20960"/>
            <a:ext cx="34005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предели значение и происхождение фразеологизмов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зделать под орех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ловек в футляр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ричать во всю ивановскую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 царе Горох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85760" y="1285920"/>
            <a:ext cx="50720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зделать под орех – сильно отругать; одержать полную победу. Из речи столяров и краснодеревщиков: мебель из простой древесины часто разделывалась под оре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ловек в футляре – человек, замкнувшийся в кругу узких, мещанских интересов. Взято из одноимённого рассказа Чехо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ричать во всю ивановскую – кричать громко. Ивановская – площадь в Москве, на которой оглашали царские указ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 царе Горохе – очень давно. Из русских народных сказок, то есть в те давние времена, когда жили сказочные герои, например, царь Горо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2" name="Управляющая кнопка: домой 3"/>
          <p:cNvGrpSpPr/>
          <p:nvPr/>
        </p:nvGrpSpPr>
        <p:grpSpPr>
          <a:xfrm>
            <a:off x="7570800" y="5535720"/>
            <a:ext cx="1189080" cy="1189080"/>
            <a:chOff x="7570800" y="5535720"/>
            <a:chExt cx="1189080" cy="1189080"/>
          </a:xfrm>
        </p:grpSpPr>
        <p:pic>
          <p:nvPicPr>
            <p:cNvPr id="213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570800" y="553572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643880" y="557208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15" name="Рисунок 7" descr="глашатай.wmf"/>
          <p:cNvPicPr/>
          <p:nvPr/>
        </p:nvPicPr>
        <p:blipFill>
          <a:blip r:embed="rId2"/>
          <a:stretch/>
        </p:blipFill>
        <p:spPr>
          <a:xfrm>
            <a:off x="500040" y="4357800"/>
            <a:ext cx="1800360" cy="187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Из истории языка 1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 системе русской орфографии до 1917 года употреблялись буквы и (восьмеричное) и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(десятеричное). Объясните происхождение этих названи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 («ижеи») обозначала цифру «восемь», а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«иже») -  число «десять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9" name="Управляющая кнопка: домой 3"/>
          <p:cNvGrpSpPr/>
          <p:nvPr/>
        </p:nvGrpSpPr>
        <p:grpSpPr>
          <a:xfrm>
            <a:off x="6211800" y="3608280"/>
            <a:ext cx="1189080" cy="1189080"/>
            <a:chOff x="6211800" y="3608280"/>
            <a:chExt cx="1189080" cy="1189080"/>
          </a:xfrm>
        </p:grpSpPr>
        <p:pic>
          <p:nvPicPr>
            <p:cNvPr id="22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6211800" y="360828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286680" y="3643200"/>
              <a:ext cx="104292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2" name="cashreg.wav"/>
      </p:stSnd>
    </p:sndAc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Из истории языка 2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840" y="12139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Отметьте, какие из приведённых ниже слов с сочетаниями ра, ла, ре, ле не являются старославянскими по происхождению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Трава, плен, среда, кран, сладкий, слава, правда, брат, страна, план, след, шлем, мрак, власть, глава, град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2920" y="1428480"/>
            <a:ext cx="42865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являются старославянскими те, которые не имеют аналогов с полногласными сочетаниями: трава, кран, правда, брат, план, след, сла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тальные имеют исконно русские аналоги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лен – полон, среда – середина, сладкий – солод,  страна – сторона, шлем – шелом, мрак – морока, власть – волость, глава – голова, град – город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25" name="Управляющая кнопка: домой 3"/>
          <p:cNvGrpSpPr/>
          <p:nvPr/>
        </p:nvGrpSpPr>
        <p:grpSpPr>
          <a:xfrm>
            <a:off x="6645240" y="5535720"/>
            <a:ext cx="1187640" cy="1189080"/>
            <a:chOff x="6645240" y="5535720"/>
            <a:chExt cx="1187640" cy="1189080"/>
          </a:xfrm>
        </p:grpSpPr>
        <p:pic>
          <p:nvPicPr>
            <p:cNvPr id="226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6645240" y="5535720"/>
              <a:ext cx="1187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715080" y="557208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28" name="Рисунок 6" descr="вопрос.gif"/>
          <p:cNvPicPr/>
          <p:nvPr/>
        </p:nvPicPr>
        <p:blipFill>
          <a:blip r:embed="rId2"/>
          <a:stretch/>
        </p:blipFill>
        <p:spPr>
          <a:xfrm>
            <a:off x="2000160" y="4714920"/>
            <a:ext cx="1096920" cy="1214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Выбери вопрос!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8760" y="1285920"/>
          <a:ext cx="8229600" cy="4664160"/>
        </p:xfrm>
        <a:graphic>
          <a:graphicData uri="http://schemas.openxmlformats.org/drawingml/2006/table">
            <a:tbl>
              <a:tblPr/>
              <a:tblGrid>
                <a:gridCol w="1757160"/>
                <a:gridCol w="1214640"/>
                <a:gridCol w="1285920"/>
                <a:gridCol w="1357200"/>
                <a:gridCol w="1357200"/>
                <a:gridCol w="1257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6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6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6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6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6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63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гадки удар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имолог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ъясни фразеолог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з истории язы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8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  <p:sndAc>
      <p:stSnd>
        <p:snd r:embed="rId2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Из истории языка 3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акие из перечисленных языков родственны русскому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емецкий, финский, итальянский, литовский, эстонский, армянский, азербайджанский, английский, шведский, сербский, чешский, румынски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00720" y="1213920"/>
            <a:ext cx="4395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емецкий,  итальянский, литовский,  армянский,  английский, шведский, сербский, чешский, румынский. Все они относятся к индоевропейской семье языков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Финский, эстонский(финно-угорские), азербайджанский (тюркски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2" name="Управляющая кнопка: домой 3"/>
          <p:cNvGrpSpPr/>
          <p:nvPr/>
        </p:nvGrpSpPr>
        <p:grpSpPr>
          <a:xfrm>
            <a:off x="7858080" y="5394240"/>
            <a:ext cx="1189080" cy="1189080"/>
            <a:chOff x="7858080" y="5394240"/>
            <a:chExt cx="1189080" cy="1189080"/>
          </a:xfrm>
        </p:grpSpPr>
        <p:pic>
          <p:nvPicPr>
            <p:cNvPr id="233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58080" y="539424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929720" y="542916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35" name="Рисунок 6" descr="мужик с языком.gif"/>
          <p:cNvPicPr/>
          <p:nvPr/>
        </p:nvPicPr>
        <p:blipFill>
          <a:blip r:embed="rId2"/>
          <a:stretch/>
        </p:blipFill>
        <p:spPr>
          <a:xfrm>
            <a:off x="3786120" y="5286240"/>
            <a:ext cx="1285920" cy="1251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Из истории языка 4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Какие из данных языков являются славянскими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Польский, чешский, венгерский, румынский, болгарский, македонский, греческий, албанский, хорватский, итальянский, грузинский, русский, армянский, белорусский, литовский, украинский, молдавски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105520" y="149976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оль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Чеш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олгар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акедон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Хорват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ус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елорус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краин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9" name="Управляющая кнопка: домой 3"/>
          <p:cNvGrpSpPr/>
          <p:nvPr/>
        </p:nvGrpSpPr>
        <p:grpSpPr>
          <a:xfrm>
            <a:off x="6997680" y="4535640"/>
            <a:ext cx="1189080" cy="1188720"/>
            <a:chOff x="6997680" y="4535640"/>
            <a:chExt cx="1189080" cy="1188720"/>
          </a:xfrm>
        </p:grpSpPr>
        <p:pic>
          <p:nvPicPr>
            <p:cNvPr id="24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6997680" y="4535640"/>
              <a:ext cx="11890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072200" y="4572000"/>
              <a:ext cx="10432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2" name="cashreg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Из истории языка 5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 древнерусских текстах употребляются формы местоимений 1 лица азъ, язъ, я. Какая из них является иноязычно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142880" y="1920960"/>
            <a:ext cx="45435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зъ, так как в русском языке начальному А в старославянском языке соответствовало Я. Сравните АГНЕЦ (старослав) – ЯГНЁНОК (исконно-рус). В русском языке практически нет исконных слов, начинающихся с буквы 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45" name="Управляющая кнопка: домой 3"/>
          <p:cNvGrpSpPr/>
          <p:nvPr/>
        </p:nvGrpSpPr>
        <p:grpSpPr>
          <a:xfrm>
            <a:off x="7358040" y="324000"/>
            <a:ext cx="1189080" cy="1187280"/>
            <a:chOff x="7358040" y="324000"/>
            <a:chExt cx="1189080" cy="1187280"/>
          </a:xfrm>
        </p:grpSpPr>
        <p:pic>
          <p:nvPicPr>
            <p:cNvPr id="246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358040" y="324000"/>
              <a:ext cx="118908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429680" y="35712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2" name="cashreg.wav"/>
      </p:stSnd>
    </p:sndAc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Загадки ударения 1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авьте ударение в слов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испансе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гово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нельз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ск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черпа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испанс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гов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н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ьз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к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ч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па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12" name="Управляющая кнопка: домой 3"/>
          <p:cNvGrpSpPr/>
          <p:nvPr/>
        </p:nvGrpSpPr>
        <p:grpSpPr>
          <a:xfrm>
            <a:off x="7143840" y="5394240"/>
            <a:ext cx="1189080" cy="1189080"/>
            <a:chOff x="7143840" y="5394240"/>
            <a:chExt cx="1189080" cy="1189080"/>
          </a:xfrm>
        </p:grpSpPr>
        <p:pic>
          <p:nvPicPr>
            <p:cNvPr id="113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43840" y="539424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215120" y="542916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Загадки ударения 2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" y="157176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авьте ударение в слов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ече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тов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минуть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еер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омкнут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00720" y="14284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е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т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мин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у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ь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е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кнут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18" name="Управляющая кнопка: домой 3"/>
          <p:cNvGrpSpPr/>
          <p:nvPr/>
        </p:nvGrpSpPr>
        <p:grpSpPr>
          <a:xfrm>
            <a:off x="6572160" y="5248440"/>
            <a:ext cx="1187640" cy="1188720"/>
            <a:chOff x="6572160" y="5248440"/>
            <a:chExt cx="1187640" cy="1188720"/>
          </a:xfrm>
        </p:grpSpPr>
        <p:pic>
          <p:nvPicPr>
            <p:cNvPr id="119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572160" y="5248440"/>
              <a:ext cx="11876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643800" y="5286240"/>
              <a:ext cx="104292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3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Загадки ударения 3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0040" y="13568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авьте ударение в слов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юрократ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енези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спиталь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ревк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одри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глуби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олоснутый стака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2920" y="1642680"/>
            <a:ext cx="403884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юрокр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зи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спит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ь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р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к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одр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глуб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ол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нутый стака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24" name="Управляющая кнопка: домой 3"/>
          <p:cNvGrpSpPr/>
          <p:nvPr/>
        </p:nvGrpSpPr>
        <p:grpSpPr>
          <a:xfrm>
            <a:off x="7711920" y="5608800"/>
            <a:ext cx="1187640" cy="1188720"/>
            <a:chOff x="7711920" y="5608800"/>
            <a:chExt cx="1187640" cy="1188720"/>
          </a:xfrm>
        </p:grpSpPr>
        <p:pic>
          <p:nvPicPr>
            <p:cNvPr id="12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11920" y="5608800"/>
              <a:ext cx="11876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786800" y="564372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3" name="cashreg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Загадки ударения 4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авьте ударение в слов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нельз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уховник (священник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двол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лледж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ме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мо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тов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н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ьз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уховн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 (священник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двол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л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ж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мот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т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0" name="Управляющая кнопка: домой 3"/>
          <p:cNvGrpSpPr/>
          <p:nvPr/>
        </p:nvGrpSpPr>
        <p:grpSpPr>
          <a:xfrm>
            <a:off x="7070760" y="5394240"/>
            <a:ext cx="1189080" cy="1189080"/>
            <a:chOff x="7070760" y="5394240"/>
            <a:chExt cx="1189080" cy="1189080"/>
          </a:xfrm>
        </p:grpSpPr>
        <p:pic>
          <p:nvPicPr>
            <p:cNvPr id="131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070760" y="539424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143840" y="542916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Загадки ударения 5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авьте ударение в слов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тован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пелищ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минуть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тридеше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етеринар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черпа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глуби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тов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пел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щ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мин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у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ь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тр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ше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етерин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ч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па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глуб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6" name="Управляющая кнопка: домой 3"/>
          <p:cNvGrpSpPr/>
          <p:nvPr/>
        </p:nvGrpSpPr>
        <p:grpSpPr>
          <a:xfrm>
            <a:off x="7497720" y="5394240"/>
            <a:ext cx="1189080" cy="1189080"/>
            <a:chOff x="7497720" y="5394240"/>
            <a:chExt cx="1189080" cy="1189080"/>
          </a:xfrm>
        </p:grpSpPr>
        <p:pic>
          <p:nvPicPr>
            <p:cNvPr id="137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497720" y="539424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72240" y="5429160"/>
              <a:ext cx="10432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  <p:sndAc>
      <p:stSnd>
        <p:snd r:embed="rId3" name="cashreg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2" descr="Изображение 419.jpg"/>
          <p:cNvPicPr/>
          <p:nvPr/>
        </p:nvPicPr>
        <p:blipFill>
          <a:blip r:embed="rId1"/>
          <a:stretch/>
        </p:blipFill>
        <p:spPr>
          <a:xfrm>
            <a:off x="857160" y="392904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onstantia"/>
              </a:rPr>
              <a:t>Этимология 1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вляются ли этимологически родственными слова: юг – ужин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42" name="Управляющая кнопка: домой 3"/>
          <p:cNvGrpSpPr/>
          <p:nvPr/>
        </p:nvGrpSpPr>
        <p:grpSpPr>
          <a:xfrm>
            <a:off x="5924520" y="5394240"/>
            <a:ext cx="1189080" cy="1189080"/>
            <a:chOff x="5924520" y="5394240"/>
            <a:chExt cx="1189080" cy="1189080"/>
          </a:xfrm>
        </p:grpSpPr>
        <p:pic>
          <p:nvPicPr>
            <p:cNvPr id="143" name="Управляющая кнопка: домой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24520" y="539424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000840" y="542916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45" name="TextBox 8"/>
          <p:cNvSpPr/>
          <p:nvPr/>
        </p:nvSpPr>
        <p:spPr>
          <a:xfrm>
            <a:off x="5072040" y="214200"/>
            <a:ext cx="3714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Являютс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Юг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 (старослав.) родственное литов.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agume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– «утро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Ужин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 (общеслав.) от угъ – «юг, подень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В этих словах видны исторические чередования: начальное Ю в старослав. перешло в У в древнерусском, а Г/Ж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10" descr="обед.wmf"/>
          <p:cNvPicPr/>
          <p:nvPr/>
        </p:nvPicPr>
        <p:blipFill>
          <a:blip r:embed="rId4"/>
          <a:stretch/>
        </p:blipFill>
        <p:spPr>
          <a:xfrm>
            <a:off x="357120" y="4929120"/>
            <a:ext cx="1838520" cy="16477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солнце.gif"/>
          <p:cNvPicPr/>
          <p:nvPr/>
        </p:nvPicPr>
        <p:blipFill>
          <a:blip r:embed="rId5"/>
          <a:stretch/>
        </p:blipFill>
        <p:spPr>
          <a:xfrm>
            <a:off x="2419200" y="3780000"/>
            <a:ext cx="873360" cy="785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6" name="cashreg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onstantia"/>
              </a:rPr>
              <a:t>Этимология 20</a:t>
            </a:r>
            <a:endParaRPr b="0" lang="en-US" sz="5000" spc="-1" strike="noStrike">
              <a:solidFill>
                <a:srgbClr val="f4e7ed"/>
              </a:solidFill>
              <a:latin typeface="Constant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вляются ли этимологически родственными слов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га, ноготь, нож, подноготна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50" name="Управляющая кнопка: домой 3"/>
          <p:cNvGrpSpPr/>
          <p:nvPr/>
        </p:nvGrpSpPr>
        <p:grpSpPr>
          <a:xfrm>
            <a:off x="6145200" y="5608800"/>
            <a:ext cx="1189080" cy="1188720"/>
            <a:chOff x="6145200" y="5608800"/>
            <a:chExt cx="1189080" cy="1188720"/>
          </a:xfrm>
        </p:grpSpPr>
        <p:pic>
          <p:nvPicPr>
            <p:cNvPr id="151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145200" y="5608800"/>
              <a:ext cx="11890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15040" y="564372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53" name="TextBox 8"/>
          <p:cNvSpPr/>
          <p:nvPr/>
        </p:nvSpPr>
        <p:spPr>
          <a:xfrm>
            <a:off x="4714920" y="1714680"/>
            <a:ext cx="4143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Все слова этимологически родственны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Нога – общеслав., то же, что литовск. Копыто, латышск. Коготь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Ноготь – общеслав. Производное от слова «ног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Подноготная – буквально «то, что под ногтём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Нож – не является этимологически родственным, произошло от «колоть, резать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Содержимое 10" descr="бегун.wmf"/>
          <p:cNvPicPr/>
          <p:nvPr/>
        </p:nvPicPr>
        <p:blipFill>
          <a:blip r:embed="rId3"/>
          <a:stretch/>
        </p:blipFill>
        <p:spPr>
          <a:xfrm>
            <a:off x="857160" y="4429080"/>
            <a:ext cx="1679760" cy="1598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бегуны.wmf"/>
          <p:cNvPicPr/>
          <p:nvPr/>
        </p:nvPicPr>
        <p:blipFill>
          <a:blip r:embed="rId4"/>
          <a:stretch/>
        </p:blipFill>
        <p:spPr>
          <a:xfrm>
            <a:off x="2714760" y="4000680"/>
            <a:ext cx="1638000" cy="243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cashreg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9:38:10Z</dcterms:created>
  <dc:creator>Инна</dc:creator>
  <dc:description/>
  <dc:language>en-US</dc:language>
  <cp:lastModifiedBy>1</cp:lastModifiedBy>
  <dcterms:modified xsi:type="dcterms:W3CDTF">2010-07-12T13:11:09Z</dcterms:modified>
  <cp:revision>37</cp:revision>
  <dc:subject/>
  <dc:title>Подготовка к олимпиаде по русскому языку</dc:title>
</cp:coreProperties>
</file>