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BE3-99D4-464E-BBBF-C796D5AE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134-7809-4E38-B77B-96694F3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37E-2FC0-4558-88A4-CF2F99A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CBE-2C34-4C49-BF02-8208FCE3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3F41-E928-4F95-BEEE-13B4889F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215-A056-4744-B9D1-B63B776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62B9-8D6B-4A5A-A1A5-7676805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90B-4117-43AD-8EA3-BFB5222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921B-901C-4905-896D-EFC4B34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CD2-FA4A-4931-8E63-EF261015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CB8-AF96-464C-B150-1C71B4E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6AB-C9D0-4CB3-AEE8-C25B825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82F-B7AC-4637-AF3D-E543050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5FCD-C9DD-4F28-A005-5DEE4CF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CEE-516D-418C-B071-9144332C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3DD7-9B4C-4D96-B3A2-14DF5342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3B7-79B9-4309-B365-75C7E62A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649-63C4-47EC-81B9-4618B1F1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B9C-4E52-4A93-90F6-325EA8E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CC8-23B8-4FE4-9931-5430EBC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59D-9201-4A12-A665-C23D2B52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90D-A5AD-4ED3-B989-3C10CB2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3E4-AB90-4EF2-BE38-3CD32F1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CAF-AA57-433E-BE68-D20AA37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3A63-2CA4-4B12-B258-859698D56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2F3-BCD9-4CDA-9C51-4D9BC29AC4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newsru.com/pict/id/large/54940_1085300432.gif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ru.wikipedia.org/wiki/&#1060;&#1072;&#1081;&#1083;:Admiral-Wrangel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crazy.werd.ru/uploads/posts/thumbs/2007-08-13/1187017491_05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kp.by/upimg/5a3e8f353c90697f8fa8aa939d18ebfb3dd46ab0/362796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g-fotki.yandex.ru/get/3212/white--bear-cub.9/0_3451_135b174d_XL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ntarktika.ru/i/tour/pic_url/91-1b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econom-analiz.ru/images/44-osnovy-organizacii-komputernoy-obrabotki-ekonomicheskoy-informacii-5.jpg" TargetMode="External"/><Relationship Id="rId3" Type="http://schemas.openxmlformats.org/officeDocument/2006/relationships/image" Target="../media/image32.png"/><Relationship Id="rId4" Type="http://schemas.openxmlformats.org/officeDocument/2006/relationships/hyperlink" Target="http://www.gorod21.net/uploads/posts/2009-10/1254591440_159086_01.jpg" TargetMode="External"/><Relationship Id="rId5" Type="http://schemas.openxmlformats.org/officeDocument/2006/relationships/image" Target="../media/image32.png"/><Relationship Id="rId6" Type="http://schemas.openxmlformats.org/officeDocument/2006/relationships/hyperlink" Target="http://secretworlds.ru/fototo17/24118107temneet_secretworlds.ru.jpg" TargetMode="External"/><Relationship Id="rId7" Type="http://schemas.openxmlformats.org/officeDocument/2006/relationships/image" Target="../media/image32.png"/><Relationship Id="rId8" Type="http://schemas.openxmlformats.org/officeDocument/2006/relationships/hyperlink" Target="http://www.rosatomflot.ru/img/all/18_Legenda_Arctica.jpg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она арктических пусты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-main-pic" descr="Картинка 7 из 11082"/>
          <p:cNvPicPr/>
          <p:nvPr/>
        </p:nvPicPr>
        <p:blipFill>
          <a:blip r:embed="rId1"/>
          <a:stretch/>
        </p:blipFill>
        <p:spPr>
          <a:xfrm>
            <a:off x="755640" y="1600200"/>
            <a:ext cx="784872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i-main-pic" descr="Картинка 7 из 11082"/>
          <p:cNvPicPr/>
          <p:nvPr/>
        </p:nvPicPr>
        <p:blipFill>
          <a:blip r:embed="rId2"/>
          <a:stretch/>
        </p:blipFill>
        <p:spPr>
          <a:xfrm>
            <a:off x="755640" y="1628640"/>
            <a:ext cx="78487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i-main-pic" descr="Картинка 26 из 11082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417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84360" y="5877000"/>
            <a:ext cx="4464000" cy="50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елые медв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29440" cy="4105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59280" y="6021360"/>
            <a:ext cx="280800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i-main-pic" descr="Картинка 9 из 18"/>
          <p:cNvPicPr/>
          <p:nvPr/>
        </p:nvPicPr>
        <p:blipFill>
          <a:blip r:embed="rId1"/>
          <a:stretch/>
        </p:blipFill>
        <p:spPr>
          <a:xfrm>
            <a:off x="971640" y="1268280"/>
            <a:ext cx="7345440" cy="432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5877000"/>
            <a:ext cx="460836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ренландский к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рктика и чело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 островах и во льдах Северного Ледовитого океана работают научные стан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959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рктика и чело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роложен Северный морской пу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рктика и чело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дут караваны су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стров Вранге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асположен между Восточно-Сибирским и Чукотским мор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628640"/>
            <a:ext cx="6624720" cy="3951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Портре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1125360"/>
            <a:ext cx="1905120" cy="212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659640" y="3429000"/>
            <a:ext cx="2305080" cy="50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.П. Вранг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14400" y="292392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Это единственное место в нашей стране, где гнездятся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елые гу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Картинка 8 из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1341360"/>
            <a:ext cx="4968720" cy="4248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Картинка 7 из 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2708280"/>
            <a:ext cx="3024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менно здесь появляются на свет малыши белых медвед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Картинка 3 из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413000"/>
            <a:ext cx="67694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 этом заповеднике самые крупные в мире скопления моржей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Картинка 8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413000"/>
            <a:ext cx="7201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Цель: изучить природу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.Выяснить, почему в Арктике суровые природные услов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2. Узнать, какие растения встречаются в этой зо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3. Узнать, какие животные населяют арктическую пустын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5373360"/>
            <a:ext cx="8064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вцебык – одно из удивительных животных заповед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i-main-pic" descr="Картинка 15 из 45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Заповедными тропами / под ред. Т.А. Адольф,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.И. Давыдовой. –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.: Просвещение, 198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де расположена зона арктических пустын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овы природные условия в этой зо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ие растения характерны для этой зо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зовите животных Арктики. Как животные приспособлены к суровым условиям этого кра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сскажите об освоении Арктики челове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ой ущерб природе Арктики наносят люд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охраняют природу северного кра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рктика – царство льда и сне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i-main-pic" descr="Картинка 7 из 11082"/>
          <p:cNvPicPr/>
          <p:nvPr/>
        </p:nvPicPr>
        <p:blipFill>
          <a:blip r:embed="rId1"/>
          <a:stretch/>
        </p:blipFill>
        <p:spPr>
          <a:xfrm>
            <a:off x="755640" y="1600200"/>
            <a:ext cx="78487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econom-analiz.ru/images/44-osnovy-organizacii-komputernoy-obrabotki-ekonomicheskoy-informacii-5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gorod21.net/uploads/posts/2009-10/1254591440_159086_01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://secretworlds.ru/fototo17/24118107temneet_secretworlds.ru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http://www.rosatomflot.ru/img/all/18_Legenda_Arctica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ttp://900igr.net/datai/geografija/Bezmolvnaja-Arktika/0020-034-Promyslovaja-zhitnitsa-Arktiki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wiki/%D0%A4%D0%B0%D0%B9%D0%BB:Admiral-Wrangel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ttp://www.antarktika.ru/i/tour/pic_url/91-1b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egabook.ru/MObjects2/data/pict2005/animal/04a0763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razy.werd.ru/uploads/posts/2007-08-13/1187017491_05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fragoria1.ucoz.ru/_ph/2/2/229240348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олнце в Арктике никогда не поднимается высоко над горизон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-main-pic" descr="Картинка 11 из 11082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только сам океан, но и острова Арктики покрыты толстым ледяным панцыр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i-main-pic" descr="Картинка 6 из 11082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Зимой в Арктике полярная но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i-main-pic" descr="Картинка 17 из 1424"/>
          <p:cNvPicPr/>
          <p:nvPr/>
        </p:nvPicPr>
        <p:blipFill>
          <a:blip r:embed="rId2"/>
          <a:stretch/>
        </p:blipFill>
        <p:spPr>
          <a:xfrm>
            <a:off x="611280" y="69228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551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етом в Арктике полярны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i-main-pic" descr="Картинка 28 из 11082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стительный мир Арк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i-main-pic" descr="Картинка 2 из 4"/>
          <p:cNvPicPr/>
          <p:nvPr/>
        </p:nvPicPr>
        <p:blipFill>
          <a:blip r:embed="rId1"/>
          <a:stretch/>
        </p:blipFill>
        <p:spPr>
          <a:xfrm>
            <a:off x="4067280" y="1413000"/>
            <a:ext cx="4248000" cy="3744720"/>
          </a:xfrm>
          <a:prstGeom prst="rect">
            <a:avLst/>
          </a:prstGeom>
          <a:ln w="0">
            <a:noFill/>
          </a:ln>
        </p:spPr>
      </p:pic>
      <p:pic>
        <p:nvPicPr>
          <p:cNvPr id="184" name="i-main-pic" descr="Картинка 12 из 55"/>
          <p:cNvPicPr/>
          <p:nvPr/>
        </p:nvPicPr>
        <p:blipFill>
          <a:blip r:embed="rId2"/>
          <a:stretch/>
        </p:blipFill>
        <p:spPr>
          <a:xfrm>
            <a:off x="755640" y="1484280"/>
            <a:ext cx="3095640" cy="309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4869000"/>
            <a:ext cx="2160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лишай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5373720"/>
            <a:ext cx="309564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i-main-pic" descr="Картинка 18 из 79"/>
          <p:cNvPicPr/>
          <p:nvPr/>
        </p:nvPicPr>
        <p:blipFill>
          <a:blip r:embed="rId1"/>
          <a:stretch/>
        </p:blipFill>
        <p:spPr>
          <a:xfrm>
            <a:off x="2556000" y="4292640"/>
            <a:ext cx="2160360" cy="1944720"/>
          </a:xfrm>
          <a:prstGeom prst="rect">
            <a:avLst/>
          </a:prstGeom>
          <a:ln w="0">
            <a:noFill/>
          </a:ln>
        </p:spPr>
      </p:pic>
      <p:pic>
        <p:nvPicPr>
          <p:cNvPr id="189" name="i-main-pic" descr="Картинка 17 из 25"/>
          <p:cNvPicPr/>
          <p:nvPr/>
        </p:nvPicPr>
        <p:blipFill>
          <a:blip r:embed="rId2"/>
          <a:stretch/>
        </p:blipFill>
        <p:spPr>
          <a:xfrm>
            <a:off x="468360" y="1197000"/>
            <a:ext cx="1871640" cy="3816360"/>
          </a:xfrm>
          <a:prstGeom prst="rect">
            <a:avLst/>
          </a:prstGeom>
          <a:ln w="0">
            <a:noFill/>
          </a:ln>
        </p:spPr>
      </p:pic>
      <p:pic>
        <p:nvPicPr>
          <p:cNvPr id="190" name="i-main-pic" descr="Картинка 2 из 31"/>
          <p:cNvPicPr/>
          <p:nvPr/>
        </p:nvPicPr>
        <p:blipFill>
          <a:blip r:embed="rId3"/>
          <a:stretch/>
        </p:blipFill>
        <p:spPr>
          <a:xfrm>
            <a:off x="2627280" y="1197000"/>
            <a:ext cx="3419640" cy="2421000"/>
          </a:xfrm>
          <a:prstGeom prst="rect">
            <a:avLst/>
          </a:prstGeom>
          <a:ln w="0">
            <a:noFill/>
          </a:ln>
        </p:spPr>
      </p:pic>
      <p:pic>
        <p:nvPicPr>
          <p:cNvPr id="191" name="i-main-pic" descr="Картинка 2 из 4"/>
          <p:cNvPicPr/>
          <p:nvPr/>
        </p:nvPicPr>
        <p:blipFill>
          <a:blip r:embed="rId4"/>
          <a:stretch/>
        </p:blipFill>
        <p:spPr>
          <a:xfrm>
            <a:off x="6227640" y="1341360"/>
            <a:ext cx="2533680" cy="4176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03640" y="3716280"/>
            <a:ext cx="223200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уп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5805360"/>
            <a:ext cx="151128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аг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5157720"/>
            <a:ext cx="18000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а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5734080"/>
            <a:ext cx="1224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ча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i-main-pic" descr="Картинка 6 из 157"/>
          <p:cNvPicPr/>
          <p:nvPr/>
        </p:nvPicPr>
        <p:blipFill>
          <a:blip r:embed="rId1"/>
          <a:stretch/>
        </p:blipFill>
        <p:spPr>
          <a:xfrm>
            <a:off x="684360" y="1341360"/>
            <a:ext cx="6335640" cy="3888000"/>
          </a:xfrm>
          <a:prstGeom prst="rect">
            <a:avLst/>
          </a:prstGeom>
          <a:ln w="0">
            <a:noFill/>
          </a:ln>
        </p:spPr>
      </p:pic>
      <p:pic>
        <p:nvPicPr>
          <p:cNvPr id="198" name="i-main-pic" descr="Картинка 4 из 4"/>
          <p:cNvPicPr/>
          <p:nvPr/>
        </p:nvPicPr>
        <p:blipFill>
          <a:blip r:embed="rId2"/>
          <a:stretch/>
        </p:blipFill>
        <p:spPr>
          <a:xfrm>
            <a:off x="6012000" y="3933720"/>
            <a:ext cx="2797200" cy="1873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659640" y="5950080"/>
            <a:ext cx="172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5516640"/>
            <a:ext cx="46800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юлень питается ры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2:27:17Z</dcterms:created>
  <dc:creator>Admin</dc:creator>
  <dc:description/>
  <dc:language>en-US</dc:language>
  <cp:lastModifiedBy>Admin</cp:lastModifiedBy>
  <dcterms:modified xsi:type="dcterms:W3CDTF">2012-01-05T09:34:29Z</dcterms:modified>
  <cp:revision>14</cp:revision>
  <dc:subject/>
  <dc:title>Слайд 1</dc:title>
</cp:coreProperties>
</file>