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jpeg" ContentType="image/jpeg"/>
  <Override PartName="/ppt/media/image11.png" ContentType="image/pn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6.gif" ContentType="image/gif"/>
  <Override PartName="/ppt/media/image9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28.png" ContentType="image/png"/>
  <Override PartName="/ppt/media/image25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10.png" ContentType="image/pn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FD1-8CA2-40D7-A735-A9449B68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5FC-4C34-4A4E-B6C2-789EF12D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028-86B6-4426-ADC5-44BED647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BAA-BF83-41CF-B3B5-9E85CF7D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44CC0-FCAA-46CE-86DF-87951335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CC5D6-6EBB-445A-8AAC-039BF55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B6FED-D5A8-4DBB-82F0-08DF07DE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9009E-68BE-4232-9177-EBE85C6C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D97F8-C38F-45F2-9F12-6600827E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44EBD-A95E-4ECF-A585-131E8AF7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19AA-2E13-4A1D-BD06-435F741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A35-07DB-41C1-8F15-55FFFB05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BBB0E-0C94-4B03-9082-22CEB1C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66ADE-C24F-4217-9EDB-6928232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1D23-10E7-400B-8968-958680B5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64AAE-B5D0-4383-9612-0AAC24A5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17F92-E174-464C-98B3-8F7BEA24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B10-39F0-45B9-AF8D-00B14B3A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688-8E4A-47B4-9EDD-9EE557B6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08A-444E-467B-B2DA-2BBE359F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1F8-9BBF-4F63-A95C-B412A25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976-C87B-49BB-84E2-56FCB6E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BF0-77AC-47E0-9EB6-E66F539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27A-280F-458A-AF7E-AB3EE0B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Arial Unicode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 Unicode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 Unicode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E75-1D42-4167-A74D-E42824110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Arial Unicode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 Unicode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 Unicode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543-C06B-4332-B096-886CCE6EAD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../Local%20Settings/Temp/Rar$DI08.094/Tropy.sh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Local%20Settings/Temp/Rar$DI08.094/Wstuplenij.shs" TargetMode="External"/><Relationship Id="rId2" Type="http://schemas.openxmlformats.org/officeDocument/2006/relationships/hyperlink" Target="file:///../../../Local%20Settings/Temp/Rar$DI08.094/Wstuplenij.shs" TargetMode="External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../Local%20Settings/Temp/Rar$DI08.094/Admiraltejstwo.shs" TargetMode="External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Local%20Settings/Temp/Rar$DI08.094/Leksika.sh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Local%20Settings/Temp/Rar$DI08.094/Rasmer%20stiha.sh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5" name="Picture 4" descr="fon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483"/>
          <p:cNvPicPr/>
          <p:nvPr/>
        </p:nvPicPr>
        <p:blipFill>
          <a:blip r:embed="rId2"/>
          <a:stretch/>
        </p:blipFill>
        <p:spPr>
          <a:xfrm>
            <a:off x="1187280" y="836640"/>
            <a:ext cx="2754360" cy="3241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684360" y="4221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Arial Unicode MS"/>
              </a:rPr>
              <a:t>Люблю тебя, Петра творенье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Arial Unicode MS"/>
              </a:rPr>
              <a:t>              </a:t>
            </a:r>
            <a:r>
              <a:rPr b="1" i="1" lang="ru-RU" sz="2000" spc="-1" strike="noStrike">
                <a:solidFill>
                  <a:srgbClr val="010199"/>
                </a:solidFill>
                <a:latin typeface="Arial Unicode MS"/>
              </a:rPr>
              <a:t>А.С.Пушк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995640" y="1285560"/>
            <a:ext cx="47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 Unicode MS"/>
              </a:rPr>
              <a:t>Педагогическая  мастерск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 Unicode MS"/>
              </a:rPr>
              <a:t>«Петербург Пушкина» (по поэме «Медный всадник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map.mid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r 63 Gogol o Pushkine.wav" descr=""/>
          <p:cNvPicPr/>
          <p:nvPr/>
        </p:nvPicPr>
        <p:blipFill>
          <a:blip r:embed="rId4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368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91600"/>
            <a:ext cx="6840360" cy="104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3 группа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А.С.Пушкин признается в любви городу: так ли это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Анализ фрагмента текста «Люблю тебя, Петра творенье…»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Какие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 Unicode MS"/>
                <a:hlinkClick r:id="rId1"/>
              </a:rPr>
              <a:t>тропы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(эпитеты, анафоры, метафоры, олицетворения) использует автор в тексте? Какой образ создаёт Пушкин?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835280" y="404640"/>
            <a:ext cx="62658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в группах</a:t>
            </a:r>
            <a:endParaRPr b="0" lang="en-US" sz="1800" spc="1" strike="noStrike">
              <a:ln cap="rnd" w="1260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Picture 5" descr="computador04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360" y="291600"/>
            <a:ext cx="6912000" cy="104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4 группа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Почему свое произведение А.С.Пушкин назвал «Медный всадник»?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Что вы знаете о знаменитом памятнике Петру I в Петербурге?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979640" y="404640"/>
            <a:ext cx="6264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в группах</a:t>
            </a:r>
            <a:endParaRPr b="0" lang="en-US" sz="1800" spc="1" strike="noStrike">
              <a:ln cap="rnd" w="1260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Picture 6" descr="computador05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2360" y="291600"/>
            <a:ext cx="6912000" cy="104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5 группа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Разгадать кроссворд «Медный всадник»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979640" y="404640"/>
            <a:ext cx="6264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в группах</a:t>
            </a:r>
            <a:endParaRPr b="0" lang="en-US" sz="1800" spc="1" strike="noStrike">
              <a:ln cap="rnd" w="1260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8" name="Picture 5" descr="computador05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92360" y="291600"/>
            <a:ext cx="6912000" cy="104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6 группа работает за столами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Решить распечатанный тест «Медный всадник»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Проверить решение теста за компьютерами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979640" y="404640"/>
            <a:ext cx="6264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в группах</a:t>
            </a:r>
            <a:endParaRPr b="0" lang="en-US" sz="1800" spc="1" strike="noStrike">
              <a:ln cap="rnd" w="1260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Picture 5" descr="computador05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фиширование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Вывешивание работ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учеников и обсуждение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полученных результатов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55" name="Picture 6" descr="PRINTERBLK"/>
          <p:cNvPicPr/>
          <p:nvPr/>
        </p:nvPicPr>
        <p:blipFill>
          <a:blip r:embed="rId1"/>
          <a:stretch/>
        </p:blipFill>
        <p:spPr>
          <a:xfrm>
            <a:off x="5724360" y="134136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1 группа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торжественный, возвышенный, прекрасный, величественный создает лексика, принадлежащая высокому стилю: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 Unicode MS"/>
              </a:rPr>
              <a:t>творенье, державное теченье, лампада, громады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 и так далее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700360" y="1526400"/>
            <a:ext cx="41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образ Петербурга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 rot="16200000">
            <a:off x="1305000" y="4032000"/>
            <a:ext cx="485640" cy="1152360"/>
          </a:xfrm>
          <a:prstGeom prst="downArrow">
            <a:avLst>
              <a:gd name="adj1" fmla="val 50000"/>
              <a:gd name="adj2" fmla="val 593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4427640" y="1989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2 группа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Unicode MS"/>
              </a:rPr>
              <a:t>любимый пушкинский размер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26920" y="1144080"/>
            <a:ext cx="756144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четырехстопный ямб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который  звуч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маршеобразно, победно, четко и звуч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  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 Unicode MS"/>
              </a:rPr>
              <a:t>С И М В О Л Ы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 :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Марсово поле, Адмиралтейская игла, Коломна, площадь Петрова, Всадник Медн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Петербург Пушкина – город пыш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Всё говорит о красоте Петербурга: мосты,  дворцы, замки, памятники… -  это музей под открытым неб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140360" y="148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61128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500"/>
                            </p:stCondLst>
                            <p:childTnLst>
                              <p:par>
                                <p:cTn id="5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291960"/>
            <a:ext cx="66243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3 группа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68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1082520" indent="-1082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А.С.Пушкин любит  Петербург: «Люблю тебя, Петра творенье…» Язык поэмы очень образен и выразителен, и это достигается различными речевыми средствами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-1082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 Unicode MS"/>
              </a:rPr>
              <a:t>Эпитеты:</a:t>
            </a:r>
            <a:r>
              <a:rPr b="0" i="1" lang="ru-RU" sz="1800" spc="-1" strike="noStrike">
                <a:solidFill>
                  <a:srgbClr val="ffffff"/>
                </a:solidFill>
                <a:latin typeface="Arial Unicode MS"/>
              </a:rPr>
              <a:t> воинственную живость; строгий, стройный вид; прозрачный сумрак, блеск безлунный; однообразную красивость…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-1082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 Unicode MS"/>
              </a:rPr>
              <a:t>Метафоры:</a:t>
            </a:r>
            <a:r>
              <a:rPr b="0" i="1" lang="ru-RU" sz="1800" spc="-1" strike="noStrike">
                <a:solidFill>
                  <a:srgbClr val="ffffff"/>
                </a:solidFill>
                <a:latin typeface="Arial Unicode MS"/>
              </a:rPr>
              <a:t> не пуская тьму ночную на золотые небеса; сиянье шапок этих медный; красуйся, град Петров; юный град…вознесся пышно, горделиво…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-1082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 Unicode MS"/>
              </a:rPr>
              <a:t>Олицетворения:</a:t>
            </a:r>
            <a:r>
              <a:rPr b="0" i="1" lang="ru-RU" sz="1800" spc="-1" strike="noStrike">
                <a:solidFill>
                  <a:srgbClr val="ffffff"/>
                </a:solidFill>
                <a:latin typeface="Arial Unicode MS"/>
              </a:rPr>
              <a:t> взломав свой синий лёд, Нева к морям его несёт и, чуя вешни дни, ликует;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-1082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 Unicode MS"/>
              </a:rPr>
              <a:t>Метонимия:</a:t>
            </a:r>
            <a:r>
              <a:rPr b="0" i="1" lang="ru-RU" sz="1800" spc="-1" strike="noStrike">
                <a:solidFill>
                  <a:srgbClr val="ffffff"/>
                </a:solidFill>
                <a:latin typeface="Arial Unicode MS"/>
              </a:rPr>
              <a:t> сюда по новым им волнам все флаги в гости будут к нам и запируем на просторе…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1082520" indent="-1082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 Unicode MS"/>
              </a:rPr>
              <a:t>Анафора:</a:t>
            </a:r>
            <a:r>
              <a:rPr b="0" i="1" lang="ru-RU" sz="1800" spc="-1" strike="noStrike">
                <a:solidFill>
                  <a:srgbClr val="ffffff"/>
                </a:solidFill>
                <a:latin typeface="Arial Unicode MS"/>
              </a:rPr>
              <a:t> Люблю тебя, Петра творенье;  люблю твой строгий, стройный вид, Невы державное теченье…; люблю зимы твоей жестокой недвижный воздух и мороз…; люблю воинственную живость потешных Марсовых полей…; люблю, военная столица, твоей твердыни дым и гром…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468360" y="191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5280" y="263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9528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68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539640" y="486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500"/>
                            </p:stCondLst>
                            <p:childTnLst>
                              <p:par>
                                <p:cTn id="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000"/>
                            </p:stCondLst>
                            <p:childTnLst>
                              <p:par>
                                <p:cTn id="6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9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41050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4 группа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9840" y="476280"/>
            <a:ext cx="8534520" cy="6192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 Unicode MS"/>
              </a:rPr>
              <a:t>А.С.Пушкин назвал свое произведение «Медный всадник», потому что ему важен именно памятник Петру, потому что Пётр — основатель города, он заложил начала Петербурга. Поэт описывает  памятник  в поэме так: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</a:t>
            </a: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В неколебимой вышине,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 Над возмущённою Невою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 Стоит с простёртою рукою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 Кумир на бронзовом коне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</a:t>
            </a: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И прямо в томной вышине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 Над ограждённою скалою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 Кумир с простёртою рукою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 Сидел на бронзовом коне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…</a:t>
            </a: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неподвижно возвышался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 Во мраке медною главой,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Того, чьей волей роковой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Под морем город основался…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Ужасен он в окрестной мгле!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Какая дума на челе!                         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</a:t>
            </a: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Какая сила в нём сокрыта…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</a:t>
            </a: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О, мощный властелин судьбы!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Не так ли ты над самой бездной,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На высоте узды железной</a:t>
            </a:r>
            <a:br>
              <a:rPr sz="1800"/>
            </a:br>
            <a:r>
              <a:rPr b="1" i="1" lang="ru-RU" sz="1800" spc="-1" strike="noStrike">
                <a:solidFill>
                  <a:srgbClr val="010199"/>
                </a:solidFill>
                <a:latin typeface="Arial Unicode MS"/>
              </a:rPr>
              <a:t>                            Россию поднял на дыбы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 Unicode MS"/>
              </a:rPr>
              <a:t>Памятник Петру I в Петербурге – это работа  французского скульптора Фальконе.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611280" y="1341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53964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46836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39640" y="450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3964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3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3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9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9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3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3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7500"/>
                            </p:stCondLst>
                            <p:childTnLst>
                              <p:par>
                                <p:cTn id="7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3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3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40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История создания поэмы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640720" cy="604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Arial Unicode MS"/>
              </a:rPr>
              <a:t>Сообщение ученика</a:t>
            </a: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онец июля - начало августа 1833 года. Пушкин знакомится с новыми стихотворениями Адама Мицкевича..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ильнейшее впечатление произвел на Пушкина «петербургский» цикл Мицкевича, состоящий из семи стихотворений, исполненных ненависти к императорскому Петербургу и российской тирании... больше всего его поразили «Олешкевич» (с подзаголовком: «День накануне петербургского наводнения»), «Русским друзьям» и «Памятник Петру Великому»...Записи польских стихов в рабочей тетради поэта — это след рождения нового пушкинского замысла.      Именно тогда в тетради Пушкина впервые легли рядом стихи о наводнении и о памятнике Петру..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озможно, тогда же, летом 1833 года, Пушкин услышал от Михаила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Юрьевича Виельгорского рассказ о «вещем сне», в котором судьба конной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туи Петра и судьба города оказались неразрывно связаны. (Эта легенда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ересказана      в     статье      учебника     «Судьб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лучайность      или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едопределение?». Кроме того, Пушкину, конечно, были известны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предания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о проклятии»,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яготеющем над Петербургом с момента его строительства.)!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7 августа 1833 года Пушкин вместе с С.А.Соболевским уезжает из Петербурга, огни выехали в дорожной коляске поэта и направились к Троицкому мосту. Но мост был закрыт, так как из-за сильного ветра вода в Неве угрожающе поднялась. Опасались нового наводнения... Впечатления этого дня не раз будут возникать в воображении Пушкина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PS.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воднение, описываемое в поэме, произошло 7 ноября 1824 г.; оно отличалось особенной силой и причинило огромные разрушения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2" name="102.WAV" descr=""/>
          <p:cNvPicPr/>
          <p:nvPr/>
        </p:nvPicPr>
        <p:blipFill>
          <a:blip r:embed="rId1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Arial Unicode MS"/>
              </a:rPr>
              <a:t>Показать интерес А.С.Пушкина к историческому прошлому России; выявить позиции автора по отношению к Петербургу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Arial Unicode MS"/>
              </a:rPr>
              <a:t>Развивать навыки аналитической работы с художественным текстом, ассоциативное мышление учащихся, умение анализировать мысли и чувства не только автора произведения, но и свои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Arial Unicode MS"/>
              </a:rPr>
              <a:t>Показать учащимся непреходящую ценность  произведений А.С.Пушкина ( на примере анализа поэмы «Медный всадник»); создать благоприятные условия для эстетического восприятия произведения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1258920" y="260280"/>
            <a:ext cx="648180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ли урока:</a:t>
            </a:r>
            <a:endParaRPr b="0" lang="en-US" sz="1800" spc="1" strike="noStrike">
              <a:ln w="0">
                <a:noFill/>
              </a:ln>
              <a:solidFill>
                <a:srgbClr val="66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7" descr="strel22"/>
          <p:cNvPicPr/>
          <p:nvPr/>
        </p:nvPicPr>
        <p:blipFill>
          <a:blip r:embed="rId1"/>
          <a:stretch/>
        </p:blipFill>
        <p:spPr>
          <a:xfrm>
            <a:off x="250920" y="333360"/>
            <a:ext cx="936360" cy="47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trel21"/>
          <p:cNvPicPr/>
          <p:nvPr/>
        </p:nvPicPr>
        <p:blipFill>
          <a:blip r:embed="rId2"/>
          <a:stretch/>
        </p:blipFill>
        <p:spPr>
          <a:xfrm>
            <a:off x="7812000" y="281160"/>
            <a:ext cx="9367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Что же представлял из себя  ландшафт в эпоху, предшествующую основанию Петербурга?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Петр Великий, конечно, был прекрасно осведомлен о значении устья Невы и мысль об основании здесь города-крепости должна была созреть в его уме задолго до начала Северной войны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 Unicode MS"/>
              </a:rPr>
              <a:t>Слово историкам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глухом ропоте масс, сменившем отчаянные и бессильные попытки борьбы, при сочувствии немногих совершалось двести слишком лет тому назад обновление России. Его символом явился Петр. В его личности было много черт, в его жизни много моментов, глубоко поразивших и русских и иностранцев. Исторический образ грозного императора чрезвычайно благоприятствовал творимой легенде. Создавался образ одинокого титана, творящего новый мир, преодолевающего сопротивление косных, темных, хаотических сил.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мволом дела Петра явилась новая столица. Ее возникновение в результате многолетней борьбы со шведами было куплено дорогой ценой. Ее создание на «чухонской земле», на «болоте», стоившее жизни многочисленных рабочих, забутивших топь своими костями, увеличило народное нерасположение к «Питеру», но в сочувствующих реформе новый город порождал осознание могучей, чудодейственной силы «основателя». Сказочно быстрый рост Петербурга — города титанической борьбы — свидетельствовал о торжестве дела Петра.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Образ царя-реформатора, усваиваясь религиозным сознанием, сочетался с древними, как культурный мир, образами космической борьбы творческого начала света с безликими, безобразными стихиями, образами, присущими всем векам и народам. Из этого соприкосновения исторических событий с мифотворческим сознанием родился миф о строителе чудотворном, получивший гениальное оформление в поэме Пушкина — Медный Всадник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Arial Unicode MS"/>
              </a:rPr>
              <a:t>Сообщение ученика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Unicode MS"/>
              </a:rPr>
              <a:t>:</a:t>
            </a: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«Высочайший цензор» Пушкина, Николай I потребовал переделки ряда мест. 14 декабря 1833 года Пушкин записал в дневнике: «Мне возвращен ‘’Медный всадник‘’ с замечаниями государя. Слово кумир не пропущено высочайшей цензурой. Стихи: «И перед младшею столицей//Померкла старая Москва,//Как перед новою царицей//Порфироносная вдова»,- вымараны. Во многих местах поставлен (?)». Поэт предпочел отказаться от опубликования поэмы; позднее начал было вносить исправления, но бросил это. При его жизни была напечатана в 1834 г. лишь часть вступления под названием «Петербург». Отрывок из поэмы в журнале «Библиотека для чтения»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          </a:t>
            </a: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«Медный всадник» был напечатан лишь после смерти Пушкина в «Современнике» 1837 г. (т.V, № 1) с рядом  вынужденных, в соответствии с требованиями Николая I, поправок Жуковского (самой существенной было устранение центрального эпизода – «бунта» Евгения против «самодержавного великана», что резко исказило основной смысл «петербургской повести»).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            </a:t>
            </a:r>
            <a:r>
              <a:rPr b="1" lang="ru-RU" sz="1800" spc="-1" strike="noStrike">
                <a:solidFill>
                  <a:srgbClr val="000099"/>
                </a:solidFill>
                <a:latin typeface="Arial Unicode MS"/>
              </a:rPr>
              <a:t>Полный текст поэмы впервые полностью опубликован только в советское время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1042920" y="333360"/>
            <a:ext cx="62658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тория публикац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 Unicode MS"/>
              </a:rPr>
              <a:t>     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- 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45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4570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Стал ли вам понятен Петербург Пушкина?     Признается он ему в любви или нет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4570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Как вы чувствовали себя на каждом этапе урока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4570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Что вам было интересно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4570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О чём заставляет задуматься данный урок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230560" y="620640"/>
            <a:ext cx="6913440" cy="3738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0" y="3456000"/>
            <a:ext cx="4535640" cy="3402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6"/>
          <p:cNvSpPr txBox="1"/>
          <p:nvPr/>
        </p:nvSpPr>
        <p:spPr>
          <a:xfrm>
            <a:off x="0" y="0"/>
            <a:ext cx="91440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подошел к концу. Наша рефлексия.</a:t>
            </a:r>
            <a:endParaRPr b="0" i="1" lang="en-US" sz="1800" spc="1" strike="noStrike">
              <a:ln w="0">
                <a:noFill/>
              </a:ln>
              <a:solidFill>
                <a:srgbClr val="cc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111.WAV" descr=""/>
          <p:cNvPicPr/>
          <p:nvPr/>
        </p:nvPicPr>
        <p:blipFill>
          <a:blip r:embed="rId3"/>
          <a:stretch/>
        </p:blipFill>
        <p:spPr>
          <a:xfrm>
            <a:off x="399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6" dur="257934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18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8000" fill="hold"/>
                                        <p:tgtEl>
                                          <p:spTgt spid="18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0" fill="hold"/>
                                        <p:tgtEl>
                                          <p:spTgt spid="18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4" dur="8000"/>
                                        <p:tgtEl>
                                          <p:spTgt spid="18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8000" fill="hold"/>
                                        <p:tgtEl>
                                          <p:spTgt spid="189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0" fill="hold"/>
                                        <p:tgtEl>
                                          <p:spTgt spid="189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8000"/>
                                        <p:tgtEl>
                                          <p:spTgt spid="189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8000" fill="hold"/>
                                        <p:tgtEl>
                                          <p:spTgt spid="189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0" fill="hold"/>
                                        <p:tgtEl>
                                          <p:spTgt spid="189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8000"/>
                                        <p:tgtEl>
                                          <p:spTgt spid="189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8000" fill="hold"/>
                                        <p:tgtEl>
                                          <p:spTgt spid="189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0" fill="hold"/>
                                        <p:tgtEl>
                                          <p:spTgt spid="189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8000"/>
                                        <p:tgtEl>
                                          <p:spTgt spid="189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6" name="Picture 4" descr="fon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8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110"/>
          <p:cNvPicPr/>
          <p:nvPr/>
        </p:nvPicPr>
        <p:blipFill>
          <a:blip r:embed="rId2"/>
          <a:stretch/>
        </p:blipFill>
        <p:spPr>
          <a:xfrm>
            <a:off x="5092560" y="692280"/>
            <a:ext cx="3364200" cy="4752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258920" y="692280"/>
            <a:ext cx="367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Домашнее задание: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Подготовиться к семинару   «Два бунта»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txt.mid" descr=""/>
          <p:cNvPicPr/>
          <p:nvPr/>
        </p:nvPicPr>
        <p:blipFill>
          <a:blip r:embed="rId3"/>
          <a:stretch/>
        </p:blipFill>
        <p:spPr>
          <a:xfrm>
            <a:off x="831708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5" dur="10461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6" name="111.WAV" descr=""/>
          <p:cNvPicPr/>
          <p:nvPr/>
        </p:nvPicPr>
        <p:blipFill>
          <a:blip r:embed="rId1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V005.MPG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8353440" cy="6453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11"/>
          <p:cNvSpPr txBox="1"/>
          <p:nvPr/>
        </p:nvSpPr>
        <p:spPr>
          <a:xfrm>
            <a:off x="1763640" y="0"/>
            <a:ext cx="489600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кабинете великого поэт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57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352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615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baseline="30000">
                <a:solidFill>
                  <a:srgbClr val="ffffff"/>
                </a:solidFill>
                <a:latin typeface="Arial Unicode MS"/>
              </a:rPr>
              <a:t>Какое слово или словосочетание в авторской оценке Петербурга можно считать ключевым?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5616720" y="2852640"/>
            <a:ext cx="3527280" cy="2887920"/>
          </a:xfrm>
          <a:prstGeom prst="rect">
            <a:avLst/>
          </a:prstGeom>
          <a:ln w="0">
            <a:noFill/>
          </a:ln>
        </p:spPr>
      </p:pic>
      <p:pic>
        <p:nvPicPr>
          <p:cNvPr id="103" name="music.mid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r4.wav" descr=""/>
          <p:cNvPicPr/>
          <p:nvPr/>
        </p:nvPicPr>
        <p:blipFill>
          <a:blip r:embed="rId3"/>
          <a:stretch/>
        </p:blipFill>
        <p:spPr>
          <a:xfrm>
            <a:off x="277164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95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Петропавловская крепость и набережная Невы в Петербурге. Литография 20-х годов XIX в."/>
          <p:cNvPicPr/>
          <p:nvPr/>
        </p:nvPicPr>
        <p:blipFill>
          <a:blip r:embed="rId5"/>
          <a:stretch/>
        </p:blipFill>
        <p:spPr>
          <a:xfrm>
            <a:off x="4859280" y="0"/>
            <a:ext cx="4284720" cy="2811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539640" y="0"/>
            <a:ext cx="517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тербург Пушк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2" descr="531"/>
          <p:cNvPicPr/>
          <p:nvPr/>
        </p:nvPicPr>
        <p:blipFill>
          <a:blip r:embed="rId6"/>
          <a:stretch/>
        </p:blipFill>
        <p:spPr>
          <a:xfrm>
            <a:off x="0" y="907920"/>
            <a:ext cx="3935520" cy="475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PI029"/>
          <p:cNvPicPr/>
          <p:nvPr/>
        </p:nvPicPr>
        <p:blipFill>
          <a:blip r:embed="rId7"/>
          <a:stretch/>
        </p:blipFill>
        <p:spPr>
          <a:xfrm>
            <a:off x="3419640" y="4581360"/>
            <a:ext cx="2484360" cy="1119240"/>
          </a:xfrm>
          <a:prstGeom prst="rect">
            <a:avLst/>
          </a:prstGeom>
          <a:ln w="0">
            <a:noFill/>
          </a:ln>
        </p:spPr>
      </p:pic>
      <p:pic>
        <p:nvPicPr>
          <p:cNvPr id="110" name="r 4 Отрывок Петра творенье.wav" descr=""/>
          <p:cNvPicPr/>
          <p:nvPr/>
        </p:nvPicPr>
        <p:blipFill>
          <a:blip r:embed="rId8"/>
          <a:stretch/>
        </p:blipFill>
        <p:spPr>
          <a:xfrm>
            <a:off x="8604360" y="530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Otrywok iz poemy.wav" descr=""/>
          <p:cNvPicPr/>
          <p:nvPr/>
        </p:nvPicPr>
        <p:blipFill>
          <a:blip r:embed="rId9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894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7894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8946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977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Ключевое словосочетание –   </a:t>
            </a:r>
            <a:r>
              <a:rPr b="0" lang="ru-RU" sz="4000" spc="-1" strike="noStrike" u="sng">
                <a:solidFill>
                  <a:srgbClr val="ffcc00"/>
                </a:solidFill>
                <a:uFillTx/>
                <a:latin typeface="Arial Unicode MS"/>
                <a:hlinkClick r:id="rId1"/>
              </a:rPr>
              <a:t>«</a:t>
            </a:r>
            <a:r>
              <a:rPr b="0" lang="ru-RU" sz="4000" spc="-1" strike="noStrike" u="sng">
                <a:solidFill>
                  <a:srgbClr val="ffcc00"/>
                </a:solidFill>
                <a:uFillTx/>
                <a:latin typeface="Arial Unicode MS"/>
                <a:hlinkClick r:id="rId2"/>
              </a:rPr>
              <a:t>Петра творенье…»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87280" y="2133360"/>
            <a:ext cx="56991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</a:rPr>
              <a:t>Запишите ассоциативные ряды к этому словосочетанию, в которых содержалась бы разная по оценке информация.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14" name="Picture 7" descr="INKANDQUILL-MOTION1-W"/>
          <p:cNvPicPr/>
          <p:nvPr/>
        </p:nvPicPr>
        <p:blipFill>
          <a:blip r:embed="rId3"/>
          <a:stretch/>
        </p:blipFill>
        <p:spPr>
          <a:xfrm>
            <a:off x="1403280" y="3933720"/>
            <a:ext cx="132084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78136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3640" y="3573360"/>
            <a:ext cx="856908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 Unicode MS"/>
              </a:rPr>
              <a:t>           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 Unicode MS"/>
              </a:rPr>
              <a:t>Позитивная информация: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город пышный”, “ юный град”, “полнощных стран краса и диво”, “град Петров”, “в гранит оделася Нева”, “мосты повисли над водами”, “тёмно-зелёными садами …покрылись острова”, “Невы державное теченье”, “светл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 Unicode MS"/>
                <a:hlinkClick r:id="rId1"/>
              </a:rPr>
              <a:t>Адмиралтейская игла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 Unicode MS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”, оград узор чугунный”, “живость потешных Марсовых полей”, “военная столица”, “перед младшею столицей померкла старая Москва”…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755640" y="333360"/>
            <a:ext cx="7056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ассоциативный ря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6" descr="strel14"/>
          <p:cNvPicPr/>
          <p:nvPr/>
        </p:nvPicPr>
        <p:blipFill>
          <a:blip r:embed="rId2"/>
          <a:stretch/>
        </p:blipFill>
        <p:spPr>
          <a:xfrm>
            <a:off x="468360" y="3645000"/>
            <a:ext cx="1512720" cy="34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226512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4"/>
          <a:stretch/>
        </p:blipFill>
        <p:spPr>
          <a:xfrm>
            <a:off x="2700360" y="1125360"/>
            <a:ext cx="3166920" cy="236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5"/>
          <a:stretch/>
        </p:blipFill>
        <p:spPr>
          <a:xfrm>
            <a:off x="6156360" y="1052640"/>
            <a:ext cx="2328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3645000"/>
            <a:ext cx="8064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 Unicode MS"/>
              </a:rPr>
              <a:t>Негативная информация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1" i="1" lang="ru-RU" sz="2200" spc="-1" strike="noStrike">
                <a:solidFill>
                  <a:srgbClr val="ffffff"/>
                </a:solidFill>
                <a:latin typeface="Arial Unicode MS"/>
              </a:rPr>
              <a:t>над омрачённым Петроградом”, “ Нева металась”, “Нева всю ночь рвалася к морю против бури”, “перегражденная Нева…затопляла острова”, “всплыл Петрополь”, “гроба с размытого кладбища плывут по улицам”, “над возмущенною Невою стоит…кумир на бронзовом коне”, “скривились домики, другие совсем обрушились”…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755640" y="189000"/>
            <a:ext cx="705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й ассоциативный ря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6" descr="107"/>
          <p:cNvPicPr/>
          <p:nvPr/>
        </p:nvPicPr>
        <p:blipFill>
          <a:blip r:embed="rId1"/>
          <a:stretch/>
        </p:blipFill>
        <p:spPr>
          <a:xfrm>
            <a:off x="3492360" y="836640"/>
            <a:ext cx="2489400" cy="275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112"/>
          <p:cNvPicPr/>
          <p:nvPr/>
        </p:nvPicPr>
        <p:blipFill>
          <a:blip r:embed="rId2"/>
          <a:stretch/>
        </p:blipFill>
        <p:spPr>
          <a:xfrm>
            <a:off x="250920" y="836640"/>
            <a:ext cx="3168720" cy="279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111"/>
          <p:cNvPicPr/>
          <p:nvPr/>
        </p:nvPicPr>
        <p:blipFill>
          <a:blip r:embed="rId3"/>
          <a:stretch/>
        </p:blipFill>
        <p:spPr>
          <a:xfrm>
            <a:off x="6084720" y="861840"/>
            <a:ext cx="3059280" cy="26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rayon1"/>
          <p:cNvPicPr/>
          <p:nvPr/>
        </p:nvPicPr>
        <p:blipFill>
          <a:blip r:embed="rId4"/>
          <a:stretch/>
        </p:blipFill>
        <p:spPr>
          <a:xfrm>
            <a:off x="0" y="4221000"/>
            <a:ext cx="12384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291600"/>
            <a:ext cx="6624720" cy="104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1 группа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А.С.Пушкин признается в любви городу: так ли это?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Анализ фрагмента текста «Люблю тебя, Петра творенье…»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Какие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 Unicode MS"/>
                <a:hlinkClick r:id="rId1"/>
              </a:rPr>
              <a:t>лексические средства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используются здесь автором и какова цель их использования?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2124000" y="549360"/>
            <a:ext cx="6120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в группах</a:t>
            </a:r>
            <a:endParaRPr b="0" lang="en-US" sz="1800" spc="1" strike="noStrike">
              <a:ln cap="rnd" w="1260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0" descr="computador04"/>
          <p:cNvPicPr/>
          <p:nvPr/>
        </p:nvPicPr>
        <p:blipFill>
          <a:blip r:embed="rId2"/>
          <a:stretch/>
        </p:blipFill>
        <p:spPr>
          <a:xfrm>
            <a:off x="0" y="189000"/>
            <a:ext cx="1738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360" y="291600"/>
            <a:ext cx="6767280" cy="104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2 группа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А.С.Пушкин признается в любви городу: так ли это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Анализ фрагмента текста «Люблю тебя, Петра творенье…»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Каким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 Unicode MS"/>
                <a:hlinkClick r:id="rId1"/>
              </a:rPr>
              <a:t>размером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написано вступление и какое звучание он (размер) ему придает ?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Какие символы города упоминаются во фрагменте? Как поэт относится к Петербургу?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1908000" y="404640"/>
            <a:ext cx="6264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в группах</a:t>
            </a:r>
            <a:endParaRPr b="0" lang="en-US" sz="1800" spc="1" strike="noStrike">
              <a:ln cap="rnd" w="1260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Picture 7" descr="computador04"/>
          <p:cNvPicPr/>
          <p:nvPr/>
        </p:nvPicPr>
        <p:blipFill>
          <a:blip r:embed="rId2"/>
          <a:stretch/>
        </p:blipFill>
        <p:spPr>
          <a:xfrm>
            <a:off x="0" y="0"/>
            <a:ext cx="18352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8:47:45Z</dcterms:created>
  <dc:creator>GMM 264</dc:creator>
  <dc:description/>
  <dc:language>en-US</dc:language>
  <cp:lastModifiedBy>264</cp:lastModifiedBy>
  <dcterms:modified xsi:type="dcterms:W3CDTF">2012-01-05T12:16:35Z</dcterms:modified>
  <cp:revision>38</cp:revision>
  <dc:subject/>
  <dc:title>Слайд 1</dc:title>
</cp:coreProperties>
</file>