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2638-95C7-4584-BBBB-61A15181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1943-F568-4017-B04B-0E7A5E0C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CF61-43D0-44BF-A041-1832F62F1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7D62-E5DB-4B34-AC7C-6F2DF2D9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9C24-CB45-46B2-A36B-E7A6CED87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C7CD-7844-4568-8866-2F250A08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F0E7-199C-420D-8946-235FD374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3C94-070E-409E-B4F3-3E29BDE1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6127-EE0B-4990-94D1-792ECE57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07F9-023B-4FEC-960A-253C503E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F265-CF21-4084-9351-A444B215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A701-D049-4EE7-9A8B-AFC991CB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FEBA-04CE-46D8-B403-F31FF0B6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EFF0-23EF-461E-85C0-437B7477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AE42-0830-437C-9D81-721A6235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DD62-5C43-487B-901D-49DAF522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20AF-0B44-4388-A174-0E3E6329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19C8-9EFC-47FC-9DD7-431952F6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616B-435D-4C0E-BE72-3AB980DA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1B47-E63E-4797-BE9D-422D70A7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FC7E-41D1-4342-B0D4-42CA0422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7179-2C97-476F-97BF-3D169524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DDE7-97E9-4388-B03D-A0CE1B63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2470-A817-4014-A0B8-51838402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AB8D-8F3A-4E1F-925A-74D6454954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CE21-5114-4A0B-A86C-FC21064094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7_&#1076;&#1077;&#1082;&#1072;&#1073;&#1088;&#1103;" TargetMode="External"/><Relationship Id="rId2" Type="http://schemas.openxmlformats.org/officeDocument/2006/relationships/hyperlink" Target="http://ru.wikipedia.org/wiki/1989_&#1075;&#1086;&#1076;" TargetMode="External"/><Relationship Id="rId3" Type="http://schemas.openxmlformats.org/officeDocument/2006/relationships/hyperlink" Target="http://ru.wikipedia.org/wiki/&#1060;&#1072;&#1081;&#1083;:Kem-004.jpg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91;&#1079;&#1077;&#1081;-&#1079;&#1072;&#1087;&#1086;&#1074;&#1077;&#1076;&#1085;&#1080;&#1082;" TargetMode="External"/><Relationship Id="rId2" Type="http://schemas.openxmlformats.org/officeDocument/2006/relationships/hyperlink" Target="http://ru.wikipedia.org/wiki/&#1071;&#1096;&#1082;&#1080;&#1085;&#1089;&#1082;&#1080;&#1081;_&#1088;&#1072;&#1081;&#1086;&#1085;_&#1050;&#1077;&#1084;&#1077;&#1088;&#1086;&#1074;&#1089;&#1082;&#1086;&#1081;_&#1086;&#1073;&#1083;&#1072;&#1089;&#1090;&#1080;" TargetMode="External"/><Relationship Id="rId3" Type="http://schemas.openxmlformats.org/officeDocument/2006/relationships/hyperlink" Target="http://ru.wikipedia.org/wiki/&#1071;&#1096;&#1082;&#1080;&#1085;&#1089;&#1082;&#1080;&#1081;_&#1088;&#1072;&#1081;&#1086;&#1085;_&#1050;&#1077;&#1084;&#1077;&#1088;&#1086;&#1074;&#1089;&#1082;&#1086;&#1081;_&#1086;&#1073;&#1083;&#1072;&#1089;&#1090;&#1080;" TargetMode="External"/><Relationship Id="rId4" Type="http://schemas.openxmlformats.org/officeDocument/2006/relationships/hyperlink" Target="http://ru.wikipedia.org/wiki/&#1050;&#1077;&#1084;&#1077;&#1088;&#1086;&#1074;&#1089;&#1082;&#1072;&#1103;_&#1086;&#1073;&#1083;&#1072;&#1089;&#1090;&#1100;" TargetMode="External"/><Relationship Id="rId5" Type="http://schemas.openxmlformats.org/officeDocument/2006/relationships/hyperlink" Target="http://ru.wikipedia.org/wiki/&#1043;&#1072;" TargetMode="External"/><Relationship Id="rId6" Type="http://schemas.openxmlformats.org/officeDocument/2006/relationships/hyperlink" Target="http://ru.wikipedia.org/wiki/&#1058;&#1086;&#1084;&#1100;_(&#1087;&#1088;&#1080;&#1090;&#1086;&#1082;_&#1054;&#1073;&#1080;)" TargetMode="External"/><Relationship Id="rId7" Type="http://schemas.openxmlformats.org/officeDocument/2006/relationships/hyperlink" Target="http://ru.wikipedia.org/wiki/4_&#1090;&#1099;&#1089;&#1103;&#1095;&#1077;&#1083;&#1077;&#1090;&#1080;&#1077;_&#1076;&#1086;_&#1085;._&#1101;." TargetMode="External"/><Relationship Id="rId8" Type="http://schemas.openxmlformats.org/officeDocument/2006/relationships/hyperlink" Target="http://ru.wikipedia.org/wiki/1_&#1090;&#1099;&#1089;&#1103;&#1095;&#1077;&#1083;&#1077;&#1090;&#1080;&#1077;_&#1076;&#1086;_&#1085;._&#1101;." TargetMode="External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9999ff"/>
                </a:solidFill>
                <a:latin typeface="Arial"/>
              </a:rPr>
              <a:t>Охраняемые территори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умайско - Иркутяновски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оложен на стыке Чебулинского и Тисульского райо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вляется видовым, созданным в целях охраны и воспроизводства марала. Площадь Чумайско-Иркутяновского заказника составляет 23 897,1 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флоре заказника выявлено 20 видов редких растений, занесенных в Красную книгу Кемеровской области, с разным статусом охраны, из них четыре ви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93680" y="1600200"/>
            <a:ext cx="2916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Добро пожаловать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Заповедник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обо охраняемая территория или акватория, полностью или частично исключенная из хозяйственного использования в целях сохранения природных комплексов, охраны видов животных и растений, а также слежения за природными процесс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Кузнецкий Алатау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7960" y="1267920"/>
            <a:ext cx="38862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знецкий Алатау создан </a:t>
            </a:r>
            <a:r>
              <a:rPr b="0" lang="ru-RU" sz="20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27 декабр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1989 г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Его общая площадь 412 900 га. Вокруг заповедника установлена охранная зона общей площадью 245 931 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оложен на юге Центральной Сибири в наиболее высокой части хребта Кузнецкий Алатау на территории Тисульского, Новокузнецкого и Междуреченского районов Кемеровск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34" descr="http://upload.wikimedia.org/wikipedia/commons/thumb/2/2e/Kem-004.jpg/250px-Kem-004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1700280"/>
            <a:ext cx="3240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омская писаниц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рико-культурный и природный </a:t>
            </a:r>
            <a:r>
              <a:rPr b="0" lang="ru-RU" sz="20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музей-заповедни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ru-RU" sz="20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Яшкинском</a:t>
            </a:r>
            <a:r>
              <a:rPr b="0" lang="ru-RU" sz="2000" spc="-1" strike="noStrike" u="sng">
                <a:solidFill>
                  <a:srgbClr val="996666"/>
                </a:solidFill>
                <a:uFillTx/>
                <a:latin typeface="Arial"/>
                <a:hlinkClick r:id="rId3"/>
              </a:rPr>
              <a:t> район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996666"/>
                </a:solidFill>
                <a:uFillTx/>
                <a:latin typeface="Arial"/>
                <a:hlinkClick r:id="rId4"/>
              </a:rPr>
              <a:t>Кемеровской обла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Расположен в лесопарковой зоне на площади 140 </a:t>
            </a:r>
            <a:r>
              <a:rPr b="0" lang="ru-RU" sz="2000" spc="-1" strike="noStrike" u="sng">
                <a:solidFill>
                  <a:srgbClr val="996666"/>
                </a:solidFill>
                <a:uFillTx/>
                <a:latin typeface="Arial"/>
                <a:hlinkClick r:id="rId5"/>
              </a:rPr>
              <a:t>г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правом берегу </a:t>
            </a:r>
            <a:r>
              <a:rPr b="0" lang="ru-RU" sz="2000" spc="-1" strike="noStrike" u="sng">
                <a:solidFill>
                  <a:srgbClr val="996666"/>
                </a:solidFill>
                <a:uFillTx/>
                <a:latin typeface="Arial"/>
                <a:hlinkClick r:id="rId6"/>
              </a:rPr>
              <a:t>То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где сохранилось 280 наскальных рисунков </a:t>
            </a:r>
            <a:r>
              <a:rPr b="0" lang="ru-RU" sz="2000" spc="-1" strike="noStrike" u="sng">
                <a:solidFill>
                  <a:srgbClr val="996666"/>
                </a:solidFill>
                <a:uFillTx/>
                <a:latin typeface="Arial"/>
                <a:hlinkClick r:id="rId7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2000" spc="-1" strike="noStrike" u="sng">
                <a:solidFill>
                  <a:srgbClr val="996666"/>
                </a:solidFill>
                <a:uFillTx/>
                <a:latin typeface="Arial"/>
                <a:hlinkClick r:id="rId8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ысячелетий до н. э. В 50 км к северо-западу от Кемерова. Создан в феврале 1988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87" descr="http://upload.wikimedia.org/wikipedia/commons/thumb/e/e0/Tomskaya_Pisanitsa.jpg/300px-Tomskaya_Pisanitsa.jpg"/>
          <p:cNvPicPr/>
          <p:nvPr/>
        </p:nvPicPr>
        <p:blipFill>
          <a:blip r:embed="rId9"/>
          <a:stretch/>
        </p:blipFill>
        <p:spPr>
          <a:xfrm>
            <a:off x="684360" y="1484280"/>
            <a:ext cx="352728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Заказник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храняемая природная территория, на которой под охраной находится не весь природный комплекс, а некоторые виды. Либо отдельные историко –мемориальные или геологические объе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нтибесски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оложен в северной части области на стыке границ Ижморского, Мариинского, Чебулинского районов. Свое название заказник получил от реки Антибес, в бассейне которой он расположен. Площадь Антибесского заказника составляет 47 738,7 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388620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Бунгарапско-Ажендаровски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положен на стыке Крапивинского и Беловского районов Кемеровской обла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момента создания и по настоящее время является видовым, созданным в целях охраны и воспроизводства боб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реди растений и животных значительное число видов имеют разнообразное хозяйственное значение и природоохранный стату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9480" y="1844640"/>
            <a:ext cx="38862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итатски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оложен в северной части Кемеровской области, на территории Яйского райо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писок охраняемых видов включены пять видов позвоночных и один вид насеком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9480" y="1844640"/>
            <a:ext cx="38862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Раздольны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вляется комплексным, но основное его назначение – охрана лосей и косуль на зимней стоянке. Заказник «Раздольный» расположен на стыке Юргинского и Топкинского райо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территории заказника зарегистрировано всего шесть видов редких растений и столько же видов животных, занесенных в Красную книгу Кемеровск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09480" y="1844640"/>
            <a:ext cx="38862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2T15:35:06Z</dcterms:created>
  <dc:creator>Admin</dc:creator>
  <dc:description/>
  <dc:language>en-US</dc:language>
  <cp:lastModifiedBy>Admin</cp:lastModifiedBy>
  <dcterms:modified xsi:type="dcterms:W3CDTF">2010-04-18T15:21:46Z</dcterms:modified>
  <cp:revision>3</cp:revision>
  <dc:subject/>
  <dc:title>Слайд 1</dc:title>
</cp:coreProperties>
</file>