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6.jpeg" ContentType="image/jpeg"/>
  <Override PartName="/ppt/media/image5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70F-AA85-4B13-B463-C9AAFF6E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F81-D94B-4B5B-9EFB-E3CFE39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86D-E10F-40FB-82B8-0747205A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B4E-40CC-44BA-8CF3-D1C44EA0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4485-0754-4C5A-838F-F5828638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EA0-8775-441C-A88F-BFA1492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E7F7-2D89-4050-89E2-F959C53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A06C-AC2C-4BC9-AFBA-D1168DA0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3848-21EA-4A73-ABC9-6687BF57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04B-464B-45F0-BCC9-3CEE8FC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8BF-6ECD-46FB-968C-8A53159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916-C264-41E2-8E6C-F0A988D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C42B-A442-4BDF-95DE-693C5DE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515-94BE-4A7C-A960-AC0A2C4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D9DD-8F16-480C-9EFB-634A72A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2AB-5A22-4925-9C9D-6E1365E4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27CF-3E7F-4F58-B17A-F5BF8128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442-0E4C-4B99-92D8-10D2C6A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9A0-08D5-4648-9FDF-2E919FB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2C1-377E-4C3D-83F1-4314E4C9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4E9-518F-4FA3-AE98-0ACB1AB0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349-9B83-44AB-B528-B4624FA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2A7-68B6-43D5-84EC-6BE7799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FDD-92DB-4948-94E3-9FBD50C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D47-346A-414A-8401-1ACFA1B4FE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6E4-E7E0-43F7-BCAB-2B715B1081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Физкультурно – оздоровительная работа в детском саду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61760" y="320364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таршая групп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БДОУ «Центр развития ребенка – д/ сад № 53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оспитатель: Чахно Н.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вочки тоже играют в футбо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Объект 2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1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гра «Листопад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стья по ветру летят,   не поймать нам их никак…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Объект 2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505320" cy="2666880"/>
          </a:xfrm>
          <a:prstGeom prst="rect">
            <a:avLst/>
          </a:prstGeom>
          <a:ln w="0">
            <a:noFill/>
          </a:ln>
        </p:spPr>
      </p:pic>
      <p:pic>
        <p:nvPicPr>
          <p:cNvPr id="187" name="Объект 4" descr=""/>
          <p:cNvPicPr/>
          <p:nvPr/>
        </p:nvPicPr>
        <p:blipFill>
          <a:blip r:embed="rId2"/>
          <a:stretch/>
        </p:blipFill>
        <p:spPr>
          <a:xfrm>
            <a:off x="4648320" y="234144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ые эстафет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 самые смелые, быстрые, ловкие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Объект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504960" cy="2657520"/>
          </a:xfrm>
          <a:prstGeom prst="rect">
            <a:avLst/>
          </a:prstGeom>
          <a:ln w="0">
            <a:noFill/>
          </a:ln>
        </p:spPr>
      </p:pic>
      <p:pic>
        <p:nvPicPr>
          <p:cNvPr id="191" name="Объект 2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 теперь проверим координацию и внимание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Объект 2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Я точно дойду до финиша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5" name="Объект 2" descr=""/>
          <p:cNvPicPr/>
          <p:nvPr/>
        </p:nvPicPr>
        <p:blipFill>
          <a:blip r:embed="rId1"/>
          <a:stretch/>
        </p:blipFill>
        <p:spPr>
          <a:xfrm>
            <a:off x="457200" y="2273400"/>
            <a:ext cx="4038480" cy="318456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4" descr=""/>
          <p:cNvPicPr/>
          <p:nvPr/>
        </p:nvPicPr>
        <p:blipFill>
          <a:blip r:embed="rId2"/>
          <a:stretch/>
        </p:blipFill>
        <p:spPr>
          <a:xfrm>
            <a:off x="4667400" y="226548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стафета «Змейка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у противник,  попробуй обгони!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8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325296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2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ши болельщик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Объект 2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5257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движные игры в группе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И без всякого сомнень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Есть хорошее решенье 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Бег полезен и игр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Занимайся детвора!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Объект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207" name="Объект 4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 это наш победитель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9" name="Объект 2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0" name="Объект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гра «Кто быстрее?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Объект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638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53452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Физкультурно- оздоровительный цикл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: сформировать у детей стойкую мотивацию на здоровый образ жизни и полноценное развит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а: выработка у детей детского сада осознания значимости здорового образа жизни и умение выбирать соответствующие средства для его дости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Гимнастик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после сна.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, все дружненько проснулис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ыбнулись, потянулись, …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Объект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 ребристой по дорожке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ходите наши ножки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7" name="Объект 2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5638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ыхательная гимнасти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9" name="Объект 2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6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имнастика для глаз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Объект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402000" cy="452916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4" descr=""/>
          <p:cNvPicPr/>
          <p:nvPr/>
        </p:nvPicPr>
        <p:blipFill>
          <a:blip r:embed="rId2"/>
          <a:stretch/>
        </p:blipFill>
        <p:spPr>
          <a:xfrm>
            <a:off x="4989600" y="1600200"/>
            <a:ext cx="335592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8" descr=""/>
          <p:cNvPicPr/>
          <p:nvPr/>
        </p:nvPicPr>
        <p:blipFill>
          <a:blip r:embed="rId3"/>
          <a:stretch/>
        </p:blipFill>
        <p:spPr>
          <a:xfrm>
            <a:off x="5043600" y="3941640"/>
            <a:ext cx="3247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пражне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ажмурьте глаза, а потом откройте их -5раз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елайте круговые движения глазами.-10раз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смотрите в окно в даль.-1мину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Сухой бассейн.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8" name="Объект 2" descr="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ассейн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бассейне занимать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-очень нравитс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кому рекорды снятся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ом увлекаю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мы на радость мам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тства закалёнными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ырастем и с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ем чемпионам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2640" y="533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ушки-погремушк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ь для малыше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нь скорее шапочку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вать поскорей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Объект 2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035240" cy="30290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6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4035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7631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Формы работы с родителям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омендации для родителей в группе освещающие вопросы оздоровления без лекар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сультации, беседы с родителями по вопросам здоровьесбережения и закаливания дет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формационные стенды медицинских работников и инструкторов по физкультуре и плаван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общение родителей к участию в физкультурно-массовых мероприятиях ДО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ый праздник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8" name="Объект 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5181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Чтоб здоровым быть сполн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Физкультура всем нужн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Для начала по порядку 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Утром сделаем зарядку!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«Нам смелым и сильным, и ловким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Со спортом всегда по пути!»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325440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5073480" y="1600200"/>
            <a:ext cx="3187800" cy="2189160"/>
          </a:xfrm>
          <a:prstGeom prst="rect">
            <a:avLst/>
          </a:prstGeom>
          <a:ln w="0">
            <a:noFill/>
          </a:ln>
        </p:spPr>
      </p:pic>
      <p:pic>
        <p:nvPicPr>
          <p:cNvPr id="242" name="Объект 8" descr=""/>
          <p:cNvPicPr/>
          <p:nvPr/>
        </p:nvPicPr>
        <p:blipFill>
          <a:blip r:embed="rId3"/>
          <a:stretch/>
        </p:blipFill>
        <p:spPr>
          <a:xfrm>
            <a:off x="5067360" y="3941640"/>
            <a:ext cx="3200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Цель физической культуры —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Быть здоровым и с фигурой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Радующей душу, взгляд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        Быть красивым каждый ра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Объект 2" descr="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2189160"/>
          </a:xfrm>
          <a:prstGeom prst="rect">
            <a:avLst/>
          </a:prstGeom>
          <a:ln w="0">
            <a:noFill/>
          </a:ln>
        </p:spPr>
      </p:pic>
      <p:pic>
        <p:nvPicPr>
          <p:cNvPr id="245" name="Объект 4" descr=""/>
          <p:cNvPicPr/>
          <p:nvPr/>
        </p:nvPicPr>
        <p:blipFill>
          <a:blip r:embed="rId2"/>
          <a:stretch/>
        </p:blipFill>
        <p:spPr>
          <a:xfrm>
            <a:off x="836640" y="3941640"/>
            <a:ext cx="327960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3"/>
          <a:stretch/>
        </p:blipFill>
        <p:spPr>
          <a:xfrm>
            <a:off x="4729320" y="2265480"/>
            <a:ext cx="38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порт, ребята, очень нужен,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ы со спортом очень дружим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порт – помощник!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порт – здоровье!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порт – игра!</a:t>
            </a:r>
            <a:br>
              <a:rPr sz="28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Физкульт – УРА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Объект 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035600" cy="3029040"/>
          </a:xfrm>
          <a:prstGeom prst="rect">
            <a:avLst/>
          </a:prstGeom>
          <a:ln w="0">
            <a:noFill/>
          </a:ln>
        </p:spPr>
      </p:pic>
      <p:pic>
        <p:nvPicPr>
          <p:cNvPr id="249" name="Объект 2" descr=""/>
          <p:cNvPicPr/>
          <p:nvPr/>
        </p:nvPicPr>
        <p:blipFill>
          <a:blip r:embed="rId2"/>
          <a:stretch/>
        </p:blipFill>
        <p:spPr>
          <a:xfrm>
            <a:off x="4648320" y="228744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Если хочешь стать умелым,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ильным, ловким, смелы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аучись любить скакалки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бручи и палк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Объект 2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  <p:pic>
        <p:nvPicPr>
          <p:cNvPr id="252" name="Объект 4" descr=""/>
          <p:cNvPicPr/>
          <p:nvPr/>
        </p:nvPicPr>
        <p:blipFill>
          <a:blip r:embed="rId2"/>
          <a:stretch/>
        </p:blipFill>
        <p:spPr>
          <a:xfrm>
            <a:off x="5040360" y="1600200"/>
            <a:ext cx="3254400" cy="218916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8" descr=""/>
          <p:cNvPicPr/>
          <p:nvPr/>
        </p:nvPicPr>
        <p:blipFill>
          <a:blip r:embed="rId3"/>
          <a:stretch/>
        </p:blipFill>
        <p:spPr>
          <a:xfrm>
            <a:off x="5040360" y="3941640"/>
            <a:ext cx="3254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ши бабули, в спорте – просто красотули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6" name="Объект 6" descr=""/>
          <p:cNvPicPr/>
          <p:nvPr/>
        </p:nvPicPr>
        <p:blipFill>
          <a:blip r:embed="rId2"/>
          <a:stretch/>
        </p:blipFill>
        <p:spPr>
          <a:xfrm>
            <a:off x="4649760" y="2351160"/>
            <a:ext cx="40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еселые игр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Объект 10" descr=""/>
          <p:cNvPicPr/>
          <p:nvPr/>
        </p:nvPicPr>
        <p:blipFill>
          <a:blip r:embed="rId1"/>
          <a:stretch/>
        </p:blipFill>
        <p:spPr>
          <a:xfrm>
            <a:off x="5040360" y="3941640"/>
            <a:ext cx="3254400" cy="218916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12" descr=""/>
          <p:cNvPicPr/>
          <p:nvPr/>
        </p:nvPicPr>
        <p:blipFill>
          <a:blip r:embed="rId2"/>
          <a:stretch/>
        </p:blipFill>
        <p:spPr>
          <a:xfrm>
            <a:off x="5038560" y="1600200"/>
            <a:ext cx="3257640" cy="2189160"/>
          </a:xfrm>
          <a:prstGeom prst="rect">
            <a:avLst/>
          </a:prstGeom>
          <a:ln w="0">
            <a:noFill/>
          </a:ln>
        </p:spPr>
      </p:pic>
      <p:pic>
        <p:nvPicPr>
          <p:cNvPr id="260" name="Объект 16" descr=""/>
          <p:cNvPicPr/>
          <p:nvPr/>
        </p:nvPicPr>
        <p:blipFill>
          <a:blip r:embed="rId3"/>
          <a:stretch/>
        </p:blipFill>
        <p:spPr>
          <a:xfrm>
            <a:off x="849240" y="2771640"/>
            <a:ext cx="3254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ружный хоровод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2" name="Объект 2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3" name="Объект 6" descr=""/>
          <p:cNvPicPr/>
          <p:nvPr/>
        </p:nvPicPr>
        <p:blipFill>
          <a:blip r:embed="rId2"/>
          <a:stretch/>
        </p:blipFill>
        <p:spPr>
          <a:xfrm>
            <a:off x="4649760" y="2351160"/>
            <a:ext cx="40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! И цените здоровье!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формируется в семье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его дороже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этой сказочной земле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Объект 2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тренняя гимнасти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доровье в порядке, спасибо зарядке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Объект 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200400" cy="401940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4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2724120" cy="2048040"/>
          </a:xfrm>
          <a:prstGeom prst="rect">
            <a:avLst/>
          </a:prstGeom>
          <a:ln w="0">
            <a:noFill/>
          </a:ln>
        </p:spPr>
      </p:pic>
      <p:pic>
        <p:nvPicPr>
          <p:cNvPr id="169" name="Объект 2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286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тобы ни один микроб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 попал случайно в рот,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уки мыть перед едо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ужно мылом и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шать овощи и фрукты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ыбу, молокопродукты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т полезная ед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таминам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на!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Объект 2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5257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изкультура в за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Объект 2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2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движные игры на улице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520" y="1599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ивные упражн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Объект 2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1083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от, сейчас, только хорошенько разбегусь и будет гол!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Объект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5430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hatan</dc:creator>
  <dc:description/>
  <dc:language>en-US</dc:language>
  <cp:lastModifiedBy>ashatan</cp:lastModifiedBy>
  <dcterms:modified xsi:type="dcterms:W3CDTF">2012-01-05T15:02:4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