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1C4-9C38-48F0-9A6A-B77B1CDC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E0A-7693-4839-89C8-27DB305C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8EB-08C0-43ED-B46F-0DF85BD2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8C3-78CE-423D-9501-9FFD243A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16B0-18F8-4A2D-A671-6EE57E0F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F9EB-2822-4988-AA58-1C3EFA56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039E-A976-4178-A70F-D55DF603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BF39-90F3-4B03-9C56-AFED9051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3BF1-9664-417A-A1F7-E6D46E65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9A28-9EAF-465C-9B20-6C59262C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C7FC-F97D-44EF-AAC9-C4782AE4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3F7-9176-4645-8570-FCE3FC0B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DD1E-F2E9-4A94-8D2D-9A00A2A1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3A8E-322B-4F45-8227-6F68ADA1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F3A7-6319-4037-BD9A-B6155D9C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C7BA-49BA-4FDD-A9DC-6020ECAA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F089-46F4-4939-9E5B-1A6EE9A6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A85-9E1B-42FF-93AE-4E01EB89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7EA-2E8A-4663-B56E-BFCC48BD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DCD-28C9-4DFD-9DA5-92BF0221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ADA-B958-497E-B34E-67DB4309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3B5-C7CA-4AE3-8539-66465223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03E-2CCC-477F-977F-6A486F64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A99-2B75-4F0E-B68D-C635119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A8B0-CB2C-4A5F-8A64-C5311BA0E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1DA2-841B-4366-B129-5B843E435D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Basketball"/>
          <p:cNvPicPr/>
          <p:nvPr/>
        </p:nvPicPr>
        <p:blipFill>
          <a:blip r:embed="rId1"/>
          <a:stretch/>
        </p:blipFill>
        <p:spPr>
          <a:xfrm>
            <a:off x="0" y="2681280"/>
            <a:ext cx="3660840" cy="4176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46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роект по физической культур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4143240" y="3429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</a:rPr>
              <a:t>Баскетбол 10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3071880" y="550080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Times New Roman"/>
              </a:rPr>
              <a:t>Презентацию выполнил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Times New Roman"/>
              </a:rPr>
              <a:t>ученица 10 класса«МОУ-СОШ с.Б.Дмитриевка» Тиранова  Валентина, руководитель : учитель физической культуры Злобин Алексей Николаеви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Basketball"/>
          <p:cNvPicPr/>
          <p:nvPr/>
        </p:nvPicPr>
        <p:blipFill>
          <a:blip r:embed="rId1"/>
          <a:stretch/>
        </p:blipFill>
        <p:spPr>
          <a:xfrm>
            <a:off x="5773680" y="3645000"/>
            <a:ext cx="3370320" cy="3213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179280" y="333360"/>
            <a:ext cx="8713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ходимые условия для тренировк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тановить  дополнительный щи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думать расположение «станций» для круговой трениров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 график тренировочных занятий на базе  ФОК « Олимпик» р.п. Лысые Г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240396004_bball"/>
          <p:cNvPicPr/>
          <p:nvPr/>
        </p:nvPicPr>
        <p:blipFill>
          <a:blip r:embed="rId1"/>
          <a:stretch/>
        </p:blipFill>
        <p:spPr>
          <a:xfrm>
            <a:off x="5896080" y="2349360"/>
            <a:ext cx="3247920" cy="4508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"/>
          <p:cNvSpPr/>
          <p:nvPr/>
        </p:nvSpPr>
        <p:spPr>
          <a:xfrm>
            <a:off x="395280" y="404640"/>
            <a:ext cx="8353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ланирование деятельност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ение упражнений в течении 2 месяце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одить тренировочные занятия 3 раза в неделю (первый месяц уклон упражнений на общую выносливость, второй месяц на специальную выносливость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ение домашних заданий каждый день ( суббота облегченный вариант, в воскресение отдых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нятие на базе ФОК «Олимпик» р.п. Лысые Горы (1 тренировочное занятие в 2 недели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324000" y="189000"/>
            <a:ext cx="83516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еализация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ение выбранных упражнений  в течении 2 месяцев , соблюдая разработанный график (для занятий дома и для занятий в зале). Провести ряд тренировочных игр на базе ФОК «Олимпик» р.п. Лысые Горы, для того что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2491146"/>
          <p:cNvPicPr/>
          <p:nvPr/>
        </p:nvPicPr>
        <p:blipFill>
          <a:blip r:embed="rId1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539640" y="333360"/>
            <a:ext cx="813600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нализ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результате проектной деятельности реализовав все поставленные задачи ожидаем следующий результа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учшение результатов развития физических качест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е общей и специальной выносливост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basketball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38876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0" y="233532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Times New Roman"/>
              </a:rPr>
              <a:t>СПАСИБО ЗА ВНИМАНИЕ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1243841749_balls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3645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108000" y="189000"/>
            <a:ext cx="896472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аскетбол – одна из самых популярных игр во многих странах. Для нее характерны разнообразные движения: ходьба, бег, остановки, повороты, прыжки, ловля, броски и ведение мяча, осуществляемые в единоборстве с соперниками. Такое разнообразие движений способствует укреплению нервной системы, двигательного аппарата, улучшению обмена веществ, деятельности всех систем организма. Баскетбол является средством для активного отдых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й сельской школе маленький спортивный зал  и когда выезжаем в район на соревнования то сталкиваемся с проблемой большого за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в  ситуацию с учителем физической культуры мы пришли к выводу , что это недостаток развития выносливости , и как следств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фоне утомления  проблемы начались во всем: снизился процент попадания в корзину,  точность переда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21830m"/>
          <p:cNvPicPr/>
          <p:nvPr/>
        </p:nvPicPr>
        <p:blipFill>
          <a:blip r:embed="rId1"/>
          <a:stretch/>
        </p:blipFill>
        <p:spPr>
          <a:xfrm>
            <a:off x="0" y="0"/>
            <a:ext cx="4176720" cy="60958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5148360" y="879480"/>
            <a:ext cx="3240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обрать и адоптировать  упражнения на развитие выносливости при игре  в баскетбо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1288627762_b2_1266608318"/>
          <p:cNvPicPr/>
          <p:nvPr/>
        </p:nvPicPr>
        <p:blipFill>
          <a:blip r:embed="rId1"/>
          <a:stretch/>
        </p:blipFill>
        <p:spPr>
          <a:xfrm>
            <a:off x="5580000" y="3500280"/>
            <a:ext cx="3564000" cy="3357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539640" y="40464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звитие общей и специальной выносливост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явление индивидуальных отличи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вести текущий контрол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550-1"/>
          <p:cNvPicPr/>
          <p:nvPr/>
        </p:nvPicPr>
        <p:blipFill>
          <a:blip r:embed="rId1"/>
          <a:stretch/>
        </p:blipFill>
        <p:spPr>
          <a:xfrm>
            <a:off x="6372360" y="0"/>
            <a:ext cx="2803320" cy="3398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"/>
          <p:cNvSpPr/>
          <p:nvPr/>
        </p:nvSpPr>
        <p:spPr>
          <a:xfrm>
            <a:off x="0" y="333360"/>
            <a:ext cx="63723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ритерии к упражнениям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жнения долж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общую и специальную выносливост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ать точность бросков в кольцо на фоне утом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ршенствовать ведение мяча и точность переда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ballon"/>
          <p:cNvPicPr/>
          <p:nvPr/>
        </p:nvPicPr>
        <p:blipFill>
          <a:blip r:embed="rId1"/>
          <a:stretch/>
        </p:blipFill>
        <p:spPr>
          <a:xfrm>
            <a:off x="5861160" y="0"/>
            <a:ext cx="3282840" cy="38876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0" y="47628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</a:rPr>
              <a:t>Упражнения для тренировк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0" y="1052640"/>
            <a:ext cx="6012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Скоростное ведение 1-2 мячей в парах (челноком)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от лицевой линии до штрафной и обратно;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до центра и обратно;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до противоположной штрафной и обратно;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г) до противоположной лицевой и обрат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2.Усложненный вариант - с попаданием каждый раз в кольц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395280" y="47628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пражнение выполняется потоком. Баскетболисты построены в колонну по одному, у первых трех по мячу (если мячей достаточно, то у каждого). Первый занимающийся начинает упражнение - передачи и ловля мяча в стену без ведения мяча с продвижением вперед, бросок одной рукой сверху в движении, подбор мяча, ведение до боковой, прыжки толчком двумя (одной) одновременно вращая мяч вокруг туловища (или ведение вокруг туловища правой и левой) до средней линии, ведение мяча с поворотами или изменением направления перед собой, бросок с места или штрафной, мяч передают следующему или баскетболист становится в конец колонны. Как только игрок выполнил передачи в движении, упражнение начинает следующий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468360" y="33336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Занимающиеся стоят в колонне по одному на пересечении боковой и лицевой линий. Первый посылает мяч вперед, выполняет ускорение и как только мяч один раз ударится о площадку ловит его двумя руками, переходит на ведение мяча, ведет мяч на максимальной скорости, бросок в кольцо после двух шагов. После броска подбирают мяч и идут в противоположный "угол» площадки и начинает упражнение сначала. Так игрок проходит 7-10 круг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пор присев, мяч внизу. Продвижение вперед по прямой,      перекатывая руками мяч (два мяча, три мяча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гра в баскетбол 6 таймов по 10 мин. Отдых между первым и вторым таймом 5 мин., между вторым и третьим 4 мин., между третьим и четвертым 3 мин., между четвертым и пятым 2 мин. между пятым и шестым 1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2" descr="http://exvoland.narod.ru/files/articles/training/ofp_03.jpg"/>
          <p:cNvPicPr/>
          <p:nvPr/>
        </p:nvPicPr>
        <p:blipFill>
          <a:blip r:embed="rId1"/>
          <a:stretch/>
        </p:blipFill>
        <p:spPr>
          <a:xfrm>
            <a:off x="5940360" y="4483080"/>
            <a:ext cx="3203640" cy="23749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468360" y="333360"/>
            <a:ext cx="81360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руговая тренировка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жнения для домашнего выполн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жнения с отягощениями (приседания, приседания с выпрыгиванием вверх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ыжки через скакалку (за 1 мин определенное количество прыжков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гибание рук в упоре леж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хождение на возвышение (постепенно увеличивая темп движен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г на месте с опорой о стен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05T17:28:20Z</dcterms:modified>
  <cp:revision>28</cp:revision>
  <dc:subject/>
  <dc:title>PowerPoint Presentation</dc:title>
</cp:coreProperties>
</file>