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7E0-E2EB-4F61-B145-759D1537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C91-4BFC-4DD1-8B8F-6293E44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D91-6463-49DA-B2B4-D9D5F83D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EF9-CA67-4470-AE63-1B4A927C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29B6-AFB6-498B-B9C9-F68A6CA2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91793-CD1A-4BEB-8F78-4DB7100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B1B52-D3AE-4280-A591-D08E87F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99E3-C364-4F04-96BD-65D557E6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AA240-D902-4A89-8B85-D57966E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8244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AE044-8B02-44B5-9191-9DCE310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DF76B-1EB7-4E13-83AE-CCA1FC10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453-A2EE-4C2E-BB99-63961F40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95DED-9D16-4B20-9AF8-8EE3994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2EFA0-4B30-4D35-AEF2-BC5335D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40F1-EE2C-4AF2-8EC1-E526BAD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AED03-CD51-4515-BD67-4FAD657E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AFB35-BA68-4BC0-9F75-6489483C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BFB-19F1-497C-8CC1-3FD3E73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DB1-CAF3-4DDA-B8AF-398C8F7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CF6-10A8-4D5E-A23B-4A782714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6840" y="8244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75E-9258-4576-9428-5D8AA920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5F6-A107-479C-992B-EC6818F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EA6-7258-4DC6-99F5-4BA9DA1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F4A-02E8-481D-9AFF-ED79784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" name=""/>
            <p:cNvSpPr/>
            <p:nvPr/>
          </p:nvSpPr>
          <p:spPr>
            <a:xfrm>
              <a:off x="0" y="4875840"/>
              <a:ext cx="9142560" cy="19803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48758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7" name=""/>
              <p:cNvSpPr/>
              <p:nvPr/>
            </p:nvSpPr>
            <p:spPr>
              <a:xfrm>
                <a:off x="6266520" y="6030720"/>
                <a:ext cx="158004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440" y="6019920"/>
                <a:ext cx="294840" cy="62604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240" y="6179760"/>
                <a:ext cx="599760" cy="429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8200" y="6136920"/>
                <a:ext cx="245880" cy="11700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5760"/>
                <a:ext cx="66240" cy="1281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4" name=""/>
            <p:cNvSpPr/>
            <p:nvPr/>
          </p:nvSpPr>
          <p:spPr>
            <a:xfrm>
              <a:off x="1898280" y="6021360"/>
              <a:ext cx="579240" cy="46080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3760" y="6078240"/>
              <a:ext cx="322632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4480" y="6068520"/>
              <a:ext cx="112320" cy="964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6840" y="6098760"/>
              <a:ext cx="255240" cy="25956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320" y="6117840"/>
              <a:ext cx="93240" cy="964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440"/>
              <a:ext cx="388440" cy="32796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EB0BA-C3A5-4258-9757-2BAD21D67FE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62" name=""/>
            <p:cNvSpPr/>
            <p:nvPr/>
          </p:nvSpPr>
          <p:spPr>
            <a:xfrm>
              <a:off x="-6480" y="4896360"/>
              <a:ext cx="9142560" cy="19803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2560" cy="48758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3680" cy="8496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720" y="6044760"/>
                <a:ext cx="1577160" cy="8370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5200" cy="6249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160" y="6193800"/>
                <a:ext cx="599760" cy="4284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0960"/>
                <a:ext cx="245880" cy="1166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39800"/>
                <a:ext cx="66240" cy="1278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880" cy="8481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75" name=""/>
            <p:cNvSpPr/>
            <p:nvPr/>
          </p:nvSpPr>
          <p:spPr>
            <a:xfrm>
              <a:off x="1898280" y="6021360"/>
              <a:ext cx="579240" cy="46080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3760" y="6078240"/>
              <a:ext cx="322632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4480" y="6068520"/>
              <a:ext cx="112320" cy="964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6840" y="6098760"/>
              <a:ext cx="255240" cy="25956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320" y="6117840"/>
              <a:ext cx="93240" cy="964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440"/>
              <a:ext cx="388440" cy="32796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2263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A41E24-1398-4B81-8424-11061995F8C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explos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457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ультура телефонного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обще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320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то удобное и оперативное средство связи, без которого невозможно представить современную жизн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Телефон усугубляет недостаток речи, поэтому рекомендуется следить за произношением чисел, имен собственных и фам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азговоре лучше не употреблять специфические , профессиональные термины, которые могут быть непонятны собеседн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допускается жаргон и такие выражения, как «идет», «лады», «добро», «пока» и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Поскольку телефонные собеседники не видят друг друга, то они должны подтверждать свое внимание реплик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да, д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нимаю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к вы меня слышит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ы не согласны?»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Завершить разговор следует вовремя, чтобы избежать пресыщения общением, которое выражается в беспричинном недовольстве и обидчивости партнеров, а иногда и в раздражи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В конце разговора надо поблагодарить за звонок или полученную информ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5238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Что делать в первую очередь, с чего начать и как себя вести, если звонить придется вам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ь цель телефонного разговора.(составьте список вопрос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мер набран. Первой фразой старайтесь заинтересовать собеседника. (назвать себя и поздорова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онок по домашнему телефону сослуживцу для служебного разговора может быть оправдан только серьезной причи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онки на квартиру после 22.00 и до 8.00 (в выходные дни до 10.00) считаются нарушением правил этик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ем правил этикета считается невыполнение обещания перезвон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66720"/>
            <a:ext cx="82296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1120" y="38736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1" name="explo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. Из приведенных примеров выберите те, которые соответствуют этическим запретам на некоторые ответы и вопросы в процессе телефонного разговора: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Алло, это кто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Петрова сейчас нет. Чем я могу вам помоч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Иванова нет на месте, не знаю, где он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Лады, договорились. По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Куда я попала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Иванова сейчас нет. Будет в 14.00.Может быть, ему что-нибудь переда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и завершении разговора первым кладет трубку тот, кто позвонил. А как поступить мужчине, который позвонил женщ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Что нельзя делать во время телефонного разгов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смотрим некоторые рекомендации, разработанные специалист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ядом с телефоном полезно держать  ручку, блокнот и календа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 звонка быстро снимите трубку. (этикетом предусмотрено снятие трубки до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четвертого звон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Трубка снята, какое первое слово необходимо произнести для установления конта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Алл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Я вас слуша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Я вас слуша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деловом общении принято использовать информативные ответы (Кто снял трубку и в каком учрежден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Что делать, если во время вашей беседы с клиентом раздается телефонный звон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Как пригласить к телефону коллег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убка передается аккуратно, без стука кладется на ст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рекомендуется приглашать криком или демонстрировать свои прохладные отношения с коллег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вызове по телефону отсутствующего в данное время сотрудника следует зафиксировать просьбу и положить записку на стол сотрудн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Деловой телефонный разговор должен быть крат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нчивает разговор тот, кто позвон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Важно, чтобы телефонный разговор велся в спокойном, вежливом то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 говорить ровно, сдерживать свои эмоции и не прерывать речь собесед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Никогда не говорите по телефону с набитым р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допускается во время телефонного разговора жевать, пить и параллельно разговаривать с сотруд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M</dc:creator>
  <dc:description/>
  <dc:language>en-US</dc:language>
  <cp:lastModifiedBy>Моша</cp:lastModifiedBy>
  <dcterms:modified xsi:type="dcterms:W3CDTF">2011-09-18T08:14:47Z</dcterms:modified>
  <cp:revision>1</cp:revision>
  <dc:subject/>
  <dc:title>PowerPoint Presentation</dc:title>
</cp:coreProperties>
</file>