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C28-8A73-4DAB-B4FF-0BEDC3A9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01B-2C51-4D31-BEE2-45119A6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B48-8E2B-4B21-8026-B8A784EF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637-F01A-45AD-9E82-55685CFA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2F1-81B7-45F5-B65D-32A90A3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CCE-AEDD-4B01-B6A0-7A32110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DD3-8225-4938-BCD5-32F03AE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6D7-A6CA-42A4-B6B3-3DD1DBA4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1CA-35F4-491A-8BDC-1D43498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4E2-B5AF-4ECE-9529-29479CB7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2F6-7E73-4C4D-9D79-AB3399C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042-2ED0-4E11-901B-779439B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E5C3-3888-44FA-B7D5-5349E7E72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наки препинания в сложносочинённом и сложноподчинённом пред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94320" y="4005360"/>
            <a:ext cx="2749680" cy="285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383328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В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458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464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Подготовка к ГИ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273640"/>
            <a:ext cx="680400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БОУ СОШ п.Тимиряз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Хомякова Н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Снег падал медленно и очень важно,(1) и хлопья его были такие большие,(2) что,(3) казалось,(4) с неба слетают на город легкие белые цветы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1640" y="508464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Ответ сам просился на язык,(1) как только он умолкал,(2) и слова лились,(3) как будто то,(4) что он сказал,(5) само собой вызывало и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По-моему(1), радость была не такая частая гостья в нашей семье,(2) чтобы заставлять нас,(3) детей,(4) томиться,(4) дожидаясь ее приход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На озере,(1) пока мы разводили кост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(2) старый мерин подошел к в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(3) долго ее нюхал,(4) но пить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захотел.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И вот я не ленился ездить туда,(1) записывался в очередь,(2) приходил в читальный зал и терпеливо дожидался,(3) когда предыдущий читатель освободит книгу,(4) которую выдавали каждому на час-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Улыбаясь,(1) она откинула воротник от губ,(2) зубами стянула варежки,(3) на которые прилипли маленькие льдинки,(4) подышала на озябшие пальцы и внимательно огляделас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Крик,(1) полный отчаяния и муки,(2) вспорол тишину,(3) ударился о каменистые склоны распадков и хлестким эхом вернулся в саванну,(4) сообщив ее обитателям,(5) что на охоту вышел хозяин здешних мест – леопард.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5157720"/>
            <a:ext cx="302400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И получив,(1) наконец,(2) возможность делать все,(3) что душе моей угодно,(4) я пошел в ЖЭК и легко устроился двор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И тут смех уходит в сторону,(1) и на его место встает почтение к прошлому,(2) большая гордость,(3) что оно было и что я его помн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Внизу,(1) в тепле,(2) сохранялись крупные изделия: батоны,(3) «домашние» булки,(4) которые я очень любил,(5) и калачи,(6) с сырой мучкой под тестяным вкусным язычком.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23000" y="4346640"/>
            <a:ext cx="2421000" cy="2511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49192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В барачных,(1) воинствующе антисанитарных условиях она сделала сложнейшую операцию,(2) и мама прожила еще тридцать семь лет,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(3) а я с того дня,(4) с первого ноября сорок первого года,(5) стал верить в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58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5445000"/>
            <a:ext cx="302400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Как только отворили дверь сарая,(1) Барбос стремглав бросился к Жульке,(2) бессильно лежавшей на земле,(3) обнюхал ее и с тихим визгом стал лизать ее в глаза,(4) в морду,(5) в у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под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Садись,(1) – командует папа-не-папа. – Вот тебе корзинка(2), непременно поешь. А я,(3) когда закончу,(4) тебя позову.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220464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Женишься(1), стоишь в очередях,(2) получаешь квартиру,(3) покупаешь мебель,(4) защищаешь кандидатскую,(5) а дети подрастают,(6) и только хочешь,(7) чтобы они были счастливы.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791400" y="4417920"/>
            <a:ext cx="2352600" cy="24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71640" y="501336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2920" y="2349360"/>
            <a:ext cx="7272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От пушечных ударов дрожала набережная,(1) высокие эвкалипты,(2) дома,(3) и казалось,(4) что горы дрожали тоже.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10480" y="4437000"/>
            <a:ext cx="2333520" cy="2421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16360" y="4724280"/>
            <a:ext cx="302400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Помню,(1) как они потрясли меня,(2) и я стал мечтать о том,(3) как было бы хорошо попасть на Таити,(4) куда я,(5) кстати,(6) всё-таки попал несколько лет назад.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71640" y="472428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4000" y="2421000"/>
            <a:ext cx="683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Люди его кажутся приукрашенными,(1) а окружающие их леса,(2) поля,(3) воздух,(4) озера так чудесны,(5) что дышат фантастикой,(6) сказкой.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2698920" cy="279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71640" y="501336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94920" y="2276280"/>
            <a:ext cx="828036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Он был такой грузный и большой,(1) что кочки не держали его. А путь наш лежал через болота,(2) и мы часто останавливались и тащили Ермолаева за ремень или протягивали ему жердины.  Измученные,(3) мы потом леж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на кочка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70800" y="4292640"/>
            <a:ext cx="2473200" cy="25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71640" y="515772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Берг хотел проследить,(1) какими неуловимыми путями появилось у него ясное и радостное чувство родины. Оно зрело годами,(2) но последний толчок дал лесной край,(3) осень,(4) крики журавлей и Ваня З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71640" y="5013360"/>
            <a:ext cx="302436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иведенном ниже предложении пронумерованы все запятые. Выпишите цифры, обозначающие запятые между частям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жносочинённого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6920" y="2420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Там(1), в вышине,(2) уже светило летнее солнце,(3) а на земле еще стоял сумрак,(4) и роса капала с белых зонтичных цветов дягиля в темную,(5) настоявшуюся за ночь вод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3160" y="4275000"/>
            <a:ext cx="2490840" cy="258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3280" y="5084640"/>
            <a:ext cx="3024000" cy="141300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9:12:58Z</dcterms:created>
  <dc:creator>111</dc:creator>
  <dc:description/>
  <dc:language>en-US</dc:language>
  <cp:lastModifiedBy>111</cp:lastModifiedBy>
  <dcterms:modified xsi:type="dcterms:W3CDTF">2012-01-03T20:26:46Z</dcterms:modified>
  <cp:revision>2</cp:revision>
  <dc:subject/>
  <dc:title>В приведенном ниже предложении пронумерованы все запятые. Выпишите цифры, обозначающие запятые между частями сложносочинённого предложения. </dc:title>
</cp:coreProperties>
</file>