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.gif" ContentType="image/gif"/>
  <Override PartName="/ppt/media/image1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28.jpeg" ContentType="image/jpeg"/>
  <Override PartName="/ppt/media/image34.jpeg" ContentType="image/jpeg"/>
  <Override PartName="/ppt/media/image44.gif" ContentType="image/gif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42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jpeg" ContentType="image/jpeg"/>
  <Override PartName="/ppt/media/image2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8CA1-26C8-4303-9A74-FD5832CA1F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4608-C753-4940-9645-AD20213C51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5A4F-2CEC-4F11-87C2-BB28880B40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EC07-10A3-4899-8EFE-EDE974D513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361B-AD40-4DDC-9984-E513A36640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государственными инструкциями немецких властей предусматривалось, что "все рабочие должны получать такую пищу и такое жилье и подвергаться такому обращению, которые бы давали возможность эксплуатировать их в самой большой степени при самых минимальных затратах".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 По щелчку появляются картинки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смертности среди угнанных в Германию советских людей был очень высок. В 1943 году Заукель сказал, докладывая рейхсляйтеру и гауляйтеру: "Неслыханная жестокость этой войны вынуждает меня, именем фюрера, мобилизовать миллионы иностранцев для использования в работах во всей немецкой военной промышленности и требовать от них высочайших результатов. Цель этого использования – обеспечение военных средств для борьбы за жизнь и свободу". (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По щелчку возникает картинка. Левой кнопкой нажать на чёрный квадратик для воспроизводства видиофильм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 отчёта лейтенанта Вальтера о казнях в окрестностях Белгра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знь длилась три-четыре часа. Я был задействован все время. Перерывы были только на перезарядку карабина. Поэтому трудно сказать, сколько именно евреев 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 убил за эти 3–4 часа, ведь в то время, когда я перезаряжал, на моем месте стрелял кто-то другой. Мы довольно много выпили, чтобы поддержать настро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локост на территории СССР во многом отличался от подобных событий, которые происходили в других странах Европы. По мнению большинства историков, нападение нацистской Германии на Советский Союз 22 июня 1941 г. было также началом «окончательного решения еврейского вопроса» в Европе.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По щелчку появляются картинки. Левой кнопкой нажать на чёрный квадратик для воспроизводства видиофильм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26B5-A8C3-451A-B273-5C382AD43A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войны в СССР жили свыше пяти миллионов евреев; в это число входят и те, кто жил в районах, присоединенных к Советскому Союзу после германо-советского раздела Польши в сентябре 1939 г., советской аннексии в 1940 г. прибалтийских государств, а также Бессарабии и Буковины.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Картинки по щелчк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локост не только был. Он не только прошлое, но и наше возможное будущее. Исторически и психологически Холокост -это прежде всего симптом летальной социальной болезни &lt;человекофобии&gt;, охватившей все человечество, а не только национальный геноцид как мировая катастроф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5BDF-DBC2-42A5-BFEA-20A56D735F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FB75-8BFB-4004-A1DD-594AD7385E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4937-4030-4330-A5AF-296B82C17F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33EE-CAE7-4FF9-B3E1-B33C3E13AB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EA6A-3BC7-4FD0-9A53-EF22179456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80B7-92DB-4D41-B16E-61CD6E7875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4D29-269E-4673-B43F-B9C41065FC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FEDC-E40E-4680-8D2F-1C4A60B8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7EEA-48BE-4182-89E2-B1A65917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C0CC-1E2C-47EC-888B-2E15D27F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DC4-D1FD-4433-BB50-BE891664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2EC3-FA51-4A2A-8C0A-DB34F970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C722-D5A1-4CD9-B4DA-313B41AA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4E43-BA30-4254-B76E-DBB443AD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EEA8-F38D-40E5-A651-521F1D1C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2B39-84DB-46D8-869B-26C4B85E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5CAD-7545-409F-BDF8-F56A445D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8C93-692A-4194-924D-F9E112CB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C8CE-C50A-4A63-ADDB-846F33D0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75EE-9CFD-4D6B-A278-CE7DF7E8FB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image" Target="../media/image4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34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373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Посвящается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Дню Победы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над фашистскими захватч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500040" y="6000840"/>
            <a:ext cx="864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«Жертвы Великой Отечественной Войн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Статист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елмно:       декабрь 1941 – июль 1944:    152000-320000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ьжец:     март 1942 – декабрь 1942:     600 000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бибор:     апрель 1942 – октябрь 1943: 250 000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еблинка:  июль 1942 – август 1943:      700000-900000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йданек:   октябрь 1941– июль 1944:     более 360 000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венцим –Биркенау: январь 1942 – январь 1945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коло 1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2771640" y="4508640"/>
            <a:ext cx="3384720" cy="201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4" name="Picture 11" descr="Копия 10"/>
          <p:cNvPicPr/>
          <p:nvPr/>
        </p:nvPicPr>
        <p:blipFill>
          <a:blip r:embed="rId2"/>
          <a:stretch/>
        </p:blipFill>
        <p:spPr>
          <a:xfrm rot="1966200">
            <a:off x="7596360" y="476280"/>
            <a:ext cx="1409400" cy="257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Копия 10"/>
          <p:cNvPicPr/>
          <p:nvPr/>
        </p:nvPicPr>
        <p:blipFill>
          <a:blip r:embed="rId3"/>
          <a:stretch/>
        </p:blipFill>
        <p:spPr>
          <a:xfrm rot="19893000">
            <a:off x="7524360" y="476280"/>
            <a:ext cx="140976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Депортации мирного населения в период В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611280" y="2752200"/>
            <a:ext cx="85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"Я вернусь к тебе, Россия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Чтоб услышать шум твоих    лесов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Чтоб увидеть реки голубые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Чтоб идти тропой моих отцов.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Г. Столя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lenta"/>
          <p:cNvPicPr/>
          <p:nvPr/>
        </p:nvPicPr>
        <p:blipFill>
          <a:blip r:embed="rId1"/>
          <a:stretch/>
        </p:blipFill>
        <p:spPr>
          <a:xfrm>
            <a:off x="250920" y="6237360"/>
            <a:ext cx="864216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Депортац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Советские беженцы спасаются от приближающегося фронта"/>
          <p:cNvPicPr/>
          <p:nvPr/>
        </p:nvPicPr>
        <p:blipFill>
          <a:blip r:embed="rId1"/>
          <a:stretch/>
        </p:blipFill>
        <p:spPr>
          <a:xfrm>
            <a:off x="214200" y="1000080"/>
            <a:ext cx="376884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5"/>
          <p:cNvSpPr/>
          <p:nvPr/>
        </p:nvSpPr>
        <p:spPr>
          <a:xfrm>
            <a:off x="611280" y="530064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42920" y="3429000"/>
            <a:ext cx="385776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ртация - насильственное переселение народов или населения. Уже в первые месяцы после вступления немецких войск в Советский Союз руководство рейха начало угонять русских и украинцев на работы в Герман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м 1942 года число так называемых – остарбайтеров (восточных рабочих) в Германии уже перевалило за миллион. Задействовав армию и полицию, немцы устраивали облавы и угоняли в Германию сотни тысяч советских людей. По немецким сведениям, в феврале 1942 года еженедельно отправлялось в Германию 8-10 тысяч "гражданских русских"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Угон жителей Украины на принудительные работы в Германию"/>
          <p:cNvPicPr/>
          <p:nvPr/>
        </p:nvPicPr>
        <p:blipFill>
          <a:blip r:embed="rId2"/>
          <a:stretch/>
        </p:blipFill>
        <p:spPr>
          <a:xfrm>
            <a:off x="4214880" y="1000080"/>
            <a:ext cx="4673520" cy="3071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Прямоугольник 6"/>
          <p:cNvSpPr/>
          <p:nvPr/>
        </p:nvSpPr>
        <p:spPr>
          <a:xfrm>
            <a:off x="4714920" y="4214880"/>
            <a:ext cx="414324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, на принудительные работы с оккупированных территорий СССР было вывезено около 5,3 млн. челов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советских граждан, насильственно вывезенных на работы в Германию, после окончания войны было репатриировано на Родину 2,7 млн. человек, 2,1 млн. человек погибли или умерли в плен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Депортац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1 апреля день памяти жертв холокоста"/>
          <p:cNvPicPr/>
          <p:nvPr/>
        </p:nvPicPr>
        <p:blipFill>
          <a:blip r:embed="rId1"/>
          <a:stretch/>
        </p:blipFill>
        <p:spPr>
          <a:xfrm>
            <a:off x="395280" y="1052640"/>
            <a:ext cx="4968720" cy="3443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7" name="Picture 5" descr="biggun01a"/>
          <p:cNvPicPr/>
          <p:nvPr/>
        </p:nvPicPr>
        <p:blipFill>
          <a:blip r:embed="rId2"/>
          <a:stretch/>
        </p:blipFill>
        <p:spPr>
          <a:xfrm>
            <a:off x="1979640" y="1989000"/>
            <a:ext cx="4968720" cy="3384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8" name="Picture 6" descr="f_17919884"/>
          <p:cNvPicPr/>
          <p:nvPr/>
        </p:nvPicPr>
        <p:blipFill>
          <a:blip r:embed="rId3"/>
          <a:stretch/>
        </p:blipFill>
        <p:spPr>
          <a:xfrm>
            <a:off x="3780000" y="3068640"/>
            <a:ext cx="4968720" cy="3384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9" name="Picture 12" descr="Копия 10"/>
          <p:cNvPicPr/>
          <p:nvPr/>
        </p:nvPicPr>
        <p:blipFill>
          <a:blip r:embed="rId4"/>
          <a:stretch/>
        </p:blipFill>
        <p:spPr>
          <a:xfrm rot="19893000">
            <a:off x="7451280" y="549360"/>
            <a:ext cx="1409760" cy="257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Копия 10"/>
          <p:cNvPicPr/>
          <p:nvPr/>
        </p:nvPicPr>
        <p:blipFill>
          <a:blip r:embed="rId5"/>
          <a:stretch/>
        </p:blipFill>
        <p:spPr>
          <a:xfrm rot="1966200">
            <a:off x="7524720" y="549000"/>
            <a:ext cx="140976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Жертвы Второй Мировой вой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600 мальчиков.."/>
          <p:cNvPicPr/>
          <p:nvPr/>
        </p:nvPicPr>
        <p:blipFill>
          <a:blip r:embed="rId1"/>
          <a:stretch/>
        </p:blipFill>
        <p:spPr>
          <a:xfrm>
            <a:off x="1116000" y="2276640"/>
            <a:ext cx="6840720" cy="42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Жертвы Второй Мировой вой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0_264_2ad05e80_XL"/>
          <p:cNvPicPr/>
          <p:nvPr/>
        </p:nvPicPr>
        <p:blipFill>
          <a:blip r:embed="rId1"/>
          <a:stretch/>
        </p:blipFill>
        <p:spPr>
          <a:xfrm>
            <a:off x="395280" y="1700280"/>
            <a:ext cx="3094200" cy="4776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5" name="Picture 5" descr="3a19a8c29cfc"/>
          <p:cNvPicPr/>
          <p:nvPr/>
        </p:nvPicPr>
        <p:blipFill>
          <a:blip r:embed="rId2"/>
          <a:stretch/>
        </p:blipFill>
        <p:spPr>
          <a:xfrm>
            <a:off x="5500800" y="1714680"/>
            <a:ext cx="3171600" cy="2428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Прямоугольник 5"/>
          <p:cNvSpPr/>
          <p:nvPr/>
        </p:nvSpPr>
        <p:spPr>
          <a:xfrm>
            <a:off x="4143240" y="4357800"/>
            <a:ext cx="46436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ым явлением стали также массовые расстрелы еврейского населения в странах Балтии и оккупированных районах Советского Союза. Одна из самых крупномасштабных акций проведена 2 – 30 сентября на окраине Киева, в Бабьем Яре, где от рук эсэсовских карателей и полиции погибли тридцать три тысячи триста семьдесят один человек: мужчины, женщины и дети. Осуществление Холокоста было поручено СС – организации, которую возглавлял «архитектор геноцида» Генрих Гиммл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Жертвы вой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00002a4f"/>
          <p:cNvPicPr/>
          <p:nvPr/>
        </p:nvPicPr>
        <p:blipFill>
          <a:blip r:embed="rId1"/>
          <a:stretch/>
        </p:blipFill>
        <p:spPr>
          <a:xfrm>
            <a:off x="395280" y="1125360"/>
            <a:ext cx="3333600" cy="3019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9" name="Picture 5" descr="4faadfea7f7c"/>
          <p:cNvPicPr/>
          <p:nvPr/>
        </p:nvPicPr>
        <p:blipFill>
          <a:blip r:embed="rId2"/>
          <a:stretch/>
        </p:blipFill>
        <p:spPr>
          <a:xfrm>
            <a:off x="5292720" y="1052640"/>
            <a:ext cx="3384720" cy="302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0" name="Picture 7" descr="08a3fd2a2648"/>
          <p:cNvPicPr/>
          <p:nvPr/>
        </p:nvPicPr>
        <p:blipFill>
          <a:blip r:embed="rId3"/>
          <a:stretch/>
        </p:blipFill>
        <p:spPr>
          <a:xfrm>
            <a:off x="2484360" y="4365720"/>
            <a:ext cx="3959280" cy="223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Военноплен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Holocaust"/>
          <p:cNvPicPr/>
          <p:nvPr/>
        </p:nvPicPr>
        <p:blipFill>
          <a:blip r:embed="rId1"/>
          <a:stretch/>
        </p:blipFill>
        <p:spPr>
          <a:xfrm>
            <a:off x="468360" y="1125360"/>
            <a:ext cx="4824360" cy="307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3" name="Picture 7" descr="739px-Buchenwald_Slave_Laborers_Liberation"/>
          <p:cNvPicPr/>
          <p:nvPr/>
        </p:nvPicPr>
        <p:blipFill>
          <a:blip r:embed="rId2"/>
          <a:stretch/>
        </p:blipFill>
        <p:spPr>
          <a:xfrm>
            <a:off x="3708360" y="3429000"/>
            <a:ext cx="4753080" cy="304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Жертвы Второй Мировой войны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4000" y="1125360"/>
          <a:ext cx="8496000" cy="4816800"/>
        </p:xfrm>
        <a:graphic>
          <a:graphicData uri="http://schemas.openxmlformats.org/drawingml/2006/table">
            <a:tbl>
              <a:tblPr/>
              <a:tblGrid>
                <a:gridCol w="2124000"/>
                <a:gridCol w="2124000"/>
                <a:gridCol w="2521080"/>
                <a:gridCol w="1726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жданск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вая Зеланд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рве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ь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5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мы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жная Афр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етский Сою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68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90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68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Picture 56" descr="56484765_24590069_430ff28afa22"/>
          <p:cNvPicPr/>
          <p:nvPr/>
        </p:nvPicPr>
        <p:blipFill>
          <a:blip r:embed="rId1"/>
          <a:stretch/>
        </p:blipFill>
        <p:spPr>
          <a:xfrm>
            <a:off x="7956720" y="5950080"/>
            <a:ext cx="11872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2" descr="holokost_27"/>
          <p:cNvPicPr/>
          <p:nvPr/>
        </p:nvPicPr>
        <p:blipFill>
          <a:blip r:embed="rId1"/>
          <a:stretch/>
        </p:blipFill>
        <p:spPr>
          <a:xfrm>
            <a:off x="6084720" y="981000"/>
            <a:ext cx="2664000" cy="1727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8" name="Picture 10" descr="9d34733b5ff27e02a83726467034cd21"/>
          <p:cNvPicPr/>
          <p:nvPr/>
        </p:nvPicPr>
        <p:blipFill>
          <a:blip r:embed="rId2"/>
          <a:stretch/>
        </p:blipFill>
        <p:spPr>
          <a:xfrm>
            <a:off x="324000" y="4869000"/>
            <a:ext cx="2665440" cy="1726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9" name="Picture 11" descr="1389adcef8dc"/>
          <p:cNvPicPr/>
          <p:nvPr/>
        </p:nvPicPr>
        <p:blipFill>
          <a:blip r:embed="rId3"/>
          <a:stretch/>
        </p:blipFill>
        <p:spPr>
          <a:xfrm>
            <a:off x="1403280" y="4221000"/>
            <a:ext cx="2664000" cy="176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160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амятники жертвам вой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300px-vp_memorial_kholokosta_l_vov"/>
          <p:cNvPicPr/>
          <p:nvPr/>
        </p:nvPicPr>
        <p:blipFill>
          <a:blip r:embed="rId4"/>
          <a:stretch/>
        </p:blipFill>
        <p:spPr>
          <a:xfrm>
            <a:off x="324000" y="907920"/>
            <a:ext cx="2663640" cy="1695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2" name="Picture 7" descr="0_1a6cd_7c2c2cb8_XL"/>
          <p:cNvPicPr/>
          <p:nvPr/>
        </p:nvPicPr>
        <p:blipFill>
          <a:blip r:embed="rId5"/>
          <a:stretch/>
        </p:blipFill>
        <p:spPr>
          <a:xfrm>
            <a:off x="1403280" y="1268280"/>
            <a:ext cx="2664000" cy="172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3" name="Picture 13" descr="img243"/>
          <p:cNvPicPr/>
          <p:nvPr/>
        </p:nvPicPr>
        <p:blipFill>
          <a:blip r:embed="rId6"/>
          <a:stretch/>
        </p:blipFill>
        <p:spPr>
          <a:xfrm>
            <a:off x="4932360" y="1268280"/>
            <a:ext cx="2701800" cy="1727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4" name="Picture 8" descr="0_2597_57703de0_orig"/>
          <p:cNvPicPr/>
          <p:nvPr/>
        </p:nvPicPr>
        <p:blipFill>
          <a:blip r:embed="rId7"/>
          <a:stretch/>
        </p:blipFill>
        <p:spPr>
          <a:xfrm>
            <a:off x="3276720" y="1700280"/>
            <a:ext cx="2663640" cy="172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5" name="Picture 14" descr="Kheyfets2_006"/>
          <p:cNvPicPr/>
          <p:nvPr/>
        </p:nvPicPr>
        <p:blipFill>
          <a:blip r:embed="rId8"/>
          <a:stretch/>
        </p:blipFill>
        <p:spPr>
          <a:xfrm>
            <a:off x="6156360" y="4869000"/>
            <a:ext cx="2663640" cy="172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6" name="Picture 15" descr="s_7569"/>
          <p:cNvPicPr/>
          <p:nvPr/>
        </p:nvPicPr>
        <p:blipFill>
          <a:blip r:embed="rId9"/>
          <a:stretch/>
        </p:blipFill>
        <p:spPr>
          <a:xfrm>
            <a:off x="5003640" y="4221000"/>
            <a:ext cx="2664000" cy="172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7" name="Picture 9" descr="00r4767z"/>
          <p:cNvPicPr/>
          <p:nvPr/>
        </p:nvPicPr>
        <p:blipFill>
          <a:blip r:embed="rId10"/>
          <a:stretch/>
        </p:blipFill>
        <p:spPr>
          <a:xfrm>
            <a:off x="3276720" y="3789360"/>
            <a:ext cx="2665440" cy="172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История Холоко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0672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тисемитская идеология была положена в основу программы Национал-социалистичеcкой партии Германии (NSDAP), принятой в 1920, и обоснована в книге Гитлера «Моя борьба». После прихода к власти в январе 1933 Гитлер проводит последовательную политику государственного антисемитизма. Ее первой жертвой стала еврейская община Германии, насчитывавшая более 500 тыс. челов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Гитлер 4"/>
          <p:cNvPicPr/>
          <p:nvPr/>
        </p:nvPicPr>
        <p:blipFill>
          <a:blip r:embed="rId1"/>
          <a:stretch/>
        </p:blipFill>
        <p:spPr>
          <a:xfrm>
            <a:off x="4211640" y="1773360"/>
            <a:ext cx="4680000" cy="36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4" name="Picture 11" descr="lenta"/>
          <p:cNvPicPr/>
          <p:nvPr/>
        </p:nvPicPr>
        <p:blipFill>
          <a:blip r:embed="rId2"/>
          <a:stretch/>
        </p:blipFill>
        <p:spPr>
          <a:xfrm>
            <a:off x="250920" y="6237360"/>
            <a:ext cx="864216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9019E-006 L 0.12604 2.59019E-006 C 0.18247 2.59019E-006 0.25208 -0.05412 0.25208 -0.09806 L 0.25208 -0.19612 E">
                                      <p:cBhvr>
                                        <p:cTn id="15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915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27 января</a:t>
            </a: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 – Международный день памяти жертв Холокос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035"/>
          <p:cNvPicPr/>
          <p:nvPr/>
        </p:nvPicPr>
        <p:blipFill>
          <a:blip r:embed="rId1"/>
          <a:stretch/>
        </p:blipFill>
        <p:spPr>
          <a:xfrm>
            <a:off x="357120" y="1500120"/>
            <a:ext cx="5367240" cy="414360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3"/>
          <p:cNvSpPr/>
          <p:nvPr/>
        </p:nvSpPr>
        <p:spPr>
          <a:xfrm>
            <a:off x="6000840" y="1714680"/>
            <a:ext cx="300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мять о Холокосте необходима, чтобы наши дети никогда не были жертвами, палачами или равнодушными наблюдател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. Бауэ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71680" y="1589040"/>
            <a:ext cx="685800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898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реследов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57880" y="1357200"/>
            <a:ext cx="3535200" cy="450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тисемитизм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л официальной политикой фашистского государства, хотя евреи составляли менее 1% населения, нацисты обвинили их в том, что они якобы стали хозяевами Германии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вреи были обязаны постоянно носить нашитую на одежде желтую звезду. В 30-е годы нацисты приняли более четырехсот законов, последовательно ограничивающих евреев в их гражданских и экономических правах.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56" descr="f978778a51afacd70f3dfec58d3"/>
          <p:cNvPicPr/>
          <p:nvPr/>
        </p:nvPicPr>
        <p:blipFill>
          <a:blip r:embed="rId1"/>
          <a:stretch/>
        </p:blipFill>
        <p:spPr>
          <a:xfrm>
            <a:off x="214200" y="1143000"/>
            <a:ext cx="4214880" cy="2214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" name="Picture 8" descr="lenta"/>
          <p:cNvPicPr/>
          <p:nvPr/>
        </p:nvPicPr>
        <p:blipFill>
          <a:blip r:embed="rId2"/>
          <a:stretch/>
        </p:blipFill>
        <p:spPr>
          <a:xfrm>
            <a:off x="250920" y="6237360"/>
            <a:ext cx="8642160" cy="444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Копия 10"/>
          <p:cNvPicPr/>
          <p:nvPr/>
        </p:nvPicPr>
        <p:blipFill>
          <a:blip r:embed="rId3"/>
          <a:stretch/>
        </p:blipFill>
        <p:spPr>
          <a:xfrm rot="1966200">
            <a:off x="7596360" y="476280"/>
            <a:ext cx="1409400" cy="257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Копия 10"/>
          <p:cNvPicPr/>
          <p:nvPr/>
        </p:nvPicPr>
        <p:blipFill>
          <a:blip r:embed="rId4"/>
          <a:stretch/>
        </p:blipFill>
        <p:spPr>
          <a:xfrm rot="19893000">
            <a:off x="7524360" y="476280"/>
            <a:ext cx="1409760" cy="257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s66066410"/>
          <p:cNvPicPr/>
          <p:nvPr/>
        </p:nvPicPr>
        <p:blipFill>
          <a:blip r:embed="rId5"/>
          <a:stretch/>
        </p:blipFill>
        <p:spPr>
          <a:xfrm>
            <a:off x="428760" y="3643200"/>
            <a:ext cx="4000320" cy="2446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Грабё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печь..."/>
          <p:cNvPicPr/>
          <p:nvPr/>
        </p:nvPicPr>
        <p:blipFill>
          <a:blip r:embed="rId1"/>
          <a:stretch/>
        </p:blipFill>
        <p:spPr>
          <a:xfrm>
            <a:off x="324000" y="1197000"/>
            <a:ext cx="2747880" cy="216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6"/>
          <p:cNvSpPr/>
          <p:nvPr/>
        </p:nvSpPr>
        <p:spPr>
          <a:xfrm>
            <a:off x="142920" y="3643200"/>
            <a:ext cx="8858160" cy="3272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Холокост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– не только физическое уничтожение людей, по сути дела, это был самый крупный и изощренный грабеж во всей мировой истории. В 30-е годы нацистское государство отобрало у евреев все, что можно отобрать: квартиры, дома, произведения искусства, предметы быта и даже фамильные ценности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и и предприятия, которыми владели евреи, также были конфискованы. Пытаясь спасти свое имущество, люди переводили средства – наличные деньги, страховые полисы, драгоценности – за границу, преимущественно в Швейцарию. Нацисты до нитки грабили и тех, кого депортировали в концентрационные лагеря. Все личные вещи – одежда, обувь, очки, кольца, детские коляски – немедленно по прибытии. Многое  отправляли в Германию для раздачи немецкому населению. Они грабили даже трупы своих жертв. Женские волосы, срезанные до или после газовых камер, шли на изготовление теплых носков и одеял для экипажей подводных лодок. Вырванные золотые зубы переплавляли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олу от сожженных тел применяли в качестве сельско - хозяйственного удобр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3" descr="s59056746"/>
          <p:cNvPicPr/>
          <p:nvPr/>
        </p:nvPicPr>
        <p:blipFill>
          <a:blip r:embed="rId2"/>
          <a:stretch/>
        </p:blipFill>
        <p:spPr>
          <a:xfrm>
            <a:off x="3286080" y="1214280"/>
            <a:ext cx="2786040" cy="214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7" name="Picture 4" descr="крематорий 2"/>
          <p:cNvPicPr/>
          <p:nvPr/>
        </p:nvPicPr>
        <p:blipFill>
          <a:blip r:embed="rId3"/>
          <a:stretch/>
        </p:blipFill>
        <p:spPr>
          <a:xfrm>
            <a:off x="6286680" y="1197000"/>
            <a:ext cx="2533320" cy="216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Жизнь в гетт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Варшавское гетто..."/>
          <p:cNvPicPr/>
          <p:nvPr/>
        </p:nvPicPr>
        <p:blipFill>
          <a:blip r:embed="rId1"/>
          <a:stretch/>
        </p:blipFill>
        <p:spPr>
          <a:xfrm>
            <a:off x="428760" y="1357200"/>
            <a:ext cx="4752720" cy="4103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Text Box 5"/>
          <p:cNvSpPr/>
          <p:nvPr/>
        </p:nvSpPr>
        <p:spPr>
          <a:xfrm>
            <a:off x="5364000" y="1143000"/>
            <a:ext cx="3529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ГЕТТО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ит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ghett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 — в XIV—XIX вв. часть города, выделявшаяся в странах Западной и Центральной Европы для изолированного проживания еврее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lenta"/>
          <p:cNvPicPr/>
          <p:nvPr/>
        </p:nvPicPr>
        <p:blipFill>
          <a:blip r:embed="rId2"/>
          <a:stretch/>
        </p:blipFill>
        <p:spPr>
          <a:xfrm>
            <a:off x="214200" y="6413400"/>
            <a:ext cx="8642520" cy="301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s97333513"/>
          <p:cNvPicPr/>
          <p:nvPr/>
        </p:nvPicPr>
        <p:blipFill>
          <a:blip r:embed="rId3"/>
          <a:stretch/>
        </p:blipFill>
        <p:spPr>
          <a:xfrm>
            <a:off x="5429160" y="2143080"/>
            <a:ext cx="3240000" cy="201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3" name="Picture 11" descr="s10510588"/>
          <p:cNvPicPr/>
          <p:nvPr/>
        </p:nvPicPr>
        <p:blipFill>
          <a:blip r:embed="rId4"/>
          <a:stretch/>
        </p:blipFill>
        <p:spPr>
          <a:xfrm>
            <a:off x="5429160" y="4286160"/>
            <a:ext cx="3248280" cy="1947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Депортация на борту "СС Донау"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СС-Донау"/>
          <p:cNvPicPr/>
          <p:nvPr/>
        </p:nvPicPr>
        <p:blipFill>
          <a:blip r:embed="rId1"/>
          <a:stretch/>
        </p:blipFill>
        <p:spPr>
          <a:xfrm>
            <a:off x="142920" y="1844640"/>
            <a:ext cx="5508720" cy="401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Rectangle 5"/>
          <p:cNvSpPr/>
          <p:nvPr/>
        </p:nvSpPr>
        <p:spPr>
          <a:xfrm>
            <a:off x="5786280" y="1357200"/>
            <a:ext cx="3214800" cy="478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нним утром 26 ноября 1942 г. пятьсот тридцать два норвежских еврея доставлены под конвоем на борт немецкого судна «СС Донау»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т же день корабль покинул Осло, а 1 декабря все эти люди уже были в Освенниме-Биркенау. Немедленно по прибытии стариков, женщин и детей умертвили газом в так называемом Бункере II. Мужчин отправили работать. Немцы и их норвежские союзники не успокоились, пока все семьсот семьдесят норвежских евреев не были к 1944 г. депортированы в Освенцим. Из них всего двадцать четыре человека пережили войну. В отличие от других норвежских заключенных, после освобождения они ни от кого не получили помощи и были вынуждены самостоятельно возвращаться дом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lenta"/>
          <p:cNvPicPr/>
          <p:nvPr/>
        </p:nvPicPr>
        <p:blipFill>
          <a:blip r:embed="rId2"/>
          <a:stretch/>
        </p:blipFill>
        <p:spPr>
          <a:xfrm>
            <a:off x="250920" y="6237360"/>
            <a:ext cx="864216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Из сообщения посла Швеции в Будапешт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конц. лагерь"/>
          <p:cNvPicPr/>
          <p:nvPr/>
        </p:nvPicPr>
        <p:blipFill>
          <a:blip r:embed="rId1"/>
          <a:stretch/>
        </p:blipFill>
        <p:spPr>
          <a:xfrm>
            <a:off x="142920" y="1773360"/>
            <a:ext cx="4286160" cy="2227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5"/>
          <p:cNvSpPr/>
          <p:nvPr/>
        </p:nvSpPr>
        <p:spPr>
          <a:xfrm>
            <a:off x="4714920" y="1500120"/>
            <a:ext cx="421488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ейская сеть железных дорог сыграла решающую роль в ходе Холокоста. На «поездах специального назначения» перевезли несколько миллионов человек. Пассажирские и товарные составы пересекали Европу во всех направлениях, курсируя между гетто, местами массовых расстрелов, лагерями для перемещенных лиц и лагерями смерти. Эти перевозки порой даже наносили ущерб военным нуждам Германии. Эсэсовцы нередко заставляли евреев оплачивать дорогу в один конец. Холокост должен был быть самоокупаемым. На карте – маршруты депортации из польских гетто в Треблин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илось расписание движения одного из «специальных поездов». 25 сентября 1942 г. поезд вышел из Шидловеца с «предельной загрузкой» (800 тонн) и на следующий день в 11.24 прибыл в Треблинку. «Порожний состав» (600 тонн) после полуночи прибыл в Козленице. Набитые до отказа поезда возвращались из Треблинки пустыми. И так день за днем, месяц за месяцем с июля 1942 г. по август 1943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142920" y="4214880"/>
            <a:ext cx="4286160" cy="2498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От айнзацгрупп – к фабрикам смерти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Концлагерь"/>
          <p:cNvPicPr/>
          <p:nvPr/>
        </p:nvPicPr>
        <p:blipFill>
          <a:blip r:embed="rId1"/>
          <a:stretch/>
        </p:blipFill>
        <p:spPr>
          <a:xfrm>
            <a:off x="250920" y="1628640"/>
            <a:ext cx="4105080" cy="259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4" name="Picture 6" descr="Восстание в гетто..."/>
          <p:cNvPicPr/>
          <p:nvPr/>
        </p:nvPicPr>
        <p:blipFill>
          <a:blip r:embed="rId2"/>
          <a:stretch/>
        </p:blipFill>
        <p:spPr>
          <a:xfrm>
            <a:off x="4643280" y="3860640"/>
            <a:ext cx="4249800" cy="2737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5" name="Text Box 7"/>
          <p:cNvSpPr/>
          <p:nvPr/>
        </p:nvSpPr>
        <p:spPr>
          <a:xfrm>
            <a:off x="4643280" y="1628640"/>
            <a:ext cx="4032360" cy="1465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ссовые расстрелы привлекали слишком много внимания, отрицательно сказывались на моральном духе солдат и требовали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250920" y="4941720"/>
            <a:ext cx="4176720" cy="1608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чиная с осени 1941 г. нацисты ищут более рациональные методы массовых убийств. После ряда экспериментов решение было найдено: га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160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Фабрика смер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Автобусы смерти..."/>
          <p:cNvPicPr/>
          <p:nvPr/>
        </p:nvPicPr>
        <p:blipFill>
          <a:blip r:embed="rId1"/>
          <a:stretch/>
        </p:blipFill>
        <p:spPr>
          <a:xfrm>
            <a:off x="1214280" y="981000"/>
            <a:ext cx="6715440" cy="4348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5"/>
          <p:cNvSpPr/>
          <p:nvPr/>
        </p:nvSpPr>
        <p:spPr>
          <a:xfrm>
            <a:off x="0" y="5286240"/>
            <a:ext cx="914400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ло предложено использовать автомобильные выхлопные газы. 8 декабря 1941 г. в лагере уничтожения Хелмно нацисты впервые применили особо оборудованные автофургоны, так называемые « газенвагены». А 17 марта 1942 г. газовые камеры Бельжеца были готовы принять первую партию евреев, доставленных из Люблинского гетто.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2286000" y="2413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12:19:33Z</dcterms:created>
  <dc:creator>Лариса</dc:creator>
  <dc:description/>
  <dc:language>en-US</dc:language>
  <cp:lastModifiedBy>Владелец</cp:lastModifiedBy>
  <dcterms:modified xsi:type="dcterms:W3CDTF">2012-01-05T08:11:53Z</dcterms:modified>
  <cp:revision>91</cp:revision>
  <dc:subject/>
  <dc:title>Жертвы Великой Отечественной Войны</dc:title>
</cp:coreProperties>
</file>