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jpeg" ContentType="image/jpeg"/>
  <Override PartName="/ppt/media/image10.wmf" ContentType="image/x-wmf"/>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D326-BE75-4CAB-8D05-3E6BDD6EB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5460-E260-4CAD-BEF9-F3619E28E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F5588-9685-4C7F-B3AB-B94A7839F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52AC8-A54F-404D-B2F1-EC785CDE3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9F9F-5A42-4852-AE1B-611E58C6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3D41-EF57-4C33-B6AC-92B9D1412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B7E7-6BF0-4090-B21A-41C01820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9FEA5-189D-40D2-95EB-7146179D1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DB57-48C8-4B31-9759-C6B28C7E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A8B7-3BB6-4CC3-969B-61D4767B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72B9-2A3D-4B15-A9FA-449063E4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93296-74C5-4F9D-971F-F77E3D487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DCEF-56BD-4A95-B8D5-B75CC8C8A5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WordArt 4"/>
          <p:cNvSpPr txBox="1"/>
          <p:nvPr/>
        </p:nvSpPr>
        <p:spPr>
          <a:xfrm>
            <a:off x="755640" y="1052640"/>
            <a:ext cx="7740720" cy="2449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Конфликты и их разрешения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2" name="WordArt 5"/>
          <p:cNvSpPr txBox="1"/>
          <p:nvPr/>
        </p:nvSpPr>
        <p:spPr>
          <a:xfrm>
            <a:off x="2411280" y="620640"/>
            <a:ext cx="468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Реферат:</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3" name="WordArt 8"/>
          <p:cNvSpPr txBox="1"/>
          <p:nvPr/>
        </p:nvSpPr>
        <p:spPr>
          <a:xfrm>
            <a:off x="1476360" y="4005360"/>
            <a:ext cx="64962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40186" dir="4303641" blurRad="0" rotWithShape="0">
                    <a:srgbClr val="4d4d4d">
                      <a:alpha val="80000"/>
                    </a:srgbClr>
                  </a:outerShdw>
                </a:effectLst>
                <a:latin typeface="Arial"/>
              </a:rPr>
              <a:t>Составил: кадет 11 взвода 1 роты Левин С.</a:t>
            </a:r>
            <a:endParaRPr b="1" lang="en-US" sz="2400" spc="1" strike="noStrike">
              <a:ln w="0">
                <a:noFill/>
              </a:ln>
              <a:solidFill>
                <a:srgbClr val="000000"/>
              </a:solidFill>
              <a:effectLst>
                <a:outerShdw dist="40186" dir="4303641" blurRad="0" rotWithShape="0">
                  <a:srgbClr val="4d4d4d">
                    <a:alpha val="80000"/>
                  </a:srgbClr>
                </a:outerShdw>
              </a:effectLst>
              <a:latin typeface="Arial"/>
              <a:ea typeface="Arial"/>
            </a:endParaRPr>
          </a:p>
        </p:txBody>
      </p:sp>
      <p:sp>
        <p:nvSpPr>
          <p:cNvPr id="44" name="WordArt 12"/>
          <p:cNvSpPr txBox="1"/>
          <p:nvPr/>
        </p:nvSpPr>
        <p:spPr>
          <a:xfrm>
            <a:off x="3780000" y="595008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solidFill>
                  <a:srgbClr val="993300"/>
                </a:solidFill>
                <a:effectLst>
                  <a:outerShdw dist="153753" dir="2700000" blurRad="0" rotWithShape="0">
                    <a:srgbClr val="c0c0c0">
                      <a:alpha val="80000"/>
                    </a:srgbClr>
                  </a:outerShdw>
                </a:effectLst>
                <a:latin typeface="Arial"/>
              </a:rPr>
              <a:t>12.12.2009</a:t>
            </a:r>
            <a:endParaRPr b="0" lang="en-US" sz="1800" spc="1" strike="noStrike">
              <a:ln w="12600">
                <a:solidFill>
                  <a:srgbClr val="993300"/>
                </a:solidFill>
                <a:miter/>
              </a:ln>
              <a:solidFill>
                <a:srgbClr val="993300"/>
              </a:solidFill>
              <a:effectLst>
                <a:outerShdw dist="153753" dir="2700000" blurRad="0" rotWithShape="0">
                  <a:srgbClr val="c0c0c0">
                    <a:alpha val="80000"/>
                  </a:srgbClr>
                </a:outerShdw>
              </a:effectLst>
              <a:latin typeface="Arial"/>
              <a:ea typeface="Arial"/>
            </a:endParaRPr>
          </a:p>
        </p:txBody>
      </p:sp>
      <p:sp>
        <p:nvSpPr>
          <p:cNvPr id="45" name="WordArt 13"/>
          <p:cNvSpPr txBox="1"/>
          <p:nvPr/>
        </p:nvSpPr>
        <p:spPr>
          <a:xfrm>
            <a:off x="2916360" y="6308640"/>
            <a:ext cx="3095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rPr>
              <a:t>Санкт-Петербург</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Arial"/>
              <a:ea typeface="Arial"/>
            </a:endParaRPr>
          </a:p>
        </p:txBody>
      </p:sp>
      <p:sp>
        <p:nvSpPr>
          <p:cNvPr id="46" name="WordArt 14"/>
          <p:cNvSpPr txBox="1"/>
          <p:nvPr/>
        </p:nvSpPr>
        <p:spPr>
          <a:xfrm>
            <a:off x="1476360" y="4437000"/>
            <a:ext cx="6029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00"/>
                </a:solidFill>
                <a:effectLst>
                  <a:outerShdw dist="40186" dir="4303641" blurRad="0" rotWithShape="0">
                    <a:srgbClr val="4d4d4d">
                      <a:alpha val="80000"/>
                    </a:srgbClr>
                  </a:outerShdw>
                </a:effectLst>
                <a:latin typeface="Arial"/>
              </a:rPr>
              <a:t>Принял: преподаватель Дьякова Ю.Н..</a:t>
            </a:r>
            <a:endParaRPr b="1" lang="en-US" sz="2000" spc="1" strike="noStrike">
              <a:ln w="0">
                <a:noFill/>
              </a:ln>
              <a:solidFill>
                <a:srgbClr val="000000"/>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Text Box 4"/>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сле подавления эмоций появляется возможность использовать соответственно разум или интуицию для того, чтобы сформулировать возможные решения, приемлемые для всех заинтересованных стор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так, основной способ применения рационально-интуитивного подхода к управлению конфликтом состоит в том, чтобы рассматривать любую конфликтную ситуацию как проблему или потенциальную проблему, которая ждет своего решения. Затем подбирается подходящий метод решения проблем, пользуясь арсеналом возможных стратегических мер контроля конфликтных ситуаций. Выбираемая стратегия будет зависеть от того, на какой стадии находится конфликт (потенциальный конфликт, развивающийся конфликт, открытый конфликт), от важности конкретного решения, от  оценки нужд и желаний других людей, а также от характера эмоций, проявляемых в конфликте. После выбора подходящего метода определяется наилучший способ его примен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льзя забывать о таком механизме человеческого общения, как переговоры.</a:t>
            </a:r>
            <a:endParaRPr b="0" lang="en-US" sz="1800" spc="-1" strike="noStrike">
              <a:solidFill>
                <a:srgbClr val="000000"/>
              </a:solidFill>
              <a:latin typeface="Arial"/>
            </a:endParaRPr>
          </a:p>
        </p:txBody>
      </p:sp>
      <p:sp>
        <p:nvSpPr>
          <p:cNvPr id="78" name="Text Box 5"/>
          <p:cNvSpPr/>
          <p:nvPr/>
        </p:nvSpPr>
        <p:spPr>
          <a:xfrm>
            <a:off x="0" y="393372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 наше время все чаще приходится прибегать к переговорам. Но стандартная переговорная стратегия перестала удовлетворять людей. Они видят лишь две возможности ведения переговоров - быть подталкиваемыми или  жесткими. Мягкий по характеру человек желает избежать личного конфликта и ради достижения соглашения с готовностью идет на уступки. Жесткий участник переговоров рассматривает любую ситуацию как состязание воли. Он хочет победить, однако часто кончает тем, что вызывает такую же жесткую реакцию, и портит свои отношения с другой сторон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уществует ли альтернатива позиционному подхо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22040"/>
            <a:ext cx="8137440" cy="179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49" name="WordArt 6"/>
          <p:cNvSpPr txBox="1"/>
          <p:nvPr/>
        </p:nvSpPr>
        <p:spPr>
          <a:xfrm>
            <a:off x="900000" y="333360"/>
            <a:ext cx="691380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Конфликты и их разрешения</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50" name="Text Box 7"/>
          <p:cNvSpPr/>
          <p:nvPr/>
        </p:nvSpPr>
        <p:spPr>
          <a:xfrm>
            <a:off x="0" y="1700280"/>
            <a:ext cx="9144000" cy="543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2000" spc="-1" strike="noStrike">
                <a:solidFill>
                  <a:srgbClr val="000000"/>
                </a:solidFill>
                <a:latin typeface="Comic Sans MS"/>
              </a:rPr>
              <a:t>Введение</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a:t>
            </a:r>
            <a:r>
              <a:rPr b="0" lang="ru-RU" sz="2000" spc="-1" strike="noStrike">
                <a:solidFill>
                  <a:srgbClr val="000000"/>
                </a:solidFill>
                <a:latin typeface="Comic Sans MS"/>
              </a:rPr>
              <a:t>.    Описание методик и стратегических средств разрешения конфликтных ситуаций</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en-US" sz="2000" spc="-1" strike="noStrike">
                <a:solidFill>
                  <a:srgbClr val="000000"/>
                </a:solidFill>
                <a:latin typeface="Comic Sans MS"/>
              </a:rPr>
              <a:t>a</a:t>
            </a:r>
            <a:r>
              <a:rPr b="0" lang="ru-RU" sz="2000" spc="-1" strike="noStrike">
                <a:solidFill>
                  <a:srgbClr val="000000"/>
                </a:solidFill>
                <a:latin typeface="Comic Sans MS"/>
              </a:rPr>
              <a:t>). Рационально- интуитивная модель овладения конфликтной ситуацией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б). Принципиальные переговоры</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I</a:t>
            </a:r>
            <a:r>
              <a:rPr b="0" lang="ru-RU" sz="2000" spc="-1" strike="noStrike">
                <a:solidFill>
                  <a:srgbClr val="000000"/>
                </a:solidFill>
                <a:latin typeface="Comic Sans MS"/>
              </a:rPr>
              <a:t>.Применение стратегий и методов для выработки модели поведения в конфликтной ситуации</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en-US" sz="2000" spc="-1" strike="noStrike">
                <a:solidFill>
                  <a:srgbClr val="000000"/>
                </a:solidFill>
                <a:latin typeface="Comic Sans MS"/>
              </a:rPr>
              <a:t>a</a:t>
            </a:r>
            <a:r>
              <a:rPr b="0" lang="ru-RU" sz="2000" spc="-1" strike="noStrike">
                <a:solidFill>
                  <a:srgbClr val="000000"/>
                </a:solidFill>
                <a:latin typeface="Comic Sans MS"/>
              </a:rPr>
              <a:t>).Адекватное восприятие конфликта</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б). Открытое и эффективное общение конфликтующих сторон</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в). Создание климата взаимного доверия и сотрудничества</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г). Определение существа конфликта</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д).  Выработка взаимовыгодных решений путем переговоров</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Заключение</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Список литературы</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hecker dir="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 presetSubtype="12">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base">
                                        <p:cTn id="14" dur="1000" fill="hold"/>
                                        <p:tgtEl>
                                          <p:spTgt spid="49"/>
                                        </p:tgtEl>
                                        <p:attrNameLst>
                                          <p:attrName>ppt_x</p:attrName>
                                        </p:attrNameLst>
                                      </p:cBhvr>
                                      <p:tavLst>
                                        <p:tav tm="0">
                                          <p:val>
                                            <p:strVal val="0-#ppt_w/2"/>
                                          </p:val>
                                        </p:tav>
                                        <p:tav tm="100000">
                                          <p:val>
                                            <p:strVal val="#ppt_x"/>
                                          </p:val>
                                        </p:tav>
                                      </p:tavLst>
                                    </p:anim>
                                    <p:anim calcmode="lin" valueType="num">
                                      <p:cBhvr additive="base">
                                        <p:cTn id="15"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4"/>
          <p:cNvSpPr/>
          <p:nvPr/>
        </p:nvSpPr>
        <p:spPr>
          <a:xfrm>
            <a:off x="0" y="90360"/>
            <a:ext cx="9144000" cy="67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земной атмосфере в соответствующих пропорциях содержатс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менты, необходимые для жизни и нормальн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ункционирования организмов. Эти элементы окружают нас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проникают внутрь каждого организма. Подобную роль 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ой жизни людей играют межличностные отнош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достаток или избыток отдельных элементов атмосферы межличностного общения затрудняет, а порой делает невозможной нормальную, приносящую чувство удовлетворения жизнь. Атмосферу межличностных отношений создают сами люди. Своими поступками они могут загрязнить эту атмосферу, нарушить оптимальную пропорцию составляющих ее элементов. Но люди же могут изменить ее так, чтобы установился климат, благоприятствующий личностному развитию и равноправному существованию целых сообщест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пользование черно-белых категорий добра и зла для объяснения сложных явлений мешает (а подчас делает просто невозможным) понять, что же на самом деле происходит между людьми. Такой способ мышления с помощью оценок и ярлыков толкает на поиск виновных в бедах и неудачах, а затем и суровую расправу над ни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Чувство неудовлетворенности общением присуще людям, в жизни которых слишком часто и с избыточной интенсивностью проявляются два важных феномена: столкновение и отчужд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2" name="AutoShape 10"/>
          <p:cNvSpPr/>
          <p:nvPr/>
        </p:nvSpPr>
        <p:spPr>
          <a:xfrm>
            <a:off x="0" y="414972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utoShape 11"/>
          <p:cNvSpPr/>
          <p:nvPr/>
        </p:nvSpPr>
        <p:spPr>
          <a:xfrm>
            <a:off x="0" y="170028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AutoShape 13"/>
          <p:cNvSpPr/>
          <p:nvPr/>
        </p:nvSpPr>
        <p:spPr>
          <a:xfrm>
            <a:off x="0" y="566100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4" descr="MCj04114880000[1]"/>
          <p:cNvPicPr/>
          <p:nvPr/>
        </p:nvPicPr>
        <p:blipFill>
          <a:blip r:embed="rId2"/>
          <a:stretch/>
        </p:blipFill>
        <p:spPr>
          <a:xfrm>
            <a:off x="7302600" y="5083200"/>
            <a:ext cx="1841400" cy="1774800"/>
          </a:xfrm>
          <a:prstGeom prst="rect">
            <a:avLst/>
          </a:prstGeom>
          <a:ln w="0">
            <a:noFill/>
          </a:ln>
        </p:spPr>
      </p:pic>
      <p:sp>
        <p:nvSpPr>
          <p:cNvPr id="56" name="Text Box 5"/>
          <p:cNvSpPr/>
          <p:nvPr/>
        </p:nvSpPr>
        <p:spPr>
          <a:xfrm>
            <a:off x="0" y="0"/>
            <a:ext cx="9144000" cy="661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 это чаще всего описываемая и встречающаяся форма контактов между людьми. Проявления этой формы весьма многообразны. В одних случаях столкновение проявляется исключительно в борьбе, в попытках противников обезоружить друг друга. Примером этого может быть ситуация, когда кого-то пытаются дискредитировать с помощью интриг, преследований, ложных обвинений и т.п. Другие формы столкновения больше похожи на поединки боксеров или фехтовальщиков - главное, к чему стремятся партнеры, - это доказать свое преимущество над другим. Иногда основной целью является  установление господства над другими людьми, с тем чтобы подчинить их своим интересам или использовать их ради собственной выгоды.</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 Среди различных форм столкновения можно найти и такие, которые содержат конструктивные и ценные начала как для участников столкновений, так и для других людей и даже целых сообществ. Конструктивные интеллектуальные споры, конфронтации разных позиций могут приносить определенную пользу и удовлетворение, могут помочь улучшить ситуацию в мире.Общения в форме столкновений являются результатом индивидуальных различий между людьми и возникает тогда, когда поступки индивидов- участников одной ситуации имеют аналогичную направленность. Столкновение бывают следствием несовпадения установок, чувств, стремлений, целей, моделей поведения и способов мышления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оступков и  чувств.</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7" name="WordArt 6"/>
          <p:cNvSpPr txBox="1"/>
          <p:nvPr/>
        </p:nvSpPr>
        <p:spPr>
          <a:xfrm>
            <a:off x="0" y="0"/>
            <a:ext cx="15429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Столкновение</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8" name="AutoShape 8"/>
          <p:cNvSpPr/>
          <p:nvPr/>
        </p:nvSpPr>
        <p:spPr>
          <a:xfrm>
            <a:off x="0" y="321300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4" descr="j0216724"/>
          <p:cNvPicPr/>
          <p:nvPr/>
        </p:nvPicPr>
        <p:blipFill>
          <a:blip r:embed="rId2"/>
          <a:stretch/>
        </p:blipFill>
        <p:spPr>
          <a:xfrm>
            <a:off x="7959600" y="189000"/>
            <a:ext cx="1184400" cy="1488960"/>
          </a:xfrm>
          <a:prstGeom prst="rect">
            <a:avLst/>
          </a:prstGeom>
          <a:ln w="0">
            <a:noFill/>
          </a:ln>
        </p:spPr>
      </p:pic>
      <p:sp>
        <p:nvSpPr>
          <p:cNvPr id="60" name="Text Box 5"/>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7"/>
          <p:cNvSpPr/>
          <p:nvPr/>
        </p:nvSpPr>
        <p:spPr>
          <a:xfrm>
            <a:off x="0" y="0"/>
            <a:ext cx="9144000" cy="70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стественно, что в жизни нельзя избежать разногласий, противореч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конфликтов. Однако в действительности чаще всего не сами конфликты разрушительно действуют на людей и затрудняют их совместную жизн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ледствия некоторых форм поведения в конфликтной ситуации: страх. Враждебность, угрозы. Если эти переживания чрезмерно интенсивны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ительны, у людей может возникнуть и закрепиться оборонитель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еакция, т.е. поведение, которое вплетается в структуру личности и искажает характер мышления, поступков и  чувс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Негативные последствия страха, враждебности и чувства опасности распространяются и на другие ситуации, участником которых становится данный субъект. Таким образом, возникает нечто вроде цепной реакции, которая охватывает все более широкие области межличностных отношений. Например, человек, воспитанный в атмосфере страха и опасности, сам впоследствии может стать источником этой атмосферы, воспитывая своих детей или руководя подчиненными. При этом он действует не вполне осознанно, не руководствуясь так называемым злым умыслом. Он всего лишь воспроизводит некоторый стереотип межличностных контактов, который когда-то в прошлом был закреплен на нем как часть его лич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оронительная реакция в ответ на чувство страха и угрозы может появляться в различных формах поведения. Иногда под влиянием страха человек старается стать “маленьким и незаметным”, чтобы не попадаться на глаза тем, кто является для него источником угрозы. Нередко встречаются такие люди, которые когда-то в прошлом избрали для себя подобный стиль реагирования и поведения и ведут себя так, хотя изначального источника опасности уже не существуе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9"/>
          <p:cNvSpPr/>
          <p:nvPr/>
        </p:nvSpPr>
        <p:spPr>
          <a:xfrm>
            <a:off x="0" y="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11"/>
          <p:cNvSpPr/>
          <p:nvPr/>
        </p:nvSpPr>
        <p:spPr>
          <a:xfrm>
            <a:off x="0" y="5013360"/>
            <a:ext cx="285840" cy="28260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AutoShape 12"/>
          <p:cNvSpPr/>
          <p:nvPr/>
        </p:nvSpPr>
        <p:spPr>
          <a:xfrm>
            <a:off x="0" y="2276640"/>
            <a:ext cx="285840" cy="282240"/>
          </a:xfrm>
          <a:custGeom>
            <a:avLst/>
            <a:gdLst/>
            <a:ahLst/>
            <a:rect l="l" t="t" r="r" b="b"/>
            <a:pathLst>
              <a:path w="285750" h="282575">
                <a:moveTo>
                  <a:pt x="0" y="107934"/>
                </a:moveTo>
                <a:lnTo>
                  <a:pt x="109147" y="107935"/>
                </a:lnTo>
                <a:lnTo>
                  <a:pt x="142875" y="0"/>
                </a:lnTo>
                <a:lnTo>
                  <a:pt x="176603" y="107935"/>
                </a:lnTo>
                <a:lnTo>
                  <a:pt x="285750" y="107934"/>
                </a:lnTo>
                <a:lnTo>
                  <a:pt x="197447" y="174640"/>
                </a:lnTo>
                <a:lnTo>
                  <a:pt x="231176" y="282574"/>
                </a:lnTo>
                <a:lnTo>
                  <a:pt x="142875" y="215867"/>
                </a:lnTo>
                <a:lnTo>
                  <a:pt x="54574" y="282574"/>
                </a:lnTo>
                <a:lnTo>
                  <a:pt x="88303" y="174640"/>
                </a:lnTo>
                <a:lnTo>
                  <a:pt x="0" y="107934"/>
                </a:lnTo>
                <a:close/>
              </a:path>
            </a:pathLst>
          </a:custGeom>
          <a:gradFill rotWithShape="0">
            <a:gsLst>
              <a:gs pos="0">
                <a:srgbClr val="750101"/>
              </a:gs>
              <a:gs pos="50000">
                <a:srgbClr val="fd0303"/>
              </a:gs>
              <a:gs pos="100000">
                <a:srgbClr val="7501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4" descr="j0293828"/>
          <p:cNvPicPr/>
          <p:nvPr/>
        </p:nvPicPr>
        <p:blipFill>
          <a:blip r:embed="rId2"/>
          <a:stretch/>
        </p:blipFill>
        <p:spPr>
          <a:xfrm>
            <a:off x="0" y="0"/>
            <a:ext cx="1547640" cy="1268280"/>
          </a:xfrm>
          <a:prstGeom prst="rect">
            <a:avLst/>
          </a:prstGeom>
          <a:ln w="0">
            <a:noFill/>
          </a:ln>
        </p:spPr>
      </p:pic>
      <p:sp>
        <p:nvSpPr>
          <p:cNvPr id="66" name="Text Box 5"/>
          <p:cNvSpPr/>
          <p:nvPr/>
        </p:nvSpPr>
        <p:spPr>
          <a:xfrm>
            <a:off x="0" y="0"/>
            <a:ext cx="9144000" cy="675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Иногда столкновение преобразуется в другую форму контактов,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которую можно назвать отчуждением. Отчуждение может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рассматриваться как конкретная форма самообороны в виде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перемирия, часто связанная с ощущением собственного бессилия или усталости, наступающая в результате предшествующей борьбы. Отчуждение может быть характерно не только для отношений между людьми, мало знающими друг друга и имеющими мало общих интересов, но и для отношений между теми, кто объединен общей работой, совместной научной деятельностью, принадлежностью к одной семье или группе. Такте отношения отличаются дистантностью, равнодушием или чувством отчужденности.</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 Несколько более смягченной формой отчужденности является так называемая конвенциональная корректность. Она основана на соблюдении некоторых жестко заданных границ, в рамках которых следует удержать собственное поведение и поведение другого человека. Эти границы устанавливаются под влиянием конвенционных норм, присущих данной среде или в результате действия неписаных законов при выполнении социальных ролей.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  Таким образом, можно сделать вывод, что каждый человек обладает личностными качествами, своими привычками и предубеждениями, которые с неизбежностью влияют на характер контактов с другими людьми. Поэтому общение в форме столкновений является результатом индивидуальных</a:t>
            </a:r>
            <a:endParaRPr b="0" lang="en-US" sz="1900" spc="-1" strike="noStrike">
              <a:solidFill>
                <a:srgbClr val="000000"/>
              </a:solidFill>
              <a:latin typeface="Arial"/>
            </a:endParaRPr>
          </a:p>
        </p:txBody>
      </p:sp>
      <p:sp>
        <p:nvSpPr>
          <p:cNvPr id="67" name="WordArt 6"/>
          <p:cNvSpPr txBox="1"/>
          <p:nvPr/>
        </p:nvSpPr>
        <p:spPr>
          <a:xfrm>
            <a:off x="3132000" y="0"/>
            <a:ext cx="19764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Отчуждение</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Rectangle 4"/>
          <p:cNvSpPr/>
          <p:nvPr/>
        </p:nvSpPr>
        <p:spPr>
          <a:xfrm>
            <a:off x="0" y="0"/>
            <a:ext cx="914400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личий между людьми и возникают тогда, когда поступки участников одной ситуации имеют антагонистическую направленност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5" descr="j0301252"/>
          <p:cNvPicPr/>
          <p:nvPr/>
        </p:nvPicPr>
        <p:blipFill>
          <a:blip r:embed="rId2"/>
          <a:stretch/>
        </p:blipFill>
        <p:spPr>
          <a:xfrm>
            <a:off x="7667640" y="2708280"/>
            <a:ext cx="1476360" cy="1262160"/>
          </a:xfrm>
          <a:prstGeom prst="rect">
            <a:avLst/>
          </a:prstGeom>
          <a:ln w="0">
            <a:noFill/>
          </a:ln>
        </p:spPr>
      </p:pic>
      <p:sp>
        <p:nvSpPr>
          <p:cNvPr id="70" name="Text Box 7"/>
          <p:cNvSpPr/>
          <p:nvPr/>
        </p:nvSpPr>
        <p:spPr>
          <a:xfrm>
            <a:off x="0" y="9986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Итак, всем понятно, что конфликты всегда существовали, существуют и будут существовать, они неотъемлемая часть человеческих взаимоотнош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озможность возникновения конфликтов существует во всех сферах. Конфликты рождаются на почве ежедневных расхождений во взглядах, разногласий и противоборства разных мнений, нужд, побуждений, желаний, стилей жизни, надежд, интересов и личностных особенностей. Они представляют собой эскалацию каждодневного соперничества и противостояния в сфере принципиальных или эмоционально обусловленных столкновений,               которые нарушают личностное или межличностное спокойств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уществуют ли какие-то возможности конструктивного и успешного            решения конфлик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Ключ решения этой проблемы состоит в том, чтобы взглянуть на конфликт, как на задачу, которая должна быть решена : в первую очередь определить причину конфликта, а затем - применить соответствующую технику решения конфликтных проблем. Например, метод творческой визуализации может быть использован для анализа причин конфликта; метод мозгового штурма может быть полезен при поиске альтернатив;  метод автоматической записи может быть использован для выяснения собственных реакций на те или иные возможности; метод мысленного представления может помочь спросить самого себя и получить от внутреннего голоса совет в отношении выбора. Наконец, метод мысленного контроля или техника волевого мышления может быть использована для выработки</a:t>
            </a:r>
            <a:endParaRPr b="0" lang="en-US" sz="1800" spc="-1" strike="noStrike">
              <a:solidFill>
                <a:srgbClr val="000000"/>
              </a:solidFill>
              <a:latin typeface="Arial"/>
            </a:endParaRPr>
          </a:p>
        </p:txBody>
      </p:sp>
      <p:sp>
        <p:nvSpPr>
          <p:cNvPr id="71" name="WordArt 8"/>
          <p:cNvSpPr txBox="1"/>
          <p:nvPr/>
        </p:nvSpPr>
        <p:spPr>
          <a:xfrm>
            <a:off x="0" y="620640"/>
            <a:ext cx="883620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I. Описание методик и стратегических средств разрешения конфликтных ситуаций</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Text Box 4"/>
          <p:cNvSpPr/>
          <p:nvPr/>
        </p:nvSpPr>
        <p:spPr>
          <a:xfrm>
            <a:off x="0" y="0"/>
            <a:ext cx="914400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аточной внутренней мотивации или контроля с целью реализации новых реш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Методами контроля конфликтной ситуации  может овладеть каждый. Они помогут решить проблему практически любого типа: внутренний конфликт, с окружающими людь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6"/>
          <p:cNvSpPr/>
          <p:nvPr/>
        </p:nvSpPr>
        <p:spPr>
          <a:xfrm>
            <a:off x="0" y="134136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 чего нач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оцесс в целом начинается с рассмотрения конфликтов и определения их. Затем необходимо рассмотреть причины конфликтов и заострить внимание на источнике напряжения. Например, некоторые конфликты вызваны обстоятельствами; некоторые связаны с особенностями вовлечения в них людей; другие могут быть обусловлены повторяющейся формой поведения или отношения, которая может лечь в основу конфликтной ситу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езно иметь представление о некоторых общих причинах конфликтов между людьми, которые являются результатом недостаточного общения или непонимания; различия в планах, интересах и оценках; противостояния в групповых конфликтных ситуациях; неверных предположений в отношении чьих-либо действий; отсутствия сочувствия нуждам и желаниям других людей и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осле обнаружения скрытых причин и источников конфликта следующим шагом является коррекция проблемы путем проходящей реакции. Например, если конфликт вызван недостаточным общением или его отсутствием, очевидная реакция состоит в поиске путей налаживания общения. Если конфликт связан с различием в жизненных планах, реакция будет заключаться в одном из компромиссов, выработанных в  результате переговоров и поиска решений, при которых в выигрыше остается каждый участник конфликта. Если же помехой</a:t>
            </a:r>
            <a:endParaRPr b="0" lang="en-US" sz="1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4"/>
          <p:cNvSpPr/>
          <p:nvPr/>
        </p:nvSpPr>
        <p:spPr>
          <a:xfrm>
            <a:off x="0" y="0"/>
            <a:ext cx="9144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вляется  собственные страхи и нерешительность, то решение заключается в выработке методов преодоления этих препятствий на пут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5"/>
          <p:cNvSpPr/>
          <p:nvPr/>
        </p:nvSpPr>
        <p:spPr>
          <a:xfrm>
            <a:off x="0" y="54936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ru-RU" sz="1800" spc="-1" strike="noStrike">
                <a:solidFill>
                  <a:srgbClr val="000000"/>
                </a:solidFill>
                <a:latin typeface="Arial"/>
              </a:rPr>
              <a:t>). Рационально- интуитивная модель овладения конфликтной ситуац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 соответствующем опыте действия в конфликтных ситуаций потенциальные конфликты могут быть вообще предотвращены или разрешены и даже использованы в качестве источника улучшения отношений с другими людьми и самосовершенствования. Задача состоит не в том, чтобы уйти от конфликта, который потенциально возможен во всех общественных отношениях и ситуациях внутреннего выбора, а в распознавании конфликта и контроле над ним с целью получения наилучшего ит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Идеальным с этой точки зрения является рационально - интуитивный метод разрешения конфликтов, разработанный американским  ученым Джини Грехем Скотт. С самого начала этот метод вовлекает в работу сознание и интуицию при осуществлении выбора образа действия в конфликтной ситуации. Этот подход основывается на оценке обстоятельств, </a:t>
            </a:r>
            <a:endParaRPr b="0" lang="en-US" sz="1800" spc="-1" strike="noStrike">
              <a:solidFill>
                <a:srgbClr val="000000"/>
              </a:solidFill>
              <a:latin typeface="Arial"/>
            </a:endParaRPr>
          </a:p>
        </p:txBody>
      </p:sp>
      <p:sp>
        <p:nvSpPr>
          <p:cNvPr id="76" name="Text Box 6"/>
          <p:cNvSpPr/>
          <p:nvPr/>
        </p:nvSpPr>
        <p:spPr>
          <a:xfrm>
            <a:off x="0" y="450864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ов, интересов  и нужд вовлеченных в конфликт людей, а так же собственных целей, интересов, нуж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 серьезные конфликты всегда вовлечены эмоции участников. Таким образом, одним из первых шагов к разрешению конфликта является подавление рождаемых им отрицательных эмоций - собственных и эмоций других люд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4:21:24Z</dcterms:created>
  <dc:creator>Admin</dc:creator>
  <dc:description/>
  <dc:language>en-US</dc:language>
  <cp:lastModifiedBy>User</cp:lastModifiedBy>
  <dcterms:modified xsi:type="dcterms:W3CDTF">2012-01-06T14:38:25Z</dcterms:modified>
  <cp:revision>1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