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8699-8337-47A0-A684-D2A0EBCA50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BEB0-88D0-4C55-80E0-8F7DE13108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81D-95E7-441A-83A2-5FDA76DC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6F9-AC5F-495A-A6D4-2D6384AC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E89-9F4D-4CAD-BFB6-C6665706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BD7-49BF-4D4E-98F3-34BF7378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70E-9E7C-41B9-91EB-C7F7C02A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718-DFDC-41FF-8555-B307EE4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CA3-7AB3-4249-90BB-D60D3FD0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89F-AB78-46BB-AA6A-854D3255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D28-368E-48F1-A201-4BA9A221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B42-04FE-41B3-AB92-FC9912D9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4BC-6BE0-410B-AD35-C18F687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61B-3E90-4CA5-A13E-C054ADF5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92F8-102A-4CD7-8A9C-8B0599E5ECAE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857240"/>
            <a:ext cx="7310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b9"/>
                </a:solidFill>
                <a:latin typeface="Times New Roman"/>
              </a:rPr>
              <a:t>Мешочек  для хранения   </a:t>
            </a:r>
            <a:br>
              <a:rPr sz="3200"/>
            </a:br>
            <a:r>
              <a:rPr b="1" lang="ru-RU" sz="3200" spc="-1" strike="noStrike">
                <a:solidFill>
                  <a:srgbClr val="2d2db9"/>
                </a:solidFill>
                <a:latin typeface="Times New Roman"/>
              </a:rPr>
              <a:t>работ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5000760" y="3929040"/>
            <a:ext cx="1714320" cy="1714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0" name="Рисунок 5" descr=""/>
          <p:cNvPicPr/>
          <p:nvPr/>
        </p:nvPicPr>
        <p:blipFill>
          <a:blip r:embed="rId3"/>
          <a:stretch/>
        </p:blipFill>
        <p:spPr>
          <a:xfrm>
            <a:off x="2286000" y="3929040"/>
            <a:ext cx="1785960" cy="16430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99"/>
                </a:solidFill>
                <a:latin typeface="Times New Roman"/>
              </a:rPr>
              <a:t>Виды мешочков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847800" y="2633760"/>
            <a:ext cx="2170080" cy="2408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3565440" y="1847880"/>
            <a:ext cx="2170080" cy="1955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6419880" y="3067200"/>
            <a:ext cx="1816200" cy="195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Times New Roman"/>
              </a:rPr>
              <a:t>Ткани для пошива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6" name="Picture 7" descr="Shelk-cvetnaya"/>
          <p:cNvPicPr/>
          <p:nvPr/>
        </p:nvPicPr>
        <p:blipFill>
          <a:blip r:embed="rId1"/>
          <a:stretch/>
        </p:blipFill>
        <p:spPr>
          <a:xfrm>
            <a:off x="4280040" y="1920960"/>
            <a:ext cx="2412720" cy="2084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642960" y="1857240"/>
            <a:ext cx="3000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2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Сите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2228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Сат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Мешочек для хранения работ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19200" y="1920960"/>
            <a:ext cx="4011840" cy="218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Определение боковых и верхних  срезов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3643200" y="2643120"/>
            <a:ext cx="1785960" cy="214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214800" y="1714680"/>
            <a:ext cx="26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верхний ср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785880" y="3429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боковой  ср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6"/>
          <p:cNvSpPr/>
          <p:nvPr/>
        </p:nvSpPr>
        <p:spPr>
          <a:xfrm flipH="1">
            <a:off x="5857200" y="35002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боковой  ср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500280" y="5357880"/>
            <a:ext cx="26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сгиб  де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Блок-схема: перфолента 9"/>
          <p:cNvSpPr/>
          <p:nvPr/>
        </p:nvSpPr>
        <p:spPr>
          <a:xfrm>
            <a:off x="785880" y="1428840"/>
            <a:ext cx="2071800" cy="92844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меет одн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таль кро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428760" y="1785960"/>
            <a:ext cx="799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ковые  срезы изделия соединяют  стачным  ш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ширина  шва 15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хний  срез мешочка  обработан краевым шв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одгибку закрытым  срез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ширина  шва  20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 Мешочек  отделан апплик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219760" y="785880"/>
            <a:ext cx="38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бработка  издел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5:36:27Z</dcterms:created>
  <dc:creator>My COMP</dc:creator>
  <dc:description/>
  <dc:language>en-US</dc:language>
  <cp:lastModifiedBy>Admin</cp:lastModifiedBy>
  <dcterms:modified xsi:type="dcterms:W3CDTF">2012-01-06T13:53:26Z</dcterms:modified>
  <cp:revision>60</cp:revision>
  <dc:subject/>
  <dc:title>Школьные годы чудесные…</dc:title>
</cp:coreProperties>
</file>