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wmf" ContentType="image/x-wmf"/>
  <Override PartName="/ppt/media/image1.png" ContentType="image/pn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C7C-3460-4636-BDED-4B0B60FE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FF3-4128-4573-B3EA-6478237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C8C-5A93-4A3E-BC01-04BFC1E0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6E5-96F0-47E2-90C8-866F7BDC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2FA-DBE2-456F-83D4-6D904D3C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3A76-B001-43DD-BC89-BC5820B3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3D12-6FD7-4539-B70D-68DE092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66C6-1207-4A12-8E0F-12116B6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0D1E-CF40-44CB-8854-B0E2611F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AD37-28DC-44EE-A64D-A4EBC2AA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E513-63A0-4FE8-968E-125FCB3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2A7-4472-4191-B096-B448E99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1C98-144B-4494-BBD1-9AE08D6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BD07-236E-4C15-A820-E3C78D1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B726-5BAA-4690-A58C-14FA3A0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A203-8D9B-45B1-92A1-8C418EB4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AC95-3E90-4611-B8D5-1EE5FE4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0B5-E530-4F52-8CCF-1945558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132-6078-4723-8D62-91DF343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00D-A925-4EDA-A836-5B973EFA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5F5-FF86-4605-B967-BB85B7B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ABE-C296-409B-8DF9-9FCFD2D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CDE-4FF3-474A-B50C-7552A4B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2C8-F2E7-41A9-AC15-71930D9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3040" cy="6504120"/>
            <a:chOff x="177840" y="230040"/>
            <a:chExt cx="203040" cy="6504120"/>
          </a:xfrm>
        </p:grpSpPr>
        <p:sp>
          <p:nvSpPr>
            <p:cNvPr id="1" name=""/>
            <p:cNvSpPr/>
            <p:nvPr/>
          </p:nvSpPr>
          <p:spPr>
            <a:xfrm>
              <a:off x="30492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3000" y="220680"/>
            <a:ext cx="198720" cy="6408720"/>
            <a:chOff x="8793000" y="220680"/>
            <a:chExt cx="198720" cy="6408720"/>
          </a:xfrm>
        </p:grpSpPr>
        <p:sp>
          <p:nvSpPr>
            <p:cNvPr id="4" name=""/>
            <p:cNvSpPr/>
            <p:nvPr/>
          </p:nvSpPr>
          <p:spPr>
            <a:xfrm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93000" y="38088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7120"/>
            <a:ext cx="8686800" cy="226800"/>
            <a:chOff x="412920" y="6477120"/>
            <a:chExt cx="8686800" cy="226800"/>
          </a:xfrm>
        </p:grpSpPr>
        <p:sp>
          <p:nvSpPr>
            <p:cNvPr id="7" name=""/>
            <p:cNvSpPr/>
            <p:nvPr/>
          </p:nvSpPr>
          <p:spPr>
            <a:xfrm>
              <a:off x="412920" y="6477120"/>
              <a:ext cx="8686800" cy="75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4360" y="6627960"/>
              <a:ext cx="8501040" cy="759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7760" y="174600"/>
            <a:ext cx="8745480" cy="163440"/>
            <a:chOff x="77760" y="174600"/>
            <a:chExt cx="8745480" cy="163440"/>
          </a:xfrm>
        </p:grpSpPr>
        <p:sp>
          <p:nvSpPr>
            <p:cNvPr id="10" name=""/>
            <p:cNvSpPr/>
            <p:nvPr/>
          </p:nvSpPr>
          <p:spPr>
            <a:xfrm>
              <a:off x="295200" y="279360"/>
              <a:ext cx="8526600" cy="5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760" y="174600"/>
              <a:ext cx="8745480" cy="60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3080" y="174600"/>
            <a:ext cx="8745480" cy="163440"/>
            <a:chOff x="73080" y="174600"/>
            <a:chExt cx="8745480" cy="163440"/>
          </a:xfrm>
        </p:grpSpPr>
        <p:sp>
          <p:nvSpPr>
            <p:cNvPr id="13" name=""/>
            <p:cNvSpPr/>
            <p:nvPr/>
          </p:nvSpPr>
          <p:spPr>
            <a:xfrm>
              <a:off x="290520" y="279360"/>
              <a:ext cx="8526600" cy="5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80" y="174600"/>
              <a:ext cx="8745480" cy="60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7488-5B3B-4ED3-A72A-98A2AFB7F0AD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3040" cy="6504120"/>
            <a:chOff x="177840" y="230040"/>
            <a:chExt cx="203040" cy="6504120"/>
          </a:xfrm>
        </p:grpSpPr>
        <p:sp>
          <p:nvSpPr>
            <p:cNvPr id="57" name=""/>
            <p:cNvSpPr/>
            <p:nvPr/>
          </p:nvSpPr>
          <p:spPr>
            <a:xfrm>
              <a:off x="30492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3000" y="220680"/>
            <a:ext cx="198720" cy="6408720"/>
            <a:chOff x="8793000" y="220680"/>
            <a:chExt cx="198720" cy="6408720"/>
          </a:xfrm>
        </p:grpSpPr>
        <p:sp>
          <p:nvSpPr>
            <p:cNvPr id="60" name=""/>
            <p:cNvSpPr/>
            <p:nvPr/>
          </p:nvSpPr>
          <p:spPr>
            <a:xfrm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93000" y="38088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7120"/>
            <a:ext cx="8686800" cy="226800"/>
            <a:chOff x="412920" y="6477120"/>
            <a:chExt cx="8686800" cy="226800"/>
          </a:xfrm>
        </p:grpSpPr>
        <p:sp>
          <p:nvSpPr>
            <p:cNvPr id="63" name=""/>
            <p:cNvSpPr/>
            <p:nvPr/>
          </p:nvSpPr>
          <p:spPr>
            <a:xfrm>
              <a:off x="412920" y="6477120"/>
              <a:ext cx="8686800" cy="75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360" y="6627960"/>
              <a:ext cx="8501040" cy="759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7760" y="174600"/>
            <a:ext cx="8745480" cy="163440"/>
            <a:chOff x="77760" y="174600"/>
            <a:chExt cx="8745480" cy="163440"/>
          </a:xfrm>
        </p:grpSpPr>
        <p:sp>
          <p:nvSpPr>
            <p:cNvPr id="66" name=""/>
            <p:cNvSpPr/>
            <p:nvPr/>
          </p:nvSpPr>
          <p:spPr>
            <a:xfrm>
              <a:off x="295200" y="279360"/>
              <a:ext cx="8526600" cy="5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60" y="174600"/>
              <a:ext cx="8745480" cy="60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0D42-0DBF-4A56-91D3-FC965303CAD8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horisme.ru/by-authors/konfuciy/?q=421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6920" y="0"/>
            <a:ext cx="74901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ВРЕМЕННЫЙ УРО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101320"/>
            <a:ext cx="842472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Кто не видит конечной цели 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очень удивляется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ридя не туд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Tahoma"/>
              </a:rPr>
              <a:t>Марк Твен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2. Определение целей уро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339920" indent="-343080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Обучающих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1339920" indent="-343080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Развивающих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133992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Воспитывающих</a:t>
            </a:r>
            <a:r>
              <a:rPr b="1" lang="en-US" sz="32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380880"/>
            <a:ext cx="807732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ЛЬ  ОБУЧЕНИЯ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предполагает формирование у учащихся новых понятий и способов действий, системы научных знаний и т.п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  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еспечить усвоение учащимися законов, признаков, свойств, особенностей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общить и систематизировать знания о...(или по конкретной теме)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работать навыки (какие?)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биться усвоения учащимися каких-то понятий (вопросов)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380880"/>
            <a:ext cx="8153640" cy="64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8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ЛЬ ВОСПИТАНИЯ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предполагает формирование у учащихся определенных свойств личности и черт характера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     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Воспитание патриотизма;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8f8f8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      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Воспитание интернационализма;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8f8f8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      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Воспитание гуманности;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8f8f8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      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Воспитание мотивов труда, добросовестного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8f8f8"/>
                </a:solidFill>
                <a:latin typeface="Times New Roman"/>
              </a:rPr>
              <a:t>отношения к труду;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Symbol"/>
                <a:ea typeface="Symbol"/>
              </a:rPr>
              <a:t></a:t>
            </a:r>
            <a:r>
              <a:rPr b="1" lang="en-US" sz="2600" spc="-1" strike="noStrike">
                <a:solidFill>
                  <a:srgbClr val="f8f8f8"/>
                </a:solidFill>
                <a:latin typeface="Times New Roman"/>
              </a:rPr>
              <a:t>      </a:t>
            </a:r>
            <a:r>
              <a:rPr b="1" lang="en-US" sz="2600" spc="-1" strike="noStrike">
                <a:solidFill>
                  <a:srgbClr val="f8f8f8"/>
                </a:solidFill>
                <a:latin typeface="Times New Roman"/>
              </a:rPr>
              <a:t>Воспитание мотивов учения,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600" spc="-1" strike="noStrike">
                <a:solidFill>
                  <a:srgbClr val="f8f8f8"/>
                </a:solidFill>
                <a:latin typeface="Times New Roman"/>
              </a:rPr>
              <a:t>положительного отношения к знаниям;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Symbol"/>
                <a:ea typeface="Symbol"/>
              </a:rPr>
              <a:t></a:t>
            </a:r>
            <a:r>
              <a:rPr b="1" lang="en-US" sz="2600" spc="-1" strike="noStrike">
                <a:solidFill>
                  <a:srgbClr val="f8f8f8"/>
                </a:solidFill>
                <a:latin typeface="Times New Roman"/>
              </a:rPr>
              <a:t>      </a:t>
            </a:r>
            <a:r>
              <a:rPr b="1" lang="en-US" sz="2600" spc="-1" strike="noStrike">
                <a:solidFill>
                  <a:srgbClr val="f8f8f8"/>
                </a:solidFill>
                <a:latin typeface="Times New Roman"/>
              </a:rPr>
              <a:t>Воспитание дисциплинированности;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609480"/>
            <a:ext cx="800100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ЛЬ РАЗВИТИЯ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предполагает в основном развитие на уроке психических качеств учащихся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нтеллекта (мышления);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знавательных умений;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бщетрудовых и политехнических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умений;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ли;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амостоятельност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900000" y="2057400"/>
            <a:ext cx="7920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ние групп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одготовка учащихся к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аботе на основном этапе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ок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imes New Roman"/>
              </a:rPr>
              <a:t>Назовите возможные методы и приемы задания цели урока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5280" y="404640"/>
            <a:ext cx="842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. Объяснение уч-ся целей урока одновременное сообщением темы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2. Сообщение цели в виде проблемного задания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3. Сообщение цели в виде эвристического вопроса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4. Указание целей на специальном стенде “Что сегодня на уроке?”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5. Использование технологической карты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6. Ассоциативный ряд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7. Использование результатов предварительного социологического опроса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8. Постановка целей по изучению явлений, процессов и др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60280"/>
            <a:ext cx="89647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9. Постановка целей через показ конечных результатов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0. Постановка целей посредством опоры на последовательность изучения материала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1. Устный счет, математический диктант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.. Метод целесообразных задач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3. “Нарисуй картину”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4. Мозговая атака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5 Постановка привлекательной цели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6. В начале урока дается загадка, отгадка к которой будет открыта при работе над новым материалом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7. Дополнение реальной ситуации фантастикой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900000" y="2057400"/>
            <a:ext cx="79200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Назовите известные вам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типы уроков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4572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Times New Roman"/>
              </a:rPr>
              <a:t>3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Уточнение типа урока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80773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изучения нового материал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закрепления и развития знаний умений и навыков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формирования умений и навыков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повторения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проверки знаний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применения знаний, умений и навыков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вторительно-обобщающий урок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Комбинированный урок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1557360"/>
            <a:ext cx="4176720" cy="2837160"/>
          </a:xfrm>
          <a:prstGeom prst="rect">
            <a:avLst/>
          </a:prstGeom>
          <a:noFill/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 Cyr"/>
              </a:rPr>
              <a:t>Кто постигает новое, лелея старое, тот может быть учителем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Times New Roman Cyr"/>
                <a:hlinkClick r:id="rId2"/>
              </a:rPr>
              <a:t>Конфуций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86360" y="765000"/>
            <a:ext cx="3762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900000" y="2057400"/>
            <a:ext cx="7920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Назовите известные вам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виды (формы) уроков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84872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- лекция;     урок-беседа;    кино-урок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самостоятельных работ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репродуктивного типа - устных или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исьменных упражнений.)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теоретических или практических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амостоятельных работ (исследовательского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типа)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лабораторных работ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практических работ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Конкурс знаний, умений и творчества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80880"/>
            <a:ext cx="815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4.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Уточнение вида урока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566640"/>
            <a:ext cx="45720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- экскурсия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рок - семинар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Дидактическая игр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нализ ситуаций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Устный опрос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исьменный опрос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Контрольная работ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Зачет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457200"/>
            <a:ext cx="807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4.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Уточнение вида урока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333360"/>
            <a:ext cx="5076720" cy="72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Урок - поиск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Проектный урок 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Урок - экспедиция 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Урок без учителя 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Стихотворно - музыкальный урок 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Урок взаимообучения 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Урок </a:t>
            </a:r>
            <a:r>
              <a:rPr b="1" lang="ru-RU" sz="2800" spc="-1" strike="noStrike">
                <a:solidFill>
                  <a:srgbClr val="f8f8f8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пресс-конференция 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Проблемно-обучающий зачет 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900000" y="2057400"/>
            <a:ext cx="7920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Назовите известные вам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МЕТОДЫ И ПРИЕМЫ уроков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5. Выбор методов и приёмов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Репродуктивный(воспроизводящий) лекция, рассказ, беседа, наблюдение, диалог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Программированный (частично-поисковый) пресс-конференция, работа с книгой, сюжетно-ролевая игра, работа технологическими картами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Проблемный(исследовательский) диагностика, проведение опыта, решение задач, практикум, анализ текстов, конструирование, сборка схем, «Что? Где? Когда?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Проектный (творческий) проект, чертеж, рисунок, мое открытие, рефера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6. Спланировать учебный материал уро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добрать по теме литератур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добрать учебные задани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дготовить оборудование, необходимое к урок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родумать изюминку урок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родумать контроль за деятельностью учащихся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родумать все этапы и их место в структуре урок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Продумать изюминку уро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05120"/>
            <a:ext cx="838224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интересный факт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еожиданное открытие;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расивый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опыт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естандартный подход к уже известному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Контроль за деятельностью учащихся на урок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81080"/>
            <a:ext cx="82296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• 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Что контролировать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•  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Как контролировать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•   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Как использовать результаты контрол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4221000"/>
            <a:ext cx="63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Cyr"/>
              </a:rPr>
              <a:t>Учитель должен обеспечить активное учение каждого школьника!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Контроль за деятельностью учащих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2680" y="2058840"/>
            <a:ext cx="8302680" cy="4340520"/>
            <a:chOff x="382680" y="2058840"/>
            <a:chExt cx="8302680" cy="4340520"/>
          </a:xfrm>
        </p:grpSpPr>
        <p:grpSp>
          <p:nvGrpSpPr>
            <p:cNvPr id="207" name=""/>
            <p:cNvGrpSpPr/>
            <p:nvPr/>
          </p:nvGrpSpPr>
          <p:grpSpPr>
            <a:xfrm>
              <a:off x="393840" y="2068560"/>
              <a:ext cx="8280360" cy="4321080"/>
              <a:chOff x="393840" y="2068560"/>
              <a:chExt cx="8280360" cy="43210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393840" y="2068560"/>
                <a:ext cx="2752560" cy="2881440"/>
                <a:chOff x="393840" y="2068560"/>
                <a:chExt cx="2752560" cy="2881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69800" y="2068560"/>
                  <a:ext cx="2600280" cy="28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8f8f8"/>
                      </a:solidFill>
                      <a:latin typeface="Times New Roman"/>
                    </a:rPr>
                    <a:t>Этап урока</a:t>
                  </a: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3840" y="2075040"/>
                  <a:ext cx="2752560" cy="2868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159000" y="2068560"/>
                <a:ext cx="5515200" cy="1439640"/>
                <a:chOff x="3159000" y="2068560"/>
                <a:chExt cx="5515200" cy="1439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235320" y="2068560"/>
                  <a:ext cx="53625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8f8f8"/>
                      </a:solidFill>
                      <a:latin typeface="Times New Roman"/>
                    </a:rPr>
                    <a:t>Что делают</a:t>
                  </a: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159000" y="2075040"/>
                  <a:ext cx="5515200" cy="1427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159000" y="3508200"/>
                <a:ext cx="2749680" cy="1441800"/>
                <a:chOff x="3159000" y="3508200"/>
                <a:chExt cx="2749680" cy="1441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235320" y="3508200"/>
                  <a:ext cx="2597040" cy="14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8f8f8"/>
                      </a:solidFill>
                      <a:latin typeface="Times New Roman"/>
                    </a:rPr>
                    <a:t>Учитель</a:t>
                  </a: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159000" y="3514680"/>
                  <a:ext cx="2749680" cy="14288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921280" y="3508200"/>
                <a:ext cx="2752920" cy="1441800"/>
                <a:chOff x="5921280" y="3508200"/>
                <a:chExt cx="2752920" cy="1441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997600" y="3508200"/>
                  <a:ext cx="2600280" cy="14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8f8f8"/>
                      </a:solidFill>
                      <a:latin typeface="Times New Roman"/>
                    </a:rPr>
                    <a:t>Ученики</a:t>
                  </a: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921280" y="3514680"/>
                  <a:ext cx="2752920" cy="14288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93840" y="4950000"/>
                <a:ext cx="2752560" cy="1439640"/>
                <a:chOff x="393840" y="4950000"/>
                <a:chExt cx="2752560" cy="14396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9800" y="4950000"/>
                  <a:ext cx="260028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8f8f8"/>
                      </a:solidFill>
                      <a:latin typeface="Times New Roman"/>
                    </a:rPr>
                    <a:t>1. Проверка домашнего задания</a:t>
                  </a: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3840" y="4956120"/>
                  <a:ext cx="2752560" cy="1427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159000" y="4950000"/>
                <a:ext cx="2749680" cy="1439640"/>
                <a:chOff x="3159000" y="4950000"/>
                <a:chExt cx="2749680" cy="14396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235320" y="4950000"/>
                  <a:ext cx="259704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8f8f8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59000" y="4956120"/>
                  <a:ext cx="2749680" cy="1427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921280" y="4950000"/>
                <a:ext cx="2752920" cy="1439640"/>
                <a:chOff x="5921280" y="4950000"/>
                <a:chExt cx="2752920" cy="14396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997600" y="4950000"/>
                  <a:ext cx="260028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8f8f8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8f8f8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21280" y="4956120"/>
                  <a:ext cx="2752920" cy="1427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382680" y="2058840"/>
              <a:ext cx="8302680" cy="434052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900000" y="2057400"/>
            <a:ext cx="7920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зовите известные Ва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Cyr"/>
              </a:rPr>
              <a:t>формы организации учебной деятельн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 Cyr"/>
              </a:rPr>
              <a:t> на уроке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1628640"/>
            <a:ext cx="74678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СОБЛЮДЕНИЕ ПЕДАГОГИЧЕСКИХ ТРЕБОВАНИЙ, КАК ФАКТОР, ПОВЫШАЮЩИЙ ПРОФЕССИОНАЛЬНУЮ КОМПЕТЕНТНОСТЬ СОВРЕМЕННОГО УЧИТЕЛЯ</a:t>
            </a:r>
            <a:r>
              <a:rPr b="1" lang="en-US" sz="3200" spc="-1" strike="noStrike">
                <a:solidFill>
                  <a:srgbClr val="f8f8f8"/>
                </a:solidFill>
                <a:latin typeface="Century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Современный уро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Формы организации учебной деятельности на уро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Фронтальная работа учителя с классом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Индивидуальная рабо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Коллективная рабо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Групповая, парная рабо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Дифференцированная рабо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Совместно – распределительная рабо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Дидактическая игр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Ролевая игр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Метод диалогических сочетаний  и т.д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1.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Организационный момент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роверка домашнего задания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3. Проверка знаний и умений учащихся для подготовки к новой теме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4.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остановка целей занятия перед учащимися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5. Организация усвоения исходных данных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6. Первичная проверка понимания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cc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627120"/>
          <a:ext cx="1930320" cy="17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27120"/>
                    <a:ext cx="19303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0000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Основные этапы 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                          современного урока</a:t>
            </a:r>
            <a:r>
              <a:rPr b="1" lang="en-US" sz="2400" spc="-1" strike="noStrike">
                <a:solidFill>
                  <a:srgbClr val="5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7. Организация усвоения способов деятельност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8. Творческое применение и добывание знаний, освоение способ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9. Обобщение изучаемого на уроке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10.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Контроль за результатами учебной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11.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Домашнее задание к следующему уроку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12.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одведение итогов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0880" y="347760"/>
          <a:ext cx="208296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47760"/>
                    <a:ext cx="208296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0000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Основные этапы 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                           современного урока</a:t>
            </a:r>
            <a:r>
              <a:rPr b="1" lang="en-US" sz="2400" spc="-1" strike="noStrike">
                <a:solidFill>
                  <a:srgbClr val="5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900000" y="2057400"/>
            <a:ext cx="79200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аш вариант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 Cyr"/>
              </a:rPr>
              <a:t>контроля за результатами учебной деятельност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Контроль за результатами учебной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Фактологический диктан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Графический диктан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Тес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Щадящий опрос (друг другу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ыборочный контрол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Заче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Блиц контрольна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Дифференцированная контрольна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упер контрольная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Опрос-итог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3 уровня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обязательны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тренировочны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творческое задани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Задание массивом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Особое задани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900000" y="2057400"/>
            <a:ext cx="7920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Какое задать домашнее задание?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I. 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 К урокам изучения нового материал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1)   Заучивание материала учебника и его пересказ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2)   Доработка материалов урока составлением рисунков, чертежей, знакомство с материалом, намеченным к изучению на следующем уроке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3)   Сбор материалов из дополнительных источников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II. 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К урокам обобще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1)   Ответы на специально поставленные вопросы учителя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2)   Подготовка к ответу по заданию и плану, данному учителем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3)   Самостоятельное составление плана ответа по какой-то теме или подготовка по этому плану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4)   Выделение в тексте основного и второстепенного материала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5)   Самостоятельное доказательство того или иного частного положения или доказательство, аналогичное тому, которое давалось в классе при измененных буквах или положения чертежа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6)   Подборка дополнительного материала по теме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584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III.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К урокам обучения применять знания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)   Практические работы (изготовление пособий, карточек, таблиц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)   Решение задач, аналогичных классным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)   Решение задач нестандартных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)   Решение задач с меж предметными связями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)   Самостоятельное составление задач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)   Самостоятельное изучение несложного материала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)   Работа над ошибками;</a:t>
            </a:r>
            <a:br>
              <a:rPr sz="2400"/>
            </a:b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IV.  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К урокам контроля и проверки знаний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)   Письменные ответы на вопросы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)   Домашняя контрольная работа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)   Решение нестандартных задач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900000" y="2057400"/>
            <a:ext cx="79200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дание групп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Как провести  рефлекси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ю?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Этапы организации современного урок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1.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Начало подготовки к уроку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2. Определение целей урок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3. Уточнение типа урок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4. Уточнение вида урок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5. Выбор методов и приёмов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6. Планирование учебного материала урок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8876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1. Ассоциативный ряд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2. Незаконченные предложения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3. “Торт решений”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4. “Разговор на бумаге”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5. “Солнышко”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6. “Координаты”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7. “Лист обратной связи”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8.”Заключительная дискуссия”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4535640" y="1197000"/>
            <a:ext cx="46083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9. “Выбери дистанцию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0. Интепритация изображений на открытках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1. “Свет молнии”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2. “Письмо самому себе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3. “Ну что, как прошло занятие?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4. Барометр настроения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5. “Телеграмма”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6. “Памятки”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7. “Пейзаж - зеркало настроения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Связь между работоспособностью учащихся и временем уро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339640" y="2636640"/>
            <a:ext cx="5486760" cy="2972160"/>
            <a:chOff x="2339640" y="2636640"/>
            <a:chExt cx="5486760" cy="2972160"/>
          </a:xfrm>
        </p:grpSpPr>
        <p:sp>
          <p:nvSpPr>
            <p:cNvPr id="287" name=""/>
            <p:cNvSpPr/>
            <p:nvPr/>
          </p:nvSpPr>
          <p:spPr>
            <a:xfrm>
              <a:off x="2340000" y="5608800"/>
              <a:ext cx="5486400" cy="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340000" y="2636640"/>
              <a:ext cx="0" cy="29718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0000" y="2865600"/>
              <a:ext cx="537192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339640" y="2865600"/>
              <a:ext cx="1028520" cy="2743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0" y="2865600"/>
              <a:ext cx="1257120" cy="10285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7520" y="3894120"/>
              <a:ext cx="571320" cy="1142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69200" y="5037120"/>
              <a:ext cx="0" cy="571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68520" y="2865600"/>
              <a:ext cx="2171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348000" y="2852640"/>
            <a:ext cx="0" cy="2664000"/>
          </a:xfrm>
          <a:prstGeom prst="line">
            <a:avLst/>
          </a:prstGeom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08720" y="2924280"/>
            <a:ext cx="0" cy="2736720"/>
          </a:xfrm>
          <a:prstGeom prst="line">
            <a:avLst/>
          </a:prstGeom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3860640"/>
            <a:ext cx="0" cy="1729080"/>
          </a:xfrm>
          <a:prstGeom prst="line">
            <a:avLst/>
          </a:prstGeom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263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max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   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7164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  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  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23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472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  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39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45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92360" y="3213000"/>
            <a:ext cx="180036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Times New Roman Cyr"/>
              </a:rPr>
              <a:t>19</a:t>
            </a:r>
            <a:endParaRPr b="0" lang="en-US" sz="7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Times New Roman Cyr"/>
              </a:rPr>
              <a:t>минут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имерная схема самоанализа урока учител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Дать характеристику класс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578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Указать тему урока, охарактеризовать ее положение в общей системе других уроков и тем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78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578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Указать степень сложности изучаемой темы и ее трудности для данного класс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77240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Указать степень сложности изучаемой темы и ее трудности для данного класс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Высказать свое мнение о типе урока и его соответствие дидактической цели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Определить этапы урока и показать решение на каждом этапе его дидактической задачи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77240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7. 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Кратко охарактеризовать использованные в начале урока методы обучения, их соответствие изучаемому материалу и способам организации деятельности учащихся, сопоставив это с полученными результатами - качеством знаний учащихся.</a:t>
            </a:r>
            <a:endParaRPr b="0" lang="en-US" sz="3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8.</a:t>
            </a:r>
            <a:r>
              <a:rPr b="0" lang="en-US" sz="2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Выделить наиболее удачные и неудачные места в уроке.</a:t>
            </a:r>
            <a:endParaRPr b="0" lang="en-US" sz="3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9.</a:t>
            </a:r>
            <a:r>
              <a:rPr b="0" lang="en-US" sz="2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ahoma"/>
              </a:rPr>
              <a:t>Общий вывод и оценка его.</a:t>
            </a:r>
            <a:endParaRPr b="0" lang="en-US" sz="3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84360" y="5157720"/>
            <a:ext cx="4967280" cy="876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11280" y="682920"/>
            <a:ext cx="79930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imes New Roman Cyr"/>
              </a:rPr>
              <a:t>«Если бы в кабинете у врача, юриста или дантиста одновременно собрались 40 человек с разными желаниями и потребностями, а некоторые, не имея желания там находиться, постоянно мешали бы ему работать, а врач, юрист или дантист (без ассистента), должен был бы в течение 9 месяцев, применяя все свое мастерство, добиться высоких профессиональных результатов, вот тогда, возможно, он бы получил некоторое представление о работе школьного учителя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imes New Roman Cyr"/>
              </a:rPr>
              <a:t>(Дональд Д. Куинн)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4494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333360"/>
            <a:ext cx="762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Times New Roman"/>
              </a:rPr>
              <a:t>1. Начало подготовки к уроку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052640"/>
            <a:ext cx="82296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- Чётко определить для себя и сформулировать его тему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133720"/>
            <a:ext cx="75438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- Определить место темы в учебном курсе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2565360"/>
            <a:ext cx="7772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- Определить ведущие понятия, на которые     опирается данный урок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238560"/>
            <a:ext cx="8066160" cy="36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Обозначить для себя ту часть учебного материала, которая будет использована в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дальнейшем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- Продумать оборудование урока, использование наглядных пособий, дидактического материала на всех этапах урока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900000" y="2057400"/>
            <a:ext cx="79200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ние групп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f8f8"/>
                </a:solidFill>
                <a:latin typeface="Times New Roman"/>
              </a:rPr>
              <a:t>Начните урок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ачало уро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14520" y="170028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Доброжелательный настрой учителя и уч-ся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425680"/>
            <a:ext cx="8209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Добрый день, друзья! Я рада вас видеть, и очень хочу начать работу с вами! (Хорошего вам настроения!)”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Рапортичка (определение отсутствующих)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ветствие учеников, которые после долгого отсутствия появились в классе.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 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762120" y="228600"/>
            <a:ext cx="8394480" cy="6642000"/>
            <a:chOff x="762120" y="228600"/>
            <a:chExt cx="8394480" cy="66420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7118280" y="1143000"/>
              <a:ext cx="203832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1314360" y="4419720"/>
              <a:ext cx="1622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762120" y="2133720"/>
              <a:ext cx="12477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6748560" y="4267080"/>
              <a:ext cx="171900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3986280" y="228600"/>
              <a:ext cx="21304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1866960" y="380880"/>
              <a:ext cx="1386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3801960" y="5029200"/>
              <a:ext cx="21290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900000" y="2057400"/>
            <a:ext cx="79200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ние групп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imes New Roman"/>
              </a:rPr>
              <a:t>Как проверить домашнее задание?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Проверка домашнего задания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1. Тестовые задания (задания закрытой и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открытой форм, задания на соответствие и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установление правильной последовательности)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2. Выполнение уч-ся заданий, подобных домашним упражнениям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3. Постановка дополнительных  вопросов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4. Проверка д/з под копирку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5. Обращение к уч-ся с просьбой продолжить ответ ученика, который отвечает у доски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6. Вызов к доске нескольких уч-ся по составлению планов своего ответа и опрос по отдельным пунктам плана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7. Разноуровневые самост. работы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8. Метод обучения с опорой на ошибки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35:09Z</dcterms:created>
  <dc:creator>Дима</dc:creator>
  <dc:description/>
  <dc:language>en-US</dc:language>
  <cp:lastModifiedBy>User</cp:lastModifiedBy>
  <dcterms:modified xsi:type="dcterms:W3CDTF">2009-11-05T00:52:42Z</dcterms:modified>
  <cp:revision>28</cp:revision>
  <dc:subject/>
  <dc:title>Современный урок</dc:title>
</cp:coreProperties>
</file>