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DE51-C87F-44DF-944F-4374A8E30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EDA9-51A1-4BDC-8641-EFCA92D15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1B80-E8CD-4369-9BCC-FA52D8F90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B220-BD6C-4F36-8856-FAC941BCA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918F-14E6-4DD7-B791-29D59187E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BFCF-0EBC-4EC8-B06F-3D1B9D824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9718-C6A0-4168-8D1D-90A174B2A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5631-1CE4-4C7A-87E8-11AF142D2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FEB6-F8A5-4646-8047-2A79F97E8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9BF9-E9FB-49CA-B5AE-8A5FB1D89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FBC2-6C04-4513-8E93-EF3E8755B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B6F7-64C8-4380-B7D8-E34D8979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07335-5A78-4776-8C44-4470A33922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628640"/>
            <a:ext cx="7772400" cy="24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Русский язык</a:t>
            </a:r>
            <a:br>
              <a:rPr sz="4000"/>
            </a:b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Безударные гласные</a:t>
            </a:r>
            <a:br>
              <a:rPr sz="4000"/>
            </a:b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(тренажёр)</a:t>
            </a:r>
            <a:br>
              <a:rPr sz="3200"/>
            </a:b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2 класс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4581360"/>
            <a:ext cx="64008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Шелестюк С.Г.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учитель начальных классов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МБОУ СОШ № 80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г. Владивостока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2011 год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Задание 1: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Из текста  выписать  слова  с  безударными гласными, написать к ним проверочные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пт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е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нцы – пт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е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нчик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51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Пт_нцы   с_дят   в   гн_зде.  Они п_щат.    М_лыши   х_тят   есть. Мама   л_тит   к  ним.  Она   н_сёт   ч_рвячка.   Пт_чка   сп_шит  нак_рмить  св_их   д_тей.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Проверка: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400" y="1916280"/>
            <a:ext cx="82296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Пт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нцы   с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дят   в   гн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зде.  Они п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щат.    М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лыши   х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тят   есть. Мама   л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тит   к  ним.  Она   н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сёт   ч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рвячка.   Пт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чка   сп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шит  нак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рмить  св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их   д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тей.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адание 2: записать  слова  с  безударными гласными, написать к ним проверочны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4360" y="1817280"/>
            <a:ext cx="3643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г_лодный -...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гр_бной -…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б_льчата -…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л_сать -…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р_звиться -…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ул_тают -…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р_жит -…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5520" y="1557000"/>
            <a:ext cx="40384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с_нью -…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кр_снеет -…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_нёк -…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_нёк -…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_кно -…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тр_на -…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п_шишь -…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259920"/>
            <a:ext cx="475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Проверка: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11280" y="980640"/>
            <a:ext cx="395928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о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лодный -г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о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лод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гр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и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бной –гр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и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б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е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льчата - б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е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лка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пл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я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сать - пл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я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ска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е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звиться - р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е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звый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ул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е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тают - пол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ё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р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о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жит - др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о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жь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980640"/>
            <a:ext cx="449568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ос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е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ью - ос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е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ний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кр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а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снеет - кр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а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сный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е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ёк - д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е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ь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е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ёк - п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е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ь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о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кно - 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о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кна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стр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а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а - стр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а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ы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сп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е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шишь - сп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е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шка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186920" y="981000"/>
            <a:ext cx="7164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916360" y="1052640"/>
            <a:ext cx="712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1547280" y="1628640"/>
            <a:ext cx="7164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1618920" y="213372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987280" y="2133720"/>
            <a:ext cx="7308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1402920" y="270828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916000" y="2708280"/>
            <a:ext cx="1429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1402920" y="328464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131640" y="3357720"/>
            <a:ext cx="7164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899640" y="3860640"/>
            <a:ext cx="716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476360" y="4508640"/>
            <a:ext cx="7128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4932360" y="1052640"/>
            <a:ext cx="712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7308360" y="1052640"/>
            <a:ext cx="7164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6084360" y="155736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51640" y="1557360"/>
            <a:ext cx="1447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5579640" y="3284640"/>
            <a:ext cx="716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27280" y="3213000"/>
            <a:ext cx="730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6012000" y="3933720"/>
            <a:ext cx="727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7308360" y="3933720"/>
            <a:ext cx="7164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5940000" y="4508640"/>
            <a:ext cx="7164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7596360" y="443700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1125000"/>
            <a:ext cx="72709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Молодцы!</a:t>
            </a:r>
            <a:endParaRPr b="0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4T08:31:35Z</dcterms:created>
  <dc:creator>Света</dc:creator>
  <dc:description/>
  <dc:language>en-US</dc:language>
  <cp:lastModifiedBy>Света</cp:lastModifiedBy>
  <dcterms:modified xsi:type="dcterms:W3CDTF">2012-01-06T06:51:21Z</dcterms:modified>
  <cp:revision>4</cp:revision>
  <dc:subject/>
  <dc:title>Русский язык Безударные гласные</dc:title>
</cp:coreProperties>
</file>