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263-A8B9-4193-9C8B-9EA3AB53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073-D575-4C89-A36E-C04F732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206-AC2A-4B55-8040-123AE5E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F2B-D5B8-482E-BD6B-8F67E561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C63-DBD8-4805-A90C-B37E1CE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AC0-ED61-4E32-89D7-BD50769F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F5C-0867-46B6-8397-860E3ED0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911-A69E-43A4-AADA-BAA0D26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59D-F775-49B9-A9CB-3F83224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1A1-F1BF-46AF-B66E-491E86D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ED9-F5FB-4F51-8BE1-DF80FAA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DD2-B276-4396-966B-5EB50E0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C20-4D21-443C-8727-18F3D1DC1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aceni.ru/uploads/posts/2009-03/1236292444_verto_03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-152280" y="152280"/>
            <a:ext cx="9289800" cy="2011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Вертолет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2214720"/>
            <a:ext cx="3524040" cy="2639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4"/>
          <a:stretch/>
        </p:blipFill>
        <p:spPr>
          <a:xfrm>
            <a:off x="512640" y="5010120"/>
            <a:ext cx="7278840" cy="884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857920" y="2858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429240" y="107172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авая круглая скобка 7"/>
          <p:cNvSpPr/>
          <p:nvPr/>
        </p:nvSpPr>
        <p:spPr>
          <a:xfrm rot="16200000">
            <a:off x="6250680" y="-106920"/>
            <a:ext cx="142560" cy="1500120"/>
          </a:xfrm>
          <a:custGeom>
            <a:avLst/>
            <a:gdLst>
              <a:gd name="textAreaLeft" fmla="*/ 0 w 142560"/>
              <a:gd name="textAreaRight" fmla="*/ 100080 w 142560"/>
              <a:gd name="textAreaTop" fmla="*/ 53280 h 1500120"/>
              <a:gd name="textAreaBottom" fmla="*/ 14468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72"/>
                  <a:pt x="21600" y="1543"/>
                </a:cubicBezTo>
                <a:lnTo>
                  <a:pt x="21600" y="20057"/>
                </a:lnTo>
                <a:cubicBezTo>
                  <a:pt x="21600" y="20829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авая круглая скобка 8"/>
          <p:cNvSpPr/>
          <p:nvPr/>
        </p:nvSpPr>
        <p:spPr>
          <a:xfrm rot="16200000">
            <a:off x="6393600" y="678240"/>
            <a:ext cx="142920" cy="1500120"/>
          </a:xfrm>
          <a:custGeom>
            <a:avLst/>
            <a:gdLst>
              <a:gd name="textAreaLeft" fmla="*/ 0 w 142920"/>
              <a:gd name="textAreaRight" fmla="*/ 100440 w 142920"/>
              <a:gd name="textAreaTop" fmla="*/ 53280 h 1500120"/>
              <a:gd name="textAreaBottom" fmla="*/ 14468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72"/>
                  <a:pt x="21600" y="1543"/>
                </a:cubicBezTo>
                <a:lnTo>
                  <a:pt x="21600" y="20057"/>
                </a:lnTo>
                <a:cubicBezTo>
                  <a:pt x="21600" y="20829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1511280"/>
            <a:ext cx="857700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ень  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корень.jpg"/>
          <p:cNvPicPr/>
          <p:nvPr/>
        </p:nvPicPr>
        <p:blipFill>
          <a:blip r:embed="rId1"/>
          <a:srcRect l="17646" t="664" r="0" b="3207"/>
          <a:stretch/>
        </p:blipFill>
        <p:spPr>
          <a:xfrm>
            <a:off x="1928880" y="1096920"/>
            <a:ext cx="5429160" cy="543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3780000" y="4711680"/>
            <a:ext cx="195552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3"/>
          <a:stretch/>
        </p:blipFill>
        <p:spPr>
          <a:xfrm>
            <a:off x="3852720" y="1127160"/>
            <a:ext cx="258444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4"/>
          <a:stretch/>
        </p:blipFill>
        <p:spPr>
          <a:xfrm>
            <a:off x="2419200" y="1695600"/>
            <a:ext cx="1835280" cy="6206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5"/>
          <a:stretch/>
        </p:blipFill>
        <p:spPr>
          <a:xfrm>
            <a:off x="2494080" y="3054240"/>
            <a:ext cx="140148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6"/>
          <a:stretch/>
        </p:blipFill>
        <p:spPr>
          <a:xfrm>
            <a:off x="4968720" y="2914560"/>
            <a:ext cx="1792440" cy="61452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12"/>
          <p:cNvCxnSpPr/>
          <p:nvPr/>
        </p:nvCxnSpPr>
        <p:spPr>
          <a:xfrm flipV="1">
            <a:off x="5142600" y="3428280"/>
            <a:ext cx="64332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5"/>
          <p:cNvCxnSpPr/>
          <p:nvPr/>
        </p:nvCxnSpPr>
        <p:spPr>
          <a:xfrm flipH="1" flipV="1">
            <a:off x="3285720" y="3642840"/>
            <a:ext cx="1000800" cy="157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7"/>
          <p:cNvCxnSpPr/>
          <p:nvPr/>
        </p:nvCxnSpPr>
        <p:spPr>
          <a:xfrm flipH="1" flipV="1">
            <a:off x="3857400" y="2214360"/>
            <a:ext cx="786240" cy="2929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>
            <a:endCxn id="52" idx="2"/>
          </p:cNvCxnSpPr>
          <p:nvPr/>
        </p:nvCxnSpPr>
        <p:spPr>
          <a:xfrm flipV="1">
            <a:off x="4857840" y="1738080"/>
            <a:ext cx="286560" cy="3334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Подум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________ - пл . ща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________ - м . слё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________ - ств . 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________ - ст . 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________ - ч . рвя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 - б . 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 - цв . 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 - л . с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 - кр . льч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 - стр .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00040" y="214308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ощад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714920" y="20718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р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42960" y="271476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с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785880" y="321480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14240" y="3786120"/>
            <a:ext cx="121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785880" y="435780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рв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143680" y="2571840"/>
            <a:ext cx="92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072040" y="3143160"/>
            <a:ext cx="9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4786200" y="35719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ол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4786200" y="414324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2714760" y="2143080"/>
            <a:ext cx="4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2571840" y="3786120"/>
            <a:ext cx="4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00200" y="435780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715080" y="207180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858000" y="257184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6715080" y="314316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6858000" y="364320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7000920" y="414324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2786040" y="321480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2571840" y="2714760"/>
            <a:ext cx="4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25" descr=""/>
          <p:cNvPicPr/>
          <p:nvPr/>
        </p:nvPicPr>
        <p:blipFill>
          <a:blip r:embed="rId1"/>
          <a:stretch/>
        </p:blipFill>
        <p:spPr>
          <a:xfrm>
            <a:off x="2408400" y="5016600"/>
            <a:ext cx="4125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ик стр.72, упр.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9288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о утром Саша и Алёша отправились на рыбалку   они рыбачили н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рек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ре богатым оказал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мелкие рыбёшки пошли на уху   вкусна уха из свежей ры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214720" y="24289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28920" y="2428920"/>
            <a:ext cx="357120" cy="5965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42960" y="2928960"/>
            <a:ext cx="35712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857840" y="2928960"/>
            <a:ext cx="42840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643280" y="292896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7429680" y="24289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000240" y="33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214800" y="3357720"/>
            <a:ext cx="357120" cy="5965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15200" y="33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авая круглая скобка 12"/>
          <p:cNvSpPr/>
          <p:nvPr/>
        </p:nvSpPr>
        <p:spPr>
          <a:xfrm rot="16200000">
            <a:off x="1077840" y="2208240"/>
            <a:ext cx="201600" cy="642960"/>
          </a:xfrm>
          <a:custGeom>
            <a:avLst/>
            <a:gdLst>
              <a:gd name="textAreaLeft" fmla="*/ 0 w 201600"/>
              <a:gd name="textAreaRight" fmla="*/ 141480 w 201600"/>
              <a:gd name="textAreaTop" fmla="*/ 155880 h 642960"/>
              <a:gd name="textAreaBottom" fmla="*/ 48708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40"/>
                  <a:pt x="21600" y="10479"/>
                </a:cubicBezTo>
                <a:lnTo>
                  <a:pt x="21600" y="11121"/>
                </a:lnTo>
                <a:cubicBezTo>
                  <a:pt x="21600" y="16361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ая круглая скобка 13"/>
          <p:cNvSpPr/>
          <p:nvPr/>
        </p:nvSpPr>
        <p:spPr>
          <a:xfrm rot="16200000">
            <a:off x="3500280" y="2285640"/>
            <a:ext cx="201600" cy="630360"/>
          </a:xfrm>
          <a:custGeom>
            <a:avLst/>
            <a:gdLst>
              <a:gd name="textAreaLeft" fmla="*/ 0 w 201600"/>
              <a:gd name="textAreaRight" fmla="*/ 141480 w 201600"/>
              <a:gd name="textAreaTop" fmla="*/ 155880 h 630360"/>
              <a:gd name="textAreaBottom" fmla="*/ 47448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45"/>
                  <a:pt x="21600" y="10690"/>
                </a:cubicBezTo>
                <a:lnTo>
                  <a:pt x="21600" y="10910"/>
                </a:lnTo>
                <a:cubicBezTo>
                  <a:pt x="21600" y="1625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авая круглая скобка 14"/>
          <p:cNvSpPr/>
          <p:nvPr/>
        </p:nvSpPr>
        <p:spPr>
          <a:xfrm rot="16200000">
            <a:off x="6715080" y="2714760"/>
            <a:ext cx="201600" cy="630000"/>
          </a:xfrm>
          <a:custGeom>
            <a:avLst/>
            <a:gdLst>
              <a:gd name="textAreaLeft" fmla="*/ 0 w 201600"/>
              <a:gd name="textAreaRight" fmla="*/ 141480 w 201600"/>
              <a:gd name="textAreaTop" fmla="*/ 155880 h 630000"/>
              <a:gd name="textAreaBottom" fmla="*/ 47412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45"/>
                  <a:pt x="21600" y="10690"/>
                </a:cubicBezTo>
                <a:lnTo>
                  <a:pt x="21600" y="10910"/>
                </a:lnTo>
                <a:cubicBezTo>
                  <a:pt x="21600" y="1625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авая круглая скобка 15"/>
          <p:cNvSpPr/>
          <p:nvPr/>
        </p:nvSpPr>
        <p:spPr>
          <a:xfrm rot="16200000">
            <a:off x="7286400" y="3214440"/>
            <a:ext cx="201600" cy="630360"/>
          </a:xfrm>
          <a:custGeom>
            <a:avLst/>
            <a:gdLst>
              <a:gd name="textAreaLeft" fmla="*/ 0 w 201600"/>
              <a:gd name="textAreaRight" fmla="*/ 141480 w 201600"/>
              <a:gd name="textAreaTop" fmla="*/ 155880 h 630360"/>
              <a:gd name="textAreaBottom" fmla="*/ 47448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45"/>
                  <a:pt x="21600" y="10690"/>
                </a:cubicBezTo>
                <a:lnTo>
                  <a:pt x="21600" y="10910"/>
                </a:lnTo>
                <a:cubicBezTo>
                  <a:pt x="21600" y="1625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руппа – стр.73, упр.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ится, труд, трудов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группа – стр. 74, упр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ство, богатый, разбога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группа – стр. 74, упр.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т, светить, светл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, цветёт, разноцвет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143080" y="2214720"/>
            <a:ext cx="4786200" cy="642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928880" y="4643280"/>
            <a:ext cx="5500800" cy="11912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14680" y="3286080"/>
            <a:ext cx="5715000" cy="642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75, упр.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9:13:00Z</dcterms:created>
  <dc:creator>Максим</dc:creator>
  <dc:description/>
  <dc:language>en-US</dc:language>
  <cp:lastModifiedBy>Максим</cp:lastModifiedBy>
  <dcterms:modified xsi:type="dcterms:W3CDTF">2010-03-15T05:46:05Z</dcterms:modified>
  <cp:revision>8</cp:revision>
  <dc:subject/>
  <dc:title>Слайд 1</dc:title>
</cp:coreProperties>
</file>