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6AA3-2381-4254-BDDF-B2DB29906A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436-3E84-479B-95CC-056374CB24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991-F93F-4689-9B9A-B2963218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C25-F7A4-4C7B-B9C2-E0A41C2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044-E0F5-439B-A2D8-850DC1AF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AD8-F40B-48EF-8125-1EC79284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89683-832C-4EFD-B151-A9BB901B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35EF-155E-4A1B-854E-51D798A8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9C3C8-360E-4205-B964-2475F8B9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8164D-1FD3-41A1-9224-E5B4A869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B3DD3-70D2-42D1-A5D0-432816F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1F34-5952-4EB4-B582-7B3B9A25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869F-96F2-47A7-B631-995835F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313-F4C7-420B-8433-0012A11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8A39E-D92B-429A-804F-F3897F07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2557-087A-4582-95C0-1CB6E48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46729-7D57-4EE6-9ED0-F2384BEE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064CB-9847-4B42-9832-1D88E6C9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B433A-855C-448E-AC3F-C8B3AA59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9BEB-0EB0-4168-91FA-4C04E9A9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1958-CD4A-4A6F-8195-F51B72DF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EC1D-4F9A-4480-B4FB-BA32E116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EE8D-5530-40B8-AD22-0704D7EB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CEC7-66DA-496C-A4FE-8692651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5F0-7ED8-4BCB-99B9-C0D7145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39E0-849E-4E89-BB1B-A0D89647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938A-125F-4F90-8229-E7A84D5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C2C5-2A14-489A-B8B6-889E16E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AE1A-FD83-4F20-A61D-D13DD252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9C13-D049-490C-838B-F1E6728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8204-9CB5-4F37-BB80-3EF577F5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B08D-D91F-4FC3-98D9-F1F40DB4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0F950-D01A-4A0C-B0F8-B033E886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CB4CA-277D-4AB1-A9CE-25B1CE9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46E97-4271-428E-A087-714B9A1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59D-3538-4474-8CAF-C973CF59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93899-803C-4D4F-855C-2D1BDD5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12AB9-3919-432E-9E0F-C35375C2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9D9CA-5391-423F-83E7-55748A7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8993E-F094-47A4-98D0-FB3285F1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4EA65-ACCB-4A07-AF55-6ACDAAB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0F01A-A20E-4EF4-80BD-419965E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EA6D0-0E74-4D04-A6B7-D4309E7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0CC2A-9BA3-4AE9-8AB2-369DE40C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2D1FF-57F9-4762-9E94-63E16695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2A3-E6F1-4514-93AF-332182A5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2C2-5F6C-49CE-8447-8683A293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E31-35EF-46DA-90F4-7E47D5D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8C1-DD34-42EF-80AC-576C2A0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094-A587-49B7-BA68-ECAC04F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e69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ca97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B1DA-9121-42DD-9B91-14B2DA3770A4}" type="slidenum">
              <a:rPr b="0" lang="ru-RU" sz="16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fe69d"/>
          </a:solidFill>
          <a:ln w="38160">
            <a:solidFill>
              <a:srgbClr val="ffe69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e69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ca97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7014-2EB2-41B8-B084-20952160EE74}" type="slidenum">
              <a:rPr b="0" lang="ru-RU" sz="16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e69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ca97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6930-5103-4361-9E2E-FE0C7DE9B437}" type="slidenum">
              <a:rPr b="0" lang="ru-RU" sz="16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e69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ca97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1ca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d96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965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d965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3FF-969C-47ED-8D83-A4469B67C709}" type="slidenum">
              <a:rPr b="0" lang="ru-RU" sz="16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bse/jpg/0206906337.jpg" TargetMode="External"/><Relationship Id="rId2" Type="http://schemas.openxmlformats.org/officeDocument/2006/relationships/hyperlink" Target="http://s08.radikal.ru/i181/1106/71/3396b5f0723f.jpg" TargetMode="External"/><Relationship Id="rId3" Type="http://schemas.openxmlformats.org/officeDocument/2006/relationships/hyperlink" Target="http://s56.radikal.ru/i153/0811/04/0ae11937838b.jpg" TargetMode="External"/><Relationship Id="rId4" Type="http://schemas.openxmlformats.org/officeDocument/2006/relationships/hyperlink" Target="http://img0.liveinternet.ru/images/attach/c/0/30/807/30807028_1219064908_anc56.jpg" TargetMode="External"/><Relationship Id="rId5" Type="http://schemas.openxmlformats.org/officeDocument/2006/relationships/hyperlink" Target="http://i049.radikal.ru/1003/75/7ba878ef820d.jpg" TargetMode="External"/><Relationship Id="rId6" Type="http://schemas.openxmlformats.org/officeDocument/2006/relationships/hyperlink" Target="http://s44.radikal.ru/i105/1101/ae/09c74ec4eb4e.jpg" TargetMode="External"/><Relationship Id="rId7" Type="http://schemas.openxmlformats.org/officeDocument/2006/relationships/hyperlink" Target="http://s54.radikal.ru/i144/1102/55/ecd99f41c6a6.jpg" TargetMode="External"/><Relationship Id="rId8" Type="http://schemas.openxmlformats.org/officeDocument/2006/relationships/hyperlink" Target="http://img1.liveinternet.ru/images/foto/b/3/apps/0/773/773311_1_5b.jpg" TargetMode="External"/><Relationship Id="rId9" Type="http://schemas.openxmlformats.org/officeDocument/2006/relationships/hyperlink" Target="http://s58.radikal.ru/i162/1102/66/761cff838382.jpg" TargetMode="External"/><Relationship Id="rId10" Type="http://schemas.openxmlformats.org/officeDocument/2006/relationships/hyperlink" Target="http://www.romanovrussia.com/etruscan_revival_bracelet.jpg" TargetMode="External"/><Relationship Id="rId11" Type="http://schemas.openxmlformats.org/officeDocument/2006/relationships/hyperlink" Target="http://antikspb.ru/wp-content/uploads/2011/02/51SPB380711.jpg" TargetMode="External"/><Relationship Id="rId12" Type="http://schemas.openxmlformats.org/officeDocument/2006/relationships/hyperlink" Target="http://tltgorod.ru/pics/&#1079;&#1086;&#1083;&#1086;&#1090;&#1099;&#1077;%20&#1091;&#1082;&#1088;&#1072;&#1096;&#1077;&#1085;&#1080;&#1103;_c910198.jpg" TargetMode="External"/><Relationship Id="rId13" Type="http://schemas.openxmlformats.org/officeDocument/2006/relationships/hyperlink" Target="http://i046.radikal.ru/0802/ec/a7ef0070ae39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szona.ru/uploads/posts/2009-04/1240457782_vyzhiganie_30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reading.org.ua/illustrations/1003/1003050-i_047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radikal.ru/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18/639/18639623_1203719392_11454606_22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xtrahome.pl/galerie/r/ramzes-ii-w-calej-okazal_103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08.radikal.ru/i181/1106/71/3396b5f0723f.jpg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s56.radikal.ru/i153/0811/04/0ae11937838b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antikspb.ru/wp-content/uploads/2011/02/51SPB380711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radikal.ru/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1249200" y="1938240"/>
            <a:ext cx="6718320" cy="2017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48556_-1961234630"/>
          <p:cNvPicPr/>
          <p:nvPr/>
        </p:nvPicPr>
        <p:blipFill>
          <a:blip r:embed="rId2"/>
          <a:stretch/>
        </p:blipFill>
        <p:spPr>
          <a:xfrm>
            <a:off x="250920" y="189000"/>
            <a:ext cx="1106280" cy="8636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79" name="Picture 5" descr="C:\Documents and Settings\Admin\Мои документы\лера\МОСКВА\ГОУ СОШ 367\ГИЛЬОШИРОВАНИЕ\программа для 367 школы\рабочий метериал по программе\Логотип.bmp"/>
          <p:cNvPicPr/>
          <p:nvPr/>
        </p:nvPicPr>
        <p:blipFill>
          <a:blip r:embed="rId3"/>
          <a:srcRect l="0" t="0" r="11242" b="0"/>
          <a:stretch/>
        </p:blipFill>
        <p:spPr>
          <a:xfrm>
            <a:off x="7867800" y="189000"/>
            <a:ext cx="1089000" cy="869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180" name="Прямоугольник 5"/>
          <p:cNvSpPr/>
          <p:nvPr/>
        </p:nvSpPr>
        <p:spPr>
          <a:xfrm>
            <a:off x="1476360" y="1746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партамента образования города Москвы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еленоградское окружное управление образования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У СОШ «Школа надомного обучения» №367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395280" y="499104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Franklin Gothic Book"/>
              </a:rPr>
              <a:t>Листвак Валерия Евгеньевна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Franklin Gothic Book"/>
              </a:rPr>
              <a:t>руководитель творческого объединения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Franklin Gothic Book"/>
              </a:rPr>
              <a:t>«Художественное гильоширование»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Franklin Gothic Book"/>
              </a:rPr>
              <a:t>Москва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Franklin Gothic Book"/>
              </a:rPr>
              <a:t>2011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1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041560" y="189000"/>
            <a:ext cx="51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Сегодня вы узнали, что…</a:t>
            </a:r>
            <a:endParaRPr b="0" lang="en-US" sz="2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19" name="Прямоугольник 14"/>
          <p:cNvSpPr/>
          <p:nvPr/>
        </p:nvSpPr>
        <p:spPr>
          <a:xfrm>
            <a:off x="555120" y="973080"/>
            <a:ext cx="564588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ественное гильоширование» появилось 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0" name="Прямоугольник 15"/>
          <p:cNvSpPr/>
          <p:nvPr/>
        </p:nvSpPr>
        <p:spPr>
          <a:xfrm>
            <a:off x="5238720" y="1380960"/>
            <a:ext cx="3103560" cy="39888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ХХ века в России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1" name="Прямоугольник 16"/>
          <p:cNvSpPr/>
          <p:nvPr/>
        </p:nvSpPr>
        <p:spPr>
          <a:xfrm>
            <a:off x="468720" y="2165400"/>
            <a:ext cx="598104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мето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ественное гильоширование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4966200" y="2565360"/>
            <a:ext cx="3373560" cy="39888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Петровна Котенкова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488880" y="4541760"/>
            <a:ext cx="659772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ке гильоширования можно выполнить  изделия: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4" name="Прямоугольник 19"/>
          <p:cNvSpPr/>
          <p:nvPr/>
        </p:nvSpPr>
        <p:spPr>
          <a:xfrm>
            <a:off x="592200" y="4941720"/>
            <a:ext cx="7750080" cy="70380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интерьера, аксессуары, сувениры и украшения, оформить кружевом или аппликацией скатерти, шторы и одежду .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488880" y="3529080"/>
            <a:ext cx="407844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рабочий инструмент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4530600" y="3529080"/>
            <a:ext cx="3797280" cy="39888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выжигания по дереву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1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041560" y="189000"/>
            <a:ext cx="51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А еще, что…</a:t>
            </a:r>
            <a:endParaRPr b="0" lang="en-US" sz="28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439200" y="973080"/>
            <a:ext cx="320436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браслеты делали 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3672000" y="973080"/>
            <a:ext cx="2340000" cy="39888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ивней мамонта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432000" y="1967040"/>
            <a:ext cx="377892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ину браслеты носили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4227840" y="1967040"/>
            <a:ext cx="3201120" cy="39888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стье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лечье,  ноге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428760" y="3908520"/>
            <a:ext cx="270324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ы делают из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132000" y="3908520"/>
            <a:ext cx="5432400" cy="70380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оценных металлов, пластика, кожи, ткани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422280" y="4941720"/>
            <a:ext cx="236520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леты бывают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2773440" y="4941720"/>
            <a:ext cx="5904000" cy="70380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кие, мягкие, узкие, широкие, в форме  цепочки, кольца, плетенные, шитые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422280" y="2924280"/>
            <a:ext cx="4654440" cy="398880"/>
          </a:xfrm>
          <a:prstGeom prst="rect">
            <a:avLst/>
          </a:prstGeom>
          <a:solidFill>
            <a:srgbClr val="fff2cb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в старину браслеты  называли…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5052960" y="2924280"/>
            <a:ext cx="1295280" cy="398880"/>
          </a:xfrm>
          <a:prstGeom prst="rect">
            <a:avLst/>
          </a:prstGeom>
          <a:solidFill>
            <a:srgbClr val="ffe79d"/>
          </a:solidFill>
          <a:ln w="9360">
            <a:solidFill>
              <a:srgbClr val="ffe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учами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1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2419560" y="2852640"/>
            <a:ext cx="4530240" cy="642600"/>
          </a:xfrm>
          <a:prstGeom prst="rect">
            <a:avLst/>
          </a:prstGeom>
          <a:solidFill>
            <a:srgbClr val="fff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работу!</a:t>
            </a:r>
            <a:endParaRPr b="0" lang="en-US" sz="36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67000" y="84240"/>
            <a:ext cx="7938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презентации использованы фотографии из личного архива и тематических сайтов интерн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та</a:t>
            </a:r>
            <a:endParaRPr b="0" lang="en-US" sz="16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сылки:</a:t>
            </a:r>
            <a:endParaRPr b="0" lang="en-US" sz="14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216000" y="712800"/>
            <a:ext cx="864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1"/>
              </a:rPr>
              <a:t>http://dic.academic.ru/pictures/bse/jpg/0206906337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2"/>
              </a:rPr>
              <a:t>http://s08.radikal.ru/i181/1106/71/3396b5f0723f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3"/>
              </a:rPr>
              <a:t>http://s56.radikal.ru/i153/0811/04/0ae11937838b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4"/>
              </a:rPr>
              <a:t>http://img0.liveinternet.ru/images/attach/c/0/30/807/30807028_1219064908_anc56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5"/>
              </a:rPr>
              <a:t>http://i049.radikal.ru/1003/75/7ba878ef820d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6"/>
              </a:rPr>
              <a:t>http://s44.radikal.ru/i105/1101/ae/09c74ec4eb4e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7"/>
              </a:rPr>
              <a:t>http://s54.radikal.ru/i144/1102/55/ecd99f41c6a6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8"/>
              </a:rPr>
              <a:t>http://img1.liveinternet.ru/images/foto/b/3/apps/0/773/773311_1_5b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9"/>
              </a:rPr>
              <a:t>http://s58.radikal.ru/i162/1102/66/761cff838382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10"/>
              </a:rPr>
              <a:t>http://www.romanovrussia.com/etruscan_revival_bracelet.jpg</a:t>
            </a:r>
            <a:r>
              <a:rPr b="0" lang="ru-RU" sz="1800" spc="-1" strike="noStrike">
                <a:solidFill>
                  <a:srgbClr val="ffd96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11"/>
              </a:rPr>
              <a:t>http://antikspb.ru/wp-content/uploads/2011/02/51SPB380711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12"/>
              </a:rPr>
              <a:t>http://tltgorod.ru/pics/золотые%20украшения_c910198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2a2ff"/>
                </a:solidFill>
                <a:uFillTx/>
                <a:latin typeface="Arial"/>
                <a:hlinkClick r:id="rId13"/>
              </a:rPr>
              <a:t>http://i046.radikal.ru/0802/ec/a7ef0070ae39.jpg</a:t>
            </a:r>
            <a:r>
              <a:rPr b="0" lang="ru-RU" sz="1800" spc="-1" strike="noStrike">
                <a:solidFill>
                  <a:srgbClr val="ffd96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965"/>
                </a:solidFill>
                <a:uFillTx/>
                <a:latin typeface="Arial"/>
              </a:rPr>
              <a:t>http://i.allday.ru/uploads/posts/2010-01/1264615996_14portret-neizvestnoj-damy-v-golubom-plate-i-s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965"/>
                </a:solidFill>
                <a:uFillTx/>
                <a:latin typeface="Arial"/>
              </a:rPr>
              <a:t>http://img-fotki.yandex.ru/get/2713/katish1812.18/0_23943_a539eb41_L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965"/>
                </a:solidFill>
                <a:uFillTx/>
                <a:latin typeface="Arial"/>
              </a:rPr>
              <a:t>http://www.3rm.info/uploads/posts/2011-01/1296376298_anast01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65"/>
                </a:solidFill>
                <a:latin typeface="Arial"/>
              </a:rPr>
              <a:t>http://apetrovich.ru/img/mify/i/isida1_569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65"/>
                </a:solidFill>
                <a:latin typeface="Arial"/>
              </a:rPr>
              <a:t>http://www.extrahome.pl/galerie/r/ramzes-ii-w-calej-okazal_103.jpg</a:t>
            </a: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и другие...</a:t>
            </a:r>
            <a:endParaRPr b="0" lang="en-US" sz="14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2481840" y="181080"/>
            <a:ext cx="40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ленькая история…</a:t>
            </a:r>
            <a:endParaRPr b="0" lang="en-US" sz="32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183" name="Picture 22" descr="Картинка 20 из 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465200"/>
            <a:ext cx="1682640" cy="2246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84" name="Picture 8" descr="Гильоширование -выжигание по ткани"/>
          <p:cNvPicPr/>
          <p:nvPr/>
        </p:nvPicPr>
        <p:blipFill>
          <a:blip r:embed="rId3"/>
          <a:stretch/>
        </p:blipFill>
        <p:spPr>
          <a:xfrm>
            <a:off x="2168640" y="1484280"/>
            <a:ext cx="2592360" cy="2246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185" name="Прямоугольник 4"/>
          <p:cNvSpPr/>
          <p:nvPr/>
        </p:nvSpPr>
        <p:spPr>
          <a:xfrm>
            <a:off x="341280" y="4005360"/>
            <a:ext cx="83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р метода  Котенкова Зинаида Петровна в 19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90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году  получила  авторское свидетельство  за разработку техники  выжигания по ткани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7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2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2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55280" y="3716280"/>
            <a:ext cx="7777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готовить предметы интерьера ( декоративные панно, шкатулки, рамки для фото…);</a:t>
            </a:r>
            <a:endParaRPr b="0" lang="en-US" sz="2400" spc="-1" strike="noStrike">
              <a:solidFill>
                <a:srgbClr val="ffd965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готовить аксессуары и украшения (сумочки, пояса, серьги, кулоны, броши, браслеты…);</a:t>
            </a:r>
            <a:endParaRPr b="0" lang="en-US" sz="2400" spc="-1" strike="noStrike">
              <a:solidFill>
                <a:srgbClr val="ffd965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формить кружевом, простой или многослойной аппликацией  скатерти, салфетки, шторы и одежду.</a:t>
            </a:r>
            <a:endParaRPr b="0" lang="en-US" sz="2400" spc="-1" strike="noStrike">
              <a:solidFill>
                <a:srgbClr val="ffd965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965"/>
              </a:solidFill>
              <a:latin typeface="Constantia"/>
            </a:endParaRPr>
          </a:p>
        </p:txBody>
      </p:sp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7157880" cy="1012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E:\Документы\Мои документы\лера\МОСКВА\ДЮЦ СЛЕДОПЫТ\Фото ДЮЦ\мои работы\SDC17840.JPG"/>
          <p:cNvPicPr/>
          <p:nvPr/>
        </p:nvPicPr>
        <p:blipFill>
          <a:blip r:embed="rId2"/>
          <a:srcRect l="4907" t="8528" r="7072" b="3672"/>
          <a:stretch/>
        </p:blipFill>
        <p:spPr>
          <a:xfrm>
            <a:off x="3203640" y="1295280"/>
            <a:ext cx="2536920" cy="18986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89" name="Picture 4" descr="E:\Документы\Мои документы\лера\МОСКВА\ДЮЦ СЛЕДОПЫТ\Фото ДЮЦ\мои работы\SDC14809.JPG"/>
          <p:cNvPicPr/>
          <p:nvPr/>
        </p:nvPicPr>
        <p:blipFill>
          <a:blip r:embed="rId3"/>
          <a:srcRect l="18262" t="0" r="18191" b="0"/>
          <a:stretch/>
        </p:blipFill>
        <p:spPr>
          <a:xfrm>
            <a:off x="468360" y="1287360"/>
            <a:ext cx="1608120" cy="18986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90" name="Picture 3" descr="C:\Documents and Settings\Admin\Мои документы\лера\МОСКВА\ДЮЦ СЛЕДОПЫТ\Фото ДЮЦ\мои работы\SDC17981.JPG"/>
          <p:cNvPicPr/>
          <p:nvPr/>
        </p:nvPicPr>
        <p:blipFill>
          <a:blip r:embed="rId4"/>
          <a:srcRect l="19102" t="19347" r="16664" b="20865"/>
          <a:stretch/>
        </p:blipFill>
        <p:spPr>
          <a:xfrm>
            <a:off x="7148520" y="1287360"/>
            <a:ext cx="1528920" cy="18986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1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1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1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0" descr="Картинка 569 из 3835">
            <a:hlinkClick r:id="rId1"/>
          </p:cNvPr>
          <p:cNvPicPr/>
          <p:nvPr/>
        </p:nvPicPr>
        <p:blipFill>
          <a:blip r:embed="rId2"/>
          <a:srcRect l="8176" t="8454" r="9846" b="9520"/>
          <a:stretch/>
        </p:blipFill>
        <p:spPr>
          <a:xfrm>
            <a:off x="3259080" y="1413000"/>
            <a:ext cx="3167280" cy="34686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192" name="Прямоугольник 3"/>
          <p:cNvSpPr/>
          <p:nvPr/>
        </p:nvSpPr>
        <p:spPr>
          <a:xfrm>
            <a:off x="3331800" y="404640"/>
            <a:ext cx="2666520" cy="642600"/>
          </a:xfrm>
          <a:prstGeom prst="rect">
            <a:avLst/>
          </a:prstGeom>
          <a:solidFill>
            <a:srgbClr val="ffe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Палеолит </a:t>
            </a:r>
            <a:endParaRPr b="0" lang="en-US" sz="36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193" name="Прямоугольник 4"/>
          <p:cNvSpPr/>
          <p:nvPr/>
        </p:nvSpPr>
        <p:spPr>
          <a:xfrm>
            <a:off x="3651120" y="404640"/>
            <a:ext cx="2048040" cy="642600"/>
          </a:xfrm>
          <a:prstGeom prst="rect">
            <a:avLst/>
          </a:prstGeom>
          <a:solidFill>
            <a:srgbClr val="ffe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Неолит </a:t>
            </a:r>
            <a:endParaRPr b="0" lang="en-US" sz="36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194" name="Picture 16" descr="Первобытные люди. Быт, религия, культура"/>
          <p:cNvPicPr/>
          <p:nvPr/>
        </p:nvPicPr>
        <p:blipFill>
          <a:blip r:embed="rId3"/>
          <a:srcRect l="23975" t="0" r="0" b="0"/>
          <a:stretch/>
        </p:blipFill>
        <p:spPr>
          <a:xfrm>
            <a:off x="3181320" y="1413000"/>
            <a:ext cx="3321000" cy="34686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195" name="Прямоугольник 7"/>
          <p:cNvSpPr/>
          <p:nvPr/>
        </p:nvSpPr>
        <p:spPr>
          <a:xfrm>
            <a:off x="3332160" y="404640"/>
            <a:ext cx="2881440" cy="1191240"/>
          </a:xfrm>
          <a:prstGeom prst="rect">
            <a:avLst/>
          </a:prstGeom>
          <a:solidFill>
            <a:srgbClr val="ffe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Бронзовый век </a:t>
            </a:r>
            <a:endParaRPr b="0" lang="en-US" sz="36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196" name="Picture 6" descr="http://s56.radikal.ru/i154/0906/4b/7a834361a3b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82760" y="1413000"/>
            <a:ext cx="3321360" cy="34686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197" name="Прямоугольник 11"/>
          <p:cNvSpPr/>
          <p:nvPr/>
        </p:nvSpPr>
        <p:spPr>
          <a:xfrm>
            <a:off x="492120" y="266760"/>
            <a:ext cx="8280360" cy="934920"/>
          </a:xfrm>
          <a:prstGeom prst="rect">
            <a:avLst/>
          </a:prstGeom>
          <a:solidFill>
            <a:srgbClr val="ffe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расле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франц. bracelet) -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крашение в виде кольца из разнообразных материалов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6"/>
          <a:stretch/>
        </p:blipFill>
        <p:spPr>
          <a:xfrm>
            <a:off x="2147760" y="1413000"/>
            <a:ext cx="5388120" cy="34686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2209320" y="40464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Браслеты   носили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…</a:t>
            </a:r>
            <a:endParaRPr b="0" lang="en-US" sz="28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200" name="Picture 6" descr="Картинка 5 из 16960">
            <a:hlinkClick r:id="rId1"/>
          </p:cNvPr>
          <p:cNvPicPr/>
          <p:nvPr/>
        </p:nvPicPr>
        <p:blipFill>
          <a:blip r:embed="rId2"/>
          <a:srcRect l="0" t="0" r="10171" b="0"/>
          <a:stretch/>
        </p:blipFill>
        <p:spPr>
          <a:xfrm>
            <a:off x="2960640" y="3645000"/>
            <a:ext cx="3222720" cy="27082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01" name="Picture 10" descr="Картинка 88 из 40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130480"/>
            <a:ext cx="1832040" cy="24415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02" name="Picture 4" descr="http://img0.liveinternet.ru/images/attach/c/0/30/807/30807028_1219064908_anc56.jpg"/>
          <p:cNvPicPr/>
          <p:nvPr/>
        </p:nvPicPr>
        <p:blipFill>
          <a:blip r:embed="rId5"/>
          <a:stretch/>
        </p:blipFill>
        <p:spPr>
          <a:xfrm>
            <a:off x="3173400" y="1268280"/>
            <a:ext cx="2798640" cy="20559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03" name="Picture 16" descr="знатные египтяне"/>
          <p:cNvPicPr/>
          <p:nvPr/>
        </p:nvPicPr>
        <p:blipFill>
          <a:blip r:embed="rId6"/>
          <a:stretch/>
        </p:blipFill>
        <p:spPr>
          <a:xfrm>
            <a:off x="655560" y="2098800"/>
            <a:ext cx="1727280" cy="2450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3" descr="Картинка 40 из 7135">
            <a:hlinkClick r:id="rId1"/>
          </p:cNvPr>
          <p:cNvPicPr/>
          <p:nvPr/>
        </p:nvPicPr>
        <p:blipFill>
          <a:blip r:embed="rId2"/>
          <a:srcRect l="0" t="10683" r="0" b="12202"/>
          <a:stretch/>
        </p:blipFill>
        <p:spPr>
          <a:xfrm>
            <a:off x="539640" y="1504800"/>
            <a:ext cx="2664000" cy="1838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Картинка 49 из 7272">
            <a:hlinkClick r:id="rId3"/>
          </p:cNvPr>
          <p:cNvPicPr/>
          <p:nvPr/>
        </p:nvPicPr>
        <p:blipFill>
          <a:blip r:embed="rId4"/>
          <a:srcRect l="10608" t="7727" r="6942" b="18747"/>
          <a:stretch/>
        </p:blipFill>
        <p:spPr>
          <a:xfrm>
            <a:off x="6012000" y="4221000"/>
            <a:ext cx="2654280" cy="18432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2"/>
          <p:cNvSpPr/>
          <p:nvPr/>
        </p:nvSpPr>
        <p:spPr>
          <a:xfrm>
            <a:off x="2703600" y="450720"/>
            <a:ext cx="41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Старинные  браслеты</a:t>
            </a:r>
            <a:endParaRPr b="0" lang="en-US" sz="36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207" name="Picture 2" descr="браслет &quot;жар-птица&quot;"/>
          <p:cNvPicPr/>
          <p:nvPr/>
        </p:nvPicPr>
        <p:blipFill>
          <a:blip r:embed="rId5"/>
          <a:stretch/>
        </p:blipFill>
        <p:spPr>
          <a:xfrm>
            <a:off x="3352680" y="2489040"/>
            <a:ext cx="2811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http://s54.radikal.ru/i144/1102/55/ecd99f41c6a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22120"/>
            <a:ext cx="6697800" cy="1671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"/>
          <p:cNvSpPr/>
          <p:nvPr/>
        </p:nvSpPr>
        <p:spPr>
          <a:xfrm>
            <a:off x="1763640" y="7318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Браслеты  династии  Романовых</a:t>
            </a:r>
            <a:endParaRPr b="0" lang="en-US" sz="32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210" name="Picture 2" descr="Картинка 9 из 673">
            <a:hlinkClick r:id="rId3"/>
          </p:cNvPr>
          <p:cNvPicPr/>
          <p:nvPr/>
        </p:nvPicPr>
        <p:blipFill>
          <a:blip r:embed="rId4"/>
          <a:srcRect l="3657" t="14364" r="5017" b="10842"/>
          <a:stretch/>
        </p:blipFill>
        <p:spPr>
          <a:xfrm>
            <a:off x="447840" y="2060640"/>
            <a:ext cx="4485960" cy="25923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11" name="Picture 6" descr="http://s58.radikal.ru/i162/1102/66/761cff83838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3860640"/>
            <a:ext cx="4486320" cy="2640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3394440" y="995400"/>
            <a:ext cx="5299920" cy="520560"/>
          </a:xfrm>
          <a:prstGeom prst="rect">
            <a:avLst/>
          </a:prstGeom>
          <a:solidFill>
            <a:srgbClr val="fff2c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ила техники безопасности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507960" y="2349360"/>
            <a:ext cx="8209080" cy="3649320"/>
          </a:xfrm>
          <a:prstGeom prst="rect">
            <a:avLst/>
          </a:prstGeom>
          <a:solidFill>
            <a:srgbClr val="fff2c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Включать аппарат, если он исправен, нет оголенных   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водов и сухие руки.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Не трогать иглу голыми руками при включенном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ппарате.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Класть ручку с иглой только на стекло или подставку;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едить, чтобы игла не касалась провода.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После работы  э/выжигатель  отключить, дать игле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тыть, сложить аппарат в коробку, убрать рабочее  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сто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214" name="Picture 9" descr="E:\Документы\Мои документы\лера\МОСКВА\ГОУ СОШ 367\ГИЛЬОШИРОВАНИЕ\идеи для выжигания\23613.jpg"/>
          <p:cNvPicPr/>
          <p:nvPr/>
        </p:nvPicPr>
        <p:blipFill>
          <a:blip r:embed="rId1"/>
          <a:srcRect l="0" t="15987" r="0" b="16413"/>
          <a:stretch/>
        </p:blipFill>
        <p:spPr>
          <a:xfrm>
            <a:off x="684360" y="503280"/>
            <a:ext cx="2377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2451600" y="301680"/>
            <a:ext cx="4278600" cy="459720"/>
          </a:xfrm>
          <a:prstGeom prst="rect">
            <a:avLst/>
          </a:prstGeom>
          <a:solidFill>
            <a:srgbClr val="fff2c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рядок выполнения работы</a:t>
            </a:r>
            <a:endParaRPr b="0" lang="en-US" sz="2400" spc="-1" strike="noStrike">
              <a:solidFill>
                <a:srgbClr val="ffd965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378000" y="888840"/>
            <a:ext cx="8426160" cy="3448080"/>
          </a:xfrm>
          <a:prstGeom prst="rect">
            <a:avLst/>
          </a:prstGeom>
          <a:solidFill>
            <a:srgbClr val="fff2c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Выбрать основу для изделия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Подобрать отделочные детали для оформления изделия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Разложить детали на основе изделия , закрепить  с помощью 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/выжигателя  точками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Ручку э/выжигателя необходимо держать строго  вертикально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Работа выполняется между указательным и   средним пальцем левой  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уки,  придерживающей  ткань на стекле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Все детали последовательно прижигаются  к основе методом  «сварки в     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чок»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 По желанию можно  декорировать изделие  росписью.</a:t>
            </a:r>
            <a:endParaRPr b="0" lang="en-US" sz="2000" spc="-1" strike="noStrike">
              <a:solidFill>
                <a:srgbClr val="ffd965"/>
              </a:solidFill>
              <a:latin typeface="Arial"/>
            </a:endParaRPr>
          </a:p>
        </p:txBody>
      </p:sp>
      <p:pic>
        <p:nvPicPr>
          <p:cNvPr id="217" name="Picture 7" descr="E:\Документы\Мои документы\лера\МОСКВА\ГОУ СОШ 367\ГИЛЬОШИРОВАНИЕ\фото\Петрова Женя\женя учится\SDC17011.JPG"/>
          <p:cNvPicPr/>
          <p:nvPr/>
        </p:nvPicPr>
        <p:blipFill>
          <a:blip r:embed="rId1"/>
          <a:srcRect l="0" t="49887" r="0" b="0"/>
          <a:stretch/>
        </p:blipFill>
        <p:spPr>
          <a:xfrm>
            <a:off x="3132000" y="4221000"/>
            <a:ext cx="3476880" cy="232272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07T15:51:20Z</dcterms:modified>
  <cp:revision>131</cp:revision>
  <dc:subject/>
  <dc:title>Hand-made:  Браслеты </dc:title>
</cp:coreProperties>
</file>