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6137-9CEE-4498-9C83-ED9B5BA7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CEC9-C253-4562-B767-71B4A00D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A3B7-EFAB-4387-89E7-FA03EBEE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EE16-A44F-45AB-A374-84ED3F50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38C5-CEA4-4DEB-B78F-6CC9F58E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30A6-CC6A-4F82-A92C-123664A9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4EDE-309D-44DC-A9F0-DF56FCF7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CC36-2266-4CBB-BACF-6D048D82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C64C-6755-4647-A153-47E967A6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5E59-C795-42CB-9F1B-7F2C61D7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5941-6CC3-4506-A6E8-E724EE5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DBB6-4B2A-4113-A4F1-CA08258E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DA4C-5F73-4434-BDDE-55CCFB2B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5FE8-30CB-4A53-86A6-61EC81C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F8C5-7027-49F2-B4D0-5FAAC981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4565-C93C-45BB-81B5-1A8D3360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EEB8-AEAF-481F-83C7-146F91A5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AE66-8ADE-4225-A445-A72A4FF8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AD4E-DFA4-4008-8833-F4C41FC2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5EDA-1F7F-427B-A1A3-98C74616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77B6-DB0E-4879-99D3-4B304981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5CDD-AAC1-449A-BA7A-BEDFD2F0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7F56-91F8-4D4F-BE09-8A2546B8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48CC-A7BF-45CA-BB73-EA52530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6FBA-1540-4BFE-86E3-6C23483DBA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119A-00BB-4189-8CB5-0C999EA565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896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en-US" sz="6600" spc="-1" strike="noStrike">
                <a:solidFill>
                  <a:srgbClr val="fdfd63"/>
                </a:solidFill>
                <a:latin typeface="Times New Roman"/>
              </a:rPr>
              <a:t>«Фигурное катание»</a:t>
            </a:r>
            <a:endParaRPr b="1" lang="en-US" sz="6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95640" y="4221000"/>
            <a:ext cx="5329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готовила Сарбитова 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еница 6 «Б» клас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БОУ «СОШ № 30» г. Старый Оскол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итель физической культу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рочкина Е.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2060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2160720" cy="2060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2060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73440" cy="2060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835280" y="4797360"/>
            <a:ext cx="1800000" cy="2060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0" y="4797360"/>
            <a:ext cx="1908000" cy="2060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5508720" y="0"/>
            <a:ext cx="17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fd63"/>
                </a:solidFill>
                <a:latin typeface="Garamond"/>
              </a:rPr>
              <a:t>Синхронное катание</a:t>
            </a:r>
            <a:endParaRPr b="1" lang="en-US" sz="4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501336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dfd63"/>
                </a:solidFill>
                <a:latin typeface="Garamond"/>
              </a:rPr>
              <a:t>Задача фигуристов –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цель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является выступ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манды как единого целог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197000"/>
            <a:ext cx="5616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чиная с 1983 г. в Кана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чали проводиться ежегод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мпионаты по синхрон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т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манда состоит из 16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гурис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24360" y="4076640"/>
            <a:ext cx="3419640" cy="2781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341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fd63"/>
                </a:solidFill>
                <a:latin typeface="Garamond"/>
              </a:rPr>
              <a:t>Фигурное катание в России</a:t>
            </a:r>
            <a:endParaRPr b="1" lang="en-US" sz="4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оссийские спортсмены не раз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ановились победителями и призера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стижных соревнований в этом виде спор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Содержимое 3" descr="15169_original.jpg"/>
          <p:cNvPicPr/>
          <p:nvPr/>
        </p:nvPicPr>
        <p:blipFill>
          <a:blip r:embed="rId1"/>
          <a:stretch/>
        </p:blipFill>
        <p:spPr>
          <a:xfrm>
            <a:off x="1116000" y="314172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1010a12e9ec0.jpg"/>
          <p:cNvPicPr/>
          <p:nvPr/>
        </p:nvPicPr>
        <p:blipFill>
          <a:blip r:embed="rId2"/>
          <a:stretch/>
        </p:blipFill>
        <p:spPr>
          <a:xfrm>
            <a:off x="4140360" y="3141720"/>
            <a:ext cx="4286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63"/>
                </a:solidFill>
                <a:latin typeface="Garamond"/>
              </a:rPr>
              <a:t>Фигурное катание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гурное катание — зимний вид спорта, в котором спортсмены перемещаются на коньках по льду с выполнением дополнительных элементов, чаще всего под музык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гурное катание включено в программу Зимних Олимпийских игр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63"/>
                </a:solidFill>
                <a:latin typeface="Garamond"/>
              </a:rPr>
              <a:t>Коньки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звание «коньки» возникло потому, что передняя часть деревянных «бегунков» обычно украшалась конской голово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вые экземпляры изготавливались из берцовых костей животных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арейшие коньки в мире были найдены более 5 тыс. лет назад в Швейцарии и были сделаны из плюсневой кости крупного рогатого скота. Коньки привязывались к обуви кожаными тесемк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4-15 веках появились деревянные коньки, подкованные узенькой стальной полоск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848 г. в Филадельфии были изобретены коньки, у которых лезвие крепилось к ботинкам при помощи стальных зажим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867 г. канадец Джон Форбс изобрел полностью стальное лезвие, деревянная платформа ушла в историю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84720" y="5734080"/>
            <a:ext cx="1582920" cy="1123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63"/>
                </a:solidFill>
                <a:latin typeface="Garamond"/>
              </a:rPr>
              <a:t>История фигурного катания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диной фигурного катания является Голланд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882 г. в Вене состоялось первое в Европе международное состязани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908 г. в Лондоне впервые фигуристы приняли участие в Олимпийских игр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вым олимпийским чемпионом России в 1908 г. стал именно фигурист Н.А. Панин-Коломенкин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484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8101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63"/>
                </a:solidFill>
                <a:latin typeface="Garamond"/>
              </a:rPr>
              <a:t>Виды фигурного катан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диночное катание (мужское и женско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арное ка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портивные танц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инхронное ка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63"/>
                </a:solidFill>
                <a:latin typeface="Garamond"/>
              </a:rPr>
              <a:t>Основные элементы </a:t>
            </a:r>
            <a:br>
              <a:rPr sz="4400"/>
            </a:br>
            <a:r>
              <a:rPr b="1" lang="en-US" sz="4400" spc="-1" strike="noStrike">
                <a:solidFill>
                  <a:srgbClr val="fdfd63"/>
                </a:solidFill>
                <a:latin typeface="Garamond"/>
              </a:rPr>
              <a:t>фигурного катания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аг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ира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ащения (стоя, в приседе, в полож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ласточка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ыжки (тулуп, сальхов, риттбергер, 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лип ,лутц, аксел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63"/>
                </a:solidFill>
                <a:latin typeface="Garamond"/>
              </a:rPr>
              <a:t>Одиночное катание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88000" y="907920"/>
            <a:ext cx="2556000" cy="2737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588000" y="3573360"/>
            <a:ext cx="2556000" cy="3284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67280" y="1125360"/>
            <a:ext cx="60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4221000"/>
            <a:ext cx="81010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dfd63"/>
                </a:solidFill>
                <a:latin typeface="Garamond"/>
              </a:rPr>
              <a:t>Задача фигурист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 показ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ладение всеми группами элемент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шагами, спиралями, вращениям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ыж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809640"/>
            <a:ext cx="81010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рвые соревнования по фигурном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танию проходили только среди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ужчин. Первый чемпион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ира среди женщин прошё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январе 1906 г. в Швейца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6409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fd63"/>
                </a:solidFill>
                <a:latin typeface="Garamond"/>
              </a:rPr>
              <a:t>Парное катание</a:t>
            </a:r>
            <a:endParaRPr b="1" lang="en-US" sz="48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419640" cy="2952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419640" cy="2924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4221000"/>
            <a:ext cx="81010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dfd63"/>
                </a:solidFill>
                <a:latin typeface="Garamond"/>
              </a:rPr>
              <a:t>Задача фигуристов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 показ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ладение элементами та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бы создать впечатл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единства действ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2349360"/>
            <a:ext cx="60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981000"/>
            <a:ext cx="81010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Международное первенс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по парному катанию впервы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было разыграно в 1908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в Санкт-Петербурге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победителями стали немецки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фигурис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309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fd63"/>
                </a:solidFill>
                <a:latin typeface="Garamond"/>
              </a:rPr>
              <a:t>Спортивные танцы</a:t>
            </a:r>
            <a:endParaRPr b="1" lang="en-US" sz="4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355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портивные танц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родились в Англ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1952 г. и были включен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программу чемпиона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ира и Европ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59640" y="3833640"/>
            <a:ext cx="2484360" cy="3024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724360" y="981000"/>
            <a:ext cx="3419640" cy="3057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4437000"/>
            <a:ext cx="81010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dfd63"/>
                </a:solidFill>
                <a:latin typeface="Garamond"/>
              </a:rPr>
              <a:t>Задача фигуристов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 показ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вместное испол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анцевальных ш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6:34:17Z</dcterms:created>
  <dc:creator>Admin</dc:creator>
  <dc:description/>
  <dc:language>en-US</dc:language>
  <cp:lastModifiedBy>Admin</cp:lastModifiedBy>
  <dcterms:modified xsi:type="dcterms:W3CDTF">2012-01-07T07:57:18Z</dcterms:modified>
  <cp:revision>15</cp:revision>
  <dc:subject/>
  <dc:title>Фигурное катание</dc:title>
</cp:coreProperties>
</file>