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FF5-C889-4FC3-87FB-A457DAD8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F71-D145-41F5-952C-90E1CCE3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5F9-2419-4D3D-8BBF-E704D5EE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E72-FA64-4CFB-9A0B-49181E8D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6A1F-1583-4B31-8E42-4876F324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43C7-6B95-4877-B7EC-80C742BF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6F82-4C08-4326-B23C-9F2E35D1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0F06-B837-4601-AC90-38BD6ADB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C790-1B27-4232-AD8A-2A6EFDBD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D97B-7BCF-4220-B27E-C9A6433A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DF30-F23E-4399-AA39-B6F324AD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F34-95A4-4057-93E2-A2CCDDEC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8261-D4CC-4F0B-83B3-B8C3795D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3FBB-2DE9-407A-AF29-5064AA3B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FC40-0FEB-4DD7-BABD-00E2C2D0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B0C4-15BB-41D8-8553-6988AB49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FF8E-A22C-4F19-8DD3-4E4D58AC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83F-A5D2-4797-95D1-623EC24C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063-F2A7-49DE-8031-00549D3B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C87-3432-4110-80DA-A2276366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EA9-5395-44AF-8B4E-54CDE3F0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06E-D76E-49FE-8755-1BB1ED0D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1E3-7711-493F-812E-EECEDF5F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DF6-149B-4738-AA9A-3DC03B2E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47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чумова Римма Геннадьевна «Дом в романе М.Булгакова «Мастер и Маргари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90EE-FDE7-41F9-BBD4-3F993A3D8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47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чумова Римма Геннадьевна «Дом в романе М.Булгакова «Мастер и Маргари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1356-7E7B-48B0-A741-93D7E0A9B4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булгаков-6"/>
          <p:cNvPicPr/>
          <p:nvPr/>
        </p:nvPicPr>
        <p:blipFill>
          <a:blip r:embed="rId1"/>
          <a:stretch/>
        </p:blipFill>
        <p:spPr>
          <a:xfrm>
            <a:off x="2666880" y="0"/>
            <a:ext cx="4270320" cy="50292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6"/>
          <p:cNvSpPr txBox="1"/>
          <p:nvPr/>
        </p:nvSpPr>
        <p:spPr>
          <a:xfrm>
            <a:off x="1371600" y="4495680"/>
            <a:ext cx="6858000" cy="192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м в романе М.Булгаков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Мастер и Маргарит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0" y="297000"/>
            <a:ext cx="2590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втор: Кучумова Р.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Нижний колонтитул 1"/>
          <p:cNvSpPr/>
          <p:nvPr/>
        </p:nvSpPr>
        <p:spPr>
          <a:xfrm>
            <a:off x="3124080" y="6245280"/>
            <a:ext cx="4267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чумова Римма Геннадьевна «Дом в романе М.Булгакова «Мастер и Маргарит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0DB8-E7F5-4D08-82DC-F2C89ACA76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295280" y="838080"/>
            <a:ext cx="6400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ff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яснить, какова роль дома в понимании идейного замысла романа М.Булгакова «Мастер и Маргарит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219320" y="2666880"/>
            <a:ext cx="6629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крепление умения анализировать художественный тек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звитие логического, образного мышления, наблюда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пределения для себя такого понятия, как 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чумова Римма Геннадьевна «Дом в романе М.Булгакова «Мастер и Маргарит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C5CA-01DC-4202-9015-83E00AE3BD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7"/>
          <p:cNvSpPr/>
          <p:nvPr/>
        </p:nvSpPr>
        <p:spPr>
          <a:xfrm>
            <a:off x="430200" y="190512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1891 году в Киеве в семье преподавателя Духовной Академии А.И.Булгакова и его жены В.М.Булгаковой родился первенец-Миха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8" descr="дом2"/>
          <p:cNvPicPr/>
          <p:nvPr/>
        </p:nvPicPr>
        <p:blipFill>
          <a:blip r:embed="rId1"/>
          <a:stretch/>
        </p:blipFill>
        <p:spPr>
          <a:xfrm>
            <a:off x="4240080" y="609480"/>
            <a:ext cx="4434120" cy="469584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чумова Римма Геннадьевна «Дом в романе М.Булгакова «Мастер и Маргарит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1F8F-DCED-452F-A5AC-042553DF21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детиБ"/>
          <p:cNvPicPr/>
          <p:nvPr/>
        </p:nvPicPr>
        <p:blipFill>
          <a:blip r:embed="rId1"/>
          <a:stretch/>
        </p:blipFill>
        <p:spPr>
          <a:xfrm>
            <a:off x="4495680" y="533520"/>
            <a:ext cx="4175280" cy="6019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28600" y="990720"/>
            <a:ext cx="33526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вобода, которую нам давали родители в чтении книг, выборе друзей, способствовала нашему развитию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.А.Булга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чумова Римма Геннадьевна «Дом в романе М.Булгакова «Мастер и Маргарит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3B8B-6022-4980-9ED1-24A39E1E14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Отец"/>
          <p:cNvPicPr/>
          <p:nvPr/>
        </p:nvPicPr>
        <p:blipFill>
          <a:blip r:embed="rId1"/>
          <a:stretch/>
        </p:blipFill>
        <p:spPr>
          <a:xfrm>
            <a:off x="4495680" y="914400"/>
            <a:ext cx="4124520" cy="5410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380880" y="990720"/>
            <a:ext cx="3276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А отец наш был человек интересный и высоких нравственных качест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.А.Булга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чумова Римма Геннадьевна «Дом в романе М.Булгакова «Мастер и Маргарит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6408-9E3C-48AC-91FA-3BB26D3D17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5"/>
          <p:cNvSpPr/>
          <p:nvPr/>
        </p:nvSpPr>
        <p:spPr>
          <a:xfrm>
            <a:off x="3048120" y="8380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У меня есть многое о тебе, что храню бережно и с любовью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8" descr="C:\Users\1\Desktop\ivan.jpg"/>
          <p:cNvPicPr/>
          <p:nvPr/>
        </p:nvPicPr>
        <p:blipFill>
          <a:blip r:embed="rId1"/>
          <a:stretch/>
        </p:blipFill>
        <p:spPr>
          <a:xfrm>
            <a:off x="609480" y="304920"/>
            <a:ext cx="2210040" cy="3431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246720" y="2819520"/>
            <a:ext cx="2548080" cy="38462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"/>
          <p:cNvSpPr/>
          <p:nvPr/>
        </p:nvSpPr>
        <p:spPr>
          <a:xfrm>
            <a:off x="1219320" y="46483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«Славный, добрый Миша, мне хорошо известно, что ты принимаешь самое горячее участие в поддержке меня, так же, как ты старался помогать в свое время Ван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4781160" y="2185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А.Булг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4538520" y="6199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Н.А.Булг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чумова Римма Геннадьевна «Дом в романе М.Булгакова «Мастер и Маргарит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C0C9-1509-4CCF-9EC1-B3FE3A6DFE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матьБ"/>
          <p:cNvPicPr/>
          <p:nvPr/>
        </p:nvPicPr>
        <p:blipFill>
          <a:blip r:embed="rId1"/>
          <a:stretch/>
        </p:blipFill>
        <p:spPr>
          <a:xfrm>
            <a:off x="4419720" y="316080"/>
            <a:ext cx="4114800" cy="61722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533520" y="304920"/>
            <a:ext cx="365760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тро. Мама в спальне дрем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лнце красное взойд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ама встанет тотчас 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м работу разд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Ты иди песок сыпь в ям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ы ж из ям песок таска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.А.Булга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чумова Римма Геннадьевна «Дом в романе М.Булгакова «Мастер и Маргарит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0C4A-CC4B-461F-AD37-CA950638A8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семья"/>
          <p:cNvPicPr/>
          <p:nvPr/>
        </p:nvPicPr>
        <p:blipFill>
          <a:blip r:embed="rId1"/>
          <a:stretch/>
        </p:blipFill>
        <p:spPr>
          <a:xfrm>
            <a:off x="277920" y="2666880"/>
            <a:ext cx="2811240" cy="3929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сестры"/>
          <p:cNvPicPr/>
          <p:nvPr/>
        </p:nvPicPr>
        <p:blipFill>
          <a:blip r:embed="rId2"/>
          <a:stretch/>
        </p:blipFill>
        <p:spPr>
          <a:xfrm>
            <a:off x="838080" y="223920"/>
            <a:ext cx="4114800" cy="2011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семья 1912"/>
          <p:cNvPicPr/>
          <p:nvPr/>
        </p:nvPicPr>
        <p:blipFill>
          <a:blip r:embed="rId3"/>
          <a:stretch/>
        </p:blipFill>
        <p:spPr>
          <a:xfrm rot="449400">
            <a:off x="2909520" y="1639800"/>
            <a:ext cx="4343400" cy="253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на даче"/>
          <p:cNvPicPr/>
          <p:nvPr/>
        </p:nvPicPr>
        <p:blipFill>
          <a:blip r:embed="rId4"/>
          <a:stretch/>
        </p:blipFill>
        <p:spPr>
          <a:xfrm>
            <a:off x="4952880" y="3870360"/>
            <a:ext cx="3810240" cy="2725560"/>
          </a:xfrm>
          <a:prstGeom prst="rect">
            <a:avLst/>
          </a:prstGeom>
          <a:ln w="0">
            <a:noFill/>
          </a:ln>
        </p:spPr>
      </p:pic>
      <p:sp>
        <p:nvSpPr>
          <p:cNvPr id="248" name="Нижний колонтитул 1"/>
          <p:cNvSpPr/>
          <p:nvPr/>
        </p:nvSpPr>
        <p:spPr>
          <a:xfrm>
            <a:off x="2730600" y="6357960"/>
            <a:ext cx="3352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чумова Римма Геннадьевна «Дом в романе М.Булгакова «Мастер и Маргарит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F17F-704D-4C07-94E0-866DDCC49A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чумова Римма Геннадьевна «Дом в романе М.Булгакова «Мастер и Маргарит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FFBA-675D-4B12-9F5B-E6D3AAA15D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ПОДВАЛЬЧИК"/>
          <p:cNvPicPr/>
          <p:nvPr/>
        </p:nvPicPr>
        <p:blipFill>
          <a:blip r:embed="rId1"/>
          <a:stretch/>
        </p:blipFill>
        <p:spPr>
          <a:xfrm>
            <a:off x="1123920" y="0"/>
            <a:ext cx="603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15T09:15:0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