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D40-DACD-42DB-9708-278B0B87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203-B8FB-462D-85C0-3093EC6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EA0-0011-4EEA-9381-F96634D9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89B-B2EA-4700-9099-610F88A3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AACAF-1883-484D-81F8-C2CA1241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A21DB-76C6-4CD5-9A25-3AC5E7E8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CEDA-8C3D-4087-9C30-5DF2544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5035A-8C99-4391-A5C9-54353EF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B0325-4A72-48F6-9EC8-A8B3BD2E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636E6-747D-4F2F-BBB1-A535D87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35B8F-B01D-42EE-BE7F-457D00C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217-32F6-45AC-B5D4-36243B8B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1B42-418C-4668-8CF7-B33FD27B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FD10-8D89-45CE-ACE0-2E14715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AF6E2-F41D-4602-AE09-602D11F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A841D-AE53-460B-89AE-091FCD19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B7D9-395A-4756-8308-33393060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8C6-E6FB-4784-9731-8BF4D16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D5A-0431-4284-B6B0-CCA92C2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7EA-34F0-4686-9B46-0D5AE7C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284-3D2E-41B1-8982-CB227B7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5E6-4C9F-4337-9085-74B74E9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218-AB6B-4798-B473-4B4B95C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D47-51D6-44AC-8779-50D1CBA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48E-9353-483D-A953-AD8F82D8B5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9B7-DEE5-47A7-B7A7-DF8D8C1CB0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0" y="14940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Созвездие культур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в архитектуре и скульптуре Санкт-Петербург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Виртуальное путешеств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de1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117960"/>
            <a:ext cx="78548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3" descr="вид биржи.JPG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15.jpeg"/>
          <p:cNvPicPr/>
          <p:nvPr/>
        </p:nvPicPr>
        <p:blipFill>
          <a:blip r:embed="rId4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,1"/>
          <p:cNvPicPr/>
          <p:nvPr/>
        </p:nvPicPr>
        <p:blipFill>
          <a:blip r:embed="rId2"/>
          <a:stretch/>
        </p:blipFill>
        <p:spPr>
          <a:xfrm>
            <a:off x="0" y="0"/>
            <a:ext cx="3835440" cy="345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1,2"/>
          <p:cNvPicPr/>
          <p:nvPr/>
        </p:nvPicPr>
        <p:blipFill>
          <a:blip r:embed="rId3"/>
          <a:stretch/>
        </p:blipFill>
        <p:spPr>
          <a:xfrm>
            <a:off x="5796000" y="2637000"/>
            <a:ext cx="2854440" cy="407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1,4"/>
          <p:cNvPicPr/>
          <p:nvPr/>
        </p:nvPicPr>
        <p:blipFill>
          <a:blip r:embed="rId4"/>
          <a:stretch/>
        </p:blipFill>
        <p:spPr>
          <a:xfrm>
            <a:off x="826920" y="347508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,3"/>
          <p:cNvPicPr/>
          <p:nvPr/>
        </p:nvPicPr>
        <p:blipFill>
          <a:blip r:embed="rId5"/>
          <a:stretch/>
        </p:blipFill>
        <p:spPr>
          <a:xfrm>
            <a:off x="4067280" y="189000"/>
            <a:ext cx="30891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1"/>
          <p:cNvPicPr/>
          <p:nvPr/>
        </p:nvPicPr>
        <p:blipFill>
          <a:blip r:embed="rId2"/>
          <a:stretch/>
        </p:blipFill>
        <p:spPr>
          <a:xfrm>
            <a:off x="3708360" y="2421000"/>
            <a:ext cx="191628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1"/>
          <p:cNvPicPr/>
          <p:nvPr/>
        </p:nvPicPr>
        <p:blipFill>
          <a:blip r:embed="rId3"/>
          <a:stretch/>
        </p:blipFill>
        <p:spPr>
          <a:xfrm>
            <a:off x="108000" y="189000"/>
            <a:ext cx="3564000" cy="267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1,1"/>
          <p:cNvPicPr/>
          <p:nvPr/>
        </p:nvPicPr>
        <p:blipFill>
          <a:blip r:embed="rId4"/>
          <a:stretch/>
        </p:blipFill>
        <p:spPr>
          <a:xfrm>
            <a:off x="5580000" y="0"/>
            <a:ext cx="3564000" cy="272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1,2"/>
          <p:cNvPicPr/>
          <p:nvPr/>
        </p:nvPicPr>
        <p:blipFill>
          <a:blip r:embed="rId5"/>
          <a:stretch/>
        </p:blipFill>
        <p:spPr>
          <a:xfrm>
            <a:off x="0" y="3375000"/>
            <a:ext cx="3635280" cy="348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,3"/>
          <p:cNvPicPr/>
          <p:nvPr/>
        </p:nvPicPr>
        <p:blipFill>
          <a:blip r:embed="rId6"/>
          <a:stretch/>
        </p:blipFill>
        <p:spPr>
          <a:xfrm>
            <a:off x="5651640" y="4149720"/>
            <a:ext cx="33415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,2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4"/>
          <p:cNvPicPr/>
          <p:nvPr/>
        </p:nvPicPr>
        <p:blipFill>
          <a:blip r:embed="rId3"/>
          <a:stretch/>
        </p:blipFill>
        <p:spPr>
          <a:xfrm>
            <a:off x="2484360" y="162864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45:14Z</dcterms:created>
  <dc:creator>www.PHILka.RU</dc:creator>
  <dc:description/>
  <dc:language>en-US</dc:language>
  <cp:lastModifiedBy>www.PHILka.RU</cp:lastModifiedBy>
  <dcterms:modified xsi:type="dcterms:W3CDTF">2012-01-06T13:47:51Z</dcterms:modified>
  <cp:revision>3</cp:revision>
  <dc:subject/>
  <dc:title>Слайд 1</dc:title>
</cp:coreProperties>
</file>