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jpeg" ContentType="image/jpeg"/>
  <Override PartName="/ppt/media/image6.wmf" ContentType="image/x-wmf"/>
  <Override PartName="/ppt/media/image17.jpeg" ContentType="image/jpeg"/>
  <Override PartName="/ppt/media/image16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.jpeg" ContentType="image/jpeg"/>
  <Override PartName="/ppt/media/image7.wmf" ContentType="image/x-wm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1889-0C36-4591-8358-6C092E25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FF7-514C-48A9-BE0F-3EC1975A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7F3-C15D-4A4E-B9AD-F737F060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0082-7A83-4F81-B12D-7F93E90E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9B15-D73C-4D6E-913E-D6619B45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DA0C-F434-4F09-A3F0-2065F9DB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084C-CA5B-4154-AC85-BAAB15B3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4CE4-73B1-4554-B7E8-EB25828E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3333-FFA3-4364-B57D-8DCCF0F4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E2CE-B271-49D3-B43C-FBEE423A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8C37-DB1F-4B4B-A3CB-48B23F7E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4D5B-796B-4457-843B-9FD7C9CC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6CD8-0EF7-4CB9-9B22-024239D4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A430-C1D1-4718-A1C4-DC5C5292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F055-B474-4471-B44F-266FE24C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D076-BE3F-44D5-825D-0CEBD139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2425-8BA7-43EB-B08D-6C280910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8D9F-DB9A-4D38-A721-A1DA6B63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FCE4-113B-48C4-9C75-401514F8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4F0-6CBC-48F9-9626-1CE59A61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B16-72C8-45C2-84B1-58BD873A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2AA-D01A-419B-AF58-E4518156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0DA-2B38-4F05-9AF9-15CCAAFA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7FDD-F4FB-4809-A410-C6CE1B11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BFEB-D85F-4577-BD8B-713AAFE178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E943-5692-4125-92D4-D828BEA124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да – вещество №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тор: Павлючкова Александ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ица 8 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ководитель: Овчаренко Е. 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093080" y="1557360"/>
            <a:ext cx="18349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ую воду называют чистой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Чтобы получить дистиллированную воду в лаборатории, мы собрали прибор, состоящий из колбы, холодильника и приемника. В колбу на 1/3 налили водопроводной воды. Поставили колбу на сетку и закрепили в штативе. Колбу закрыли пробкой со вставленным в нее термометром. Соединили колбу с холодильником посредством пробки. Нижний отвод холодильника соединили резиновой трубкой с водопроводным краном. На верхний отвод надели резиновую трубку, которую опустили в раковину. Под аллонж поставили колбу-приемник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гревали колбу с помощью спиртовки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устив в холодильник воду. Перегонк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екратили, когда вода выкипела на 2/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796000" y="4437000"/>
            <a:ext cx="295272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олезно ли пить чистую воду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лученная нами вода не имеет ни запаха, ни вкуса. Она вредна для организма, потому что в ней нет полезных солей и газов. Она вымывает из клеток желудка соли, которые содержатся в клеточном сок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544760" y="201780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да необходима каждому живому организму. Роль воды в клетке велика и многогранна. Она определяет не только объем и упругость клетки, это среда, в которой протекают многочисленные биохимические процесс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«Восточная мудрость гласит: «Ты то, что ты ешь». Оказывается, не меньшее значение для нашего здоровья имеет вода, которую мы пь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требность человека в воде составляет, в зависимости от климатических условий, физиологического состояния и физических нагрузок, 3-6 л в сут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9080"/>
                            </p:stCondLst>
                            <p:childTnLst>
                              <p:par>
                                <p:cTn id="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3560"/>
                            </p:stCondLst>
                            <p:childTnLst>
                              <p:par>
                                <p:cTn id="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Библиограф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6000" y="19159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итература и 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хметов Н. С. Неорганическая химия. Учеб. пособие для учащихся 8-9 кл. шк. с углубл. изуч. Химии. М.: Просвещение, 199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ир химии. Санкт - Петербург, М.:М-Экспресс,199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нциклопедический словарь юного химика. М.:Педагогика,198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льшая электронная энциклопедия Кирилла и Мефод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лектронная энциклопедия «Кругосвет»,200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айты в Интернет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rambler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56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68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844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68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2560"/>
                            </p:stCondLst>
                            <p:childTnLst>
                              <p:par>
                                <p:cTn id="4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4200"/>
                            </p:stCondLst>
                            <p:childTnLst>
                              <p:par>
                                <p:cTn id="4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4880"/>
                            </p:stCondLst>
                            <p:childTnLst>
                              <p:par>
                                <p:cTn id="4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 исслед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ыяснить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чему без воды невозможна жизнь на Земл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4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дачи исслед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 такое вод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оль в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 такое чистая вод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езно ли человеку пить чистую воду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6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96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76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такое вода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да – одно из самых распространенных веществ на поверхности нашей планеты, ведь почти 71% ее поверхности занято морями и океанами. Она образует водную оболочку Земли – гидросферу. Водой в твердом состоянии – снегом и льдом - покрыто около 20% суши. В связанном виде вода находится и в земной коре – литосфер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еные считают, что в глубоки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драх Земли может находить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ды в десять раз больше, чем 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идросфер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Рисунок 1"/>
          <p:cNvPicPr/>
          <p:nvPr/>
        </p:nvPicPr>
        <p:blipFill>
          <a:blip r:embed="rId2"/>
          <a:stretch/>
        </p:blipFill>
        <p:spPr>
          <a:xfrm>
            <a:off x="6732720" y="4581360"/>
            <a:ext cx="1865160" cy="18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44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52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660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764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такое вода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да – самое удивительное вещество на планете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олекула воды состоит из одного  атома кислорода и двух атомов водоро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03640" y="4653000"/>
            <a:ext cx="16844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64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12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оль вод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да играет важную роль в геологической истории Земли, в ее тепловом режиме, климате, погоде, круговороте вещест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Рисунок 3"/>
          <p:cNvPicPr/>
          <p:nvPr/>
        </p:nvPicPr>
        <p:blipFill>
          <a:blip r:embed="rId2"/>
          <a:stretch/>
        </p:blipFill>
        <p:spPr>
          <a:xfrm>
            <a:off x="2556000" y="4076640"/>
            <a:ext cx="38098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оль вод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55036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8120" indent="-2581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Организм взрослого человека на ¾ состоит из воды, причем ее содержание в различных органах не одинаково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8120" indent="-2581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Больше всего воды в глазном яблоке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1368360" cy="722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940360" y="3141720"/>
            <a:ext cx="1370160" cy="1166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451640" y="4653000"/>
            <a:ext cx="1274760" cy="1525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 rot="10800000">
            <a:off x="8954280" y="6131880"/>
            <a:ext cx="1890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1187280" cy="1109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8101080" y="3573360"/>
            <a:ext cx="396720" cy="687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3687840"/>
            <a:ext cx="56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Мозг человека содержит 80% вод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113360"/>
            <a:ext cx="56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печень – 70%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4540320"/>
            <a:ext cx="56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мышцы – около 6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4967280"/>
            <a:ext cx="56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И даже в костях есть вода – до 30%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5394240"/>
            <a:ext cx="56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Самая безводная часть нашего организма – эмаль зуб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084720" y="4581360"/>
            <a:ext cx="1035360" cy="16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60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60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60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6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60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6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оль вод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да – среда обитания многих растений и животн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которые виды морских медуз содержат до 90% вод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быкновенный огурец – это на 98% вода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амые заправские «водохлебы» - растения. Подсолнуху для роста необходим литр воды в день, а взрослая береза высасывает из земли 60 л воды за сутки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еловек в сутки должен потреблять 3 л вод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4581360"/>
            <a:ext cx="1368360" cy="1312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835280" y="5797440"/>
            <a:ext cx="1584360" cy="1060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967520" y="5229360"/>
            <a:ext cx="1176480" cy="1628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948360" y="0"/>
            <a:ext cx="19638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72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48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98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73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8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28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33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80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ую воду называют чистой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истой водой химики считают дистиллированную воду. Ее получают методом перегон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835280" y="3357720"/>
            <a:ext cx="5111640" cy="2895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6237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ибор для перегонки жидк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92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96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08:32:25Z</dcterms:created>
  <dc:creator>Гость</dc:creator>
  <dc:description/>
  <dc:language>en-US</dc:language>
  <cp:lastModifiedBy>Гость</cp:lastModifiedBy>
  <dcterms:modified xsi:type="dcterms:W3CDTF">2006-10-30T10:29:14Z</dcterms:modified>
  <cp:revision>13</cp:revision>
  <dc:subject/>
  <dc:title>Вода – вещество №1</dc:title>
</cp:coreProperties>
</file>