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60CA-A9E4-4AAE-8D73-8004E6D5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5D83-D90D-4E3B-B5CF-2505F3FD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08D8-49E5-4FCA-BB6D-4D88A22B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0A37-EB51-4370-8EFC-AD482704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394B-A285-4700-B297-9A3388FE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BB58-F27B-4E93-8722-A51D8758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5582-4D96-42BA-8A8D-71D5ED48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F3A5-7013-4769-B42B-16C8D40B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6754-9F51-4A1F-A795-507B7605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708F-1979-40F8-8BB4-B5D104F4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C746-BC83-48D6-952A-7917AE7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D91E-285C-4253-AD49-BAA5939B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0DA7-46BE-408D-B92A-4BDC63D3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2C13-AB02-4A51-9B7B-2E701C0B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0C61-A330-4CB0-AC79-7CA069FC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4A4C-205E-43BE-9EE8-D6FEDDC6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D2DB-6587-4274-B63F-0AF23E81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1C3F-26ED-4191-BEA2-BC73C0F0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3D22A-88E4-4BB9-8C6A-B6AD72FA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07F7-8D99-4972-9A8C-E3AECB81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9EDF-AB6B-4DD7-BCA6-A56CD20C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076E-1DBA-4DB0-98E9-7C165135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371B-87DC-40D6-870C-95EAC47E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4660-637F-4BA0-8D51-63849E76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C837-68C6-445B-98D5-914583AA9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60C3-9237-4195-8F00-4CAD2FFEA4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1640" y="2133720"/>
            <a:ext cx="88549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5600" spc="-1" strike="noStrike">
                <a:solidFill>
                  <a:srgbClr val="fdfd63"/>
                </a:solidFill>
                <a:latin typeface="Times New Roman"/>
              </a:rPr>
              <a:t>«Зимние олимпийские</a:t>
            </a:r>
            <a:br>
              <a:rPr sz="5600"/>
            </a:br>
            <a:r>
              <a:rPr b="1" i="1" lang="en-US" sz="5600" spc="-1" strike="noStrike">
                <a:solidFill>
                  <a:srgbClr val="fdfd63"/>
                </a:solidFill>
                <a:latin typeface="Times New Roman"/>
              </a:rPr>
              <a:t>       виды спорта»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284720" y="4292280"/>
            <a:ext cx="4859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 Вершинин Е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5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 30» г. Старый Оск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очкина Е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4437000"/>
            <a:ext cx="3095640" cy="1549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05092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1200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0"/>
            <a:ext cx="223200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Прыжки с трамп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спорта, включающий пры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 лыжах со специально оборудов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мплинов. Выступают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стоятельный вид спорта, а так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дят в программу лыжного двоеборья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3456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Санный 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ревнования в скоростном спуск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местных или двухместных санях 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ранее подготовленной трасс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ртсмены располагаются на санях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не, ногами вперед. У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нями производится при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положения т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4724280"/>
            <a:ext cx="2880000" cy="1936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27640" y="4653000"/>
            <a:ext cx="2881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Скелет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спорта, представляющий собой с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ледяному жёлобу на двухполозье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нях на укрепленной раме, побе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ого определяется по сумме двух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х заез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00720" y="4076640"/>
            <a:ext cx="3708360" cy="2481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600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Сноуборд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горнолыжного спорта, включающий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бя различные спуски с гор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иальной трассе на одной доск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оуборде и акробатические прыжки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оуборде на различных трампли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4149720"/>
            <a:ext cx="3413160" cy="2556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0" y="4149720"/>
            <a:ext cx="3902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297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Фигурное ка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820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спорта, в котором спортсм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мещаются на коньках по льду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ением дополн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ов, чаще всего под музы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фигурного катания: одино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мужском и женское), парное, спор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нцы на ль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24360" y="4724280"/>
            <a:ext cx="1809720" cy="194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24360" y="4724280"/>
            <a:ext cx="230364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0501"/>
                </a:solidFill>
                <a:latin typeface="Arial"/>
              </a:rPr>
              <a:t>Фристай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лыжного спорта. В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истайла входят лыжная акробатика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и-кросс, могул, ньюскул скиин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35607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36003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ртивная игра, заключающаяс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борстве двух команд, котор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авая шайбу клюшками, стрем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росить её наибольшее количество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ворота соперника и не пропустить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и. Побеждает команда, забросив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большее количество шайб в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пер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360" y="5229360"/>
            <a:ext cx="223200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724360" y="5229360"/>
            <a:ext cx="2087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Шорт-тр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скоростного бега на коньк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лючающийся в максимально быс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одолении дистанции внутри хокке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43280" y="3645000"/>
            <a:ext cx="43210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293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Зимний 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Зимний спорт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— совокупность видов спорта, проводящихся на снегу или на льду, то есть преимущественно зим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15 видов спорта входят в программу Зимних Олимпийских иг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Биат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ний олимпийский вид спор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четающий лыжную гонку со стрель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винтовки на огневых рубеж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3500280"/>
            <a:ext cx="468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Бобс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ний олимпийский вид спор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ставляющий собой скоростной с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гор по специально оборудова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довым трассам на управляе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нях — боб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4032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Горнолыжный 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нолыжный спорт - спуск с гор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ьных лыжах. Включает 5 дисципл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лом, гигантский слалом, супергиг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ной спуск, альпийское двоебор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403200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Кёр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андная спортивная игра на ледя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ке. Участники двух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очерёдно пускают по льду спец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яжёлые гранитные снаряды («камни»)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рону размеченной на льду миш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«дома»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3456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Конькобежный 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спорта, в котором необходимо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быстрее преодол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ённую дистанцию на лед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дионе по замкнутому кру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84360" y="3789360"/>
            <a:ext cx="3780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Лыжное двоеб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лимпийский вид спорта, сочетающий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ей программе прыжки на лыжах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мплина и лыжные го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419640" cy="252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338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Лыжный 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нки на лыжах на определё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анцию по специ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ленной трассе отдельно ср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жчин и женщин. Различают два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а: классический (по лыжне)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бодный (коньковы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51280" y="4508640"/>
            <a:ext cx="3457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6:34:17Z</dcterms:created>
  <dc:creator>Admin</dc:creator>
  <dc:description/>
  <dc:language>en-US</dc:language>
  <cp:lastModifiedBy>Admin</cp:lastModifiedBy>
  <dcterms:modified xsi:type="dcterms:W3CDTF">2012-01-07T08:17:31Z</dcterms:modified>
  <cp:revision>30</cp:revision>
  <dc:subject/>
  <dc:title>Фигурное катание</dc:title>
</cp:coreProperties>
</file>