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ABA1-0B1B-4A95-B5B3-2E3C5333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49CE9-C4A3-4438-888A-5B9A8EFD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31BE-6C58-4C11-8CCA-71DE07E1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BEEA-9F78-415C-BDCC-54C4B89A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997A-16EA-4048-AB59-3DE88351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2D55-CFCC-4892-BC37-B3BDD1D5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1C92-F1F6-4B98-996D-E18527C8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4330-239C-48AB-B977-0618B5F9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82FD-8B0C-4E34-A9AF-00292A02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B694-EA82-46BB-A18B-9700F07C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9D9A-CFAB-41BC-9445-61CA0899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9FAD-6D2C-4416-8E09-11D084B9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4A28-C3BB-4FFF-9273-255A9485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1E55-98C6-48B0-8508-D50955F0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D535-97BB-4486-8204-18832F5A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240D-F4C1-4D1F-840D-88F00B8C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121C-273A-4C9D-A431-70975B40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05A7-5E40-4F62-A334-77C0A971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C55A-6282-4A70-8270-7EDD7BF6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C003-09E9-454A-92BF-D7DBD67B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9221-0D06-4B1B-BD06-CE98FF57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CFA6-C7E7-4C55-B0F2-EB116FB2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1A35-008B-42ED-B83B-C6899CEE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C239-C746-453A-8106-8FC8ED52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CF69-C7DA-4A2B-9D15-2E780A38A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5919-0308-4420-917A-F41225DAF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1640" y="2133720"/>
            <a:ext cx="88549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5600" spc="-1" strike="noStrike">
                <a:solidFill>
                  <a:srgbClr val="fdfd63"/>
                </a:solidFill>
                <a:latin typeface="Times New Roman"/>
              </a:rPr>
              <a:t>«Зимние олимпийские</a:t>
            </a:r>
            <a:br>
              <a:rPr sz="5600"/>
            </a:br>
            <a:r>
              <a:rPr b="1" i="1" lang="en-US" sz="5600" spc="-1" strike="noStrike">
                <a:solidFill>
                  <a:srgbClr val="fdfd63"/>
                </a:solidFill>
                <a:latin typeface="Times New Roman"/>
              </a:rPr>
              <a:t>       виды спорта»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284720" y="4292280"/>
            <a:ext cx="4859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 Вершинин Е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5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 30» г. Старый Оск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физиче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очкина Е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4437000"/>
            <a:ext cx="3095640" cy="1549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05092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12000" y="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0"/>
            <a:ext cx="223200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Прыжки с трамп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спорта, включающий пры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 лыжах со специально оборудов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мплинов. Выступают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стоятельный вид спорта, а так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дят в программу лыжного двоеборья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3456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Санный 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ревнования в скоростном спуск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местных или двухместных санях 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ранее подготовленной трасс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ртсмены располагаются на санях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не, ногами вперед. У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нями производится при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положения т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4724280"/>
            <a:ext cx="2880000" cy="1936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27640" y="4653000"/>
            <a:ext cx="2881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Скелет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спорта, представляющий собой с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ледяному жёлобу на двухполозье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нях на укрепленной раме, побе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ого определяется по сумме двух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х заез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00720" y="4076640"/>
            <a:ext cx="3708360" cy="2481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600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Сноуборд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горнолыжного спорта, включающий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бя различные спуски с гор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ециальной трассе на одной доск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оуборде и акробатические прыжки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оуборде на различных трампли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4149720"/>
            <a:ext cx="3413160" cy="2556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0" y="4149720"/>
            <a:ext cx="39020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92972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Фигурное ка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820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спорта, в котором спортсм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мещаются на коньках по льду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ением дополн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ов, чаще всего под музы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фигурного катания: одино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мужском и женское), парное, спор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нцы на ль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24360" y="4724280"/>
            <a:ext cx="1809720" cy="194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24360" y="4724280"/>
            <a:ext cx="230364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0501"/>
                </a:solidFill>
                <a:latin typeface="Arial"/>
              </a:rPr>
              <a:t>Фристай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лыжного спорта. В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истайла входят лыжная акробатика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и-кросс, могул, ньюскул скиин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35607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360036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ртивная игра, заключающаяс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борстве двух команд, котор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авая шайбу клюшками, стрем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росить её наибольшее количество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ворота соперника и не пропустить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и. Побеждает команда, забросив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большее количество шайб в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пер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360" y="5229360"/>
            <a:ext cx="223200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724360" y="5229360"/>
            <a:ext cx="2087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Шорт-тр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скоростного бега на коньк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лючающийся в максимально быс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одолении дистанции внутри хокке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43280" y="3645000"/>
            <a:ext cx="43210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293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Зимний 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Зимний спорт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— совокупность видов спорта, проводящихся на снегу или на льду, то есть преимущественно зим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15 видов спорта входят в программу Зимних Олимпийских иг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Биат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ний олимпийский вид спор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четающий лыжную гонку со стрель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винтовки на огневых рубеж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3500280"/>
            <a:ext cx="468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Бобс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ний олимпийский вид спор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ставляющий собой скоростной с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гор по специально оборудова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довым трассам на управляе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нях — боб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4032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Горнолыжный 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нолыжный спорт - спуск с гор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ьных лыжах. Включает 5 дисципл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лом, гигантский слалом, супергига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ной спуск, альпийское двоебор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403200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Кёр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андная спортивная игра на ледя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ке. Участники двух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очерёдно пускают по льду специ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яжёлые гранитные снаряды («камни»)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рону размеченной на льду миш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«дома»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3456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Конькобежный 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спорта, в котором необходимо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быстрее преодол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ённую дистанцию на лед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дионе по замкнутому кру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84360" y="3789360"/>
            <a:ext cx="3780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Лыжное двоеб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лимпийский вид спорта, сочетающий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ей программе прыжки на лыжах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мплина и лыжные го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419640" cy="252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3382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01"/>
                </a:solidFill>
                <a:latin typeface="Arial"/>
              </a:rPr>
              <a:t>Лыжный 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нки на лыжах на определё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анцию по специ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ленной трассе отдельно ср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жчин и женщин. Различают два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а: классический (по лыжне)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бодный (коньковы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51280" y="4508640"/>
            <a:ext cx="3457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6:34:17Z</dcterms:created>
  <dc:creator>Admin</dc:creator>
  <dc:description/>
  <dc:language>en-US</dc:language>
  <cp:lastModifiedBy>Admin</cp:lastModifiedBy>
  <dcterms:modified xsi:type="dcterms:W3CDTF">2012-01-07T08:17:31Z</dcterms:modified>
  <cp:revision>30</cp:revision>
  <dc:subject/>
  <dc:title>Фигурное катание</dc:title>
</cp:coreProperties>
</file>