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7E1C-F8A3-4049-A01D-1D1607771C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094-5704-4CE1-902B-F2EB57ACD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B9F-0EA8-4336-A741-2D8B12AC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A07-C0B1-4EE3-8895-FCCFB04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C24-4B1A-4D10-A50C-F4B2FF27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51E-30B7-4658-8762-F489DF83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9336-2CDE-4D7F-848B-857DB177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3C2F-BC3C-43DE-82EB-20694E17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88CE-A9BA-45B5-BF3F-4189BF0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EA36-4225-461E-A285-763392BD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A60B-6523-4F25-833B-AFBBF2E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7D57-E23A-4A41-B811-F9132D7A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4BD-0900-499E-A8FC-15410C4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C38-8CEA-41E2-9FFC-CCF351F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9649-32F5-419A-B616-64106CE5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82F7-2937-4C45-BA15-252C75B3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211-5359-4683-8327-6E9F17E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74CE-15D3-4ED9-B0ED-26DB28F0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C882-D8D5-4D0A-8E6E-2AEEC135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52E0-5C4B-4CF3-A75B-CF430A91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F0C4-2B85-4200-83B5-19E18268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8834-9FF9-4453-920F-A7AA1A52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1ADE-C09D-4AD9-98C5-1376633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7EFD-D947-4A22-9A93-2C0BC96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DA0-858D-4048-8AB5-BDBC42B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ED66-5991-47E2-AF83-CEDD51FD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0290-EBAC-4574-A0A1-28118B1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CD8C-32BB-49D3-879E-F4A5CB9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677C-4765-4BC3-A0DC-90B9731A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1235-A474-4667-9591-B1A6FF11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033B-7807-4165-8EB9-7FBD8949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3396-DF4E-4384-9C2A-5B18E492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C1EA-2EED-4526-A247-B528BC45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14CF-3BDE-4B01-A100-F63C93B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B299-E490-47D1-91DA-9C9080C7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465-5916-4956-ACA3-BD81EA98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E71D-3F39-4C78-BE27-1346E41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F8E9-D3E4-4210-A2E5-2BB3E0B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D5EB-E310-4DCE-A4E3-2DA6CC60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4705-DA3E-4CAF-8509-312C394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D5D9-5A64-41AD-A763-D610160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4171-3D46-4DF5-8904-DE9C04FA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96AE-A0A6-4554-AD29-808A0042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EA8A-D99B-4DA8-AC82-D2E1E1A2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8828-AD8C-4C4D-882A-C4D49313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339B2-161E-49D9-9AA7-D965CD18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4E3-DEA5-476B-8926-7AA346E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E3C3-B833-4F86-A194-7192ADF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E9BF-F0A6-4350-AF1A-5B85EA8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80BE-2185-453C-8C04-80158516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3D65-3AC0-4CEF-AE91-47BB635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190B-D071-4FDA-89FF-922CA6C6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BB69-E311-4221-B78E-E2899F5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FACE-73C8-459A-A471-5A1A4666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124B2-F806-4A72-A319-E22EFB6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11F0-678E-4F59-B0DE-E452CF8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D0D3-A673-48A6-86CB-FFD6CCEA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CB5-F3F3-44B4-9835-6484E8C4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6B6F9-E774-48B1-A60F-7DE4E539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EB8-F956-4CEC-9F53-4EB9E9D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1DD-90E4-4F69-93F0-300D19C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682-0DCD-42FC-BAB8-19EF6DE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669-3521-4324-B7C5-FB0B6E37744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7694-A802-4228-BFE2-787E7356BC4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20D9-BF73-4857-9C45-6FE97749DA5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0D09-6078-48A7-9E90-9430F8CC677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715-4CC3-48EE-9FBB-536E0661E25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5599080" cy="3397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780000" y="4365360"/>
            <a:ext cx="518472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ца 4а класс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ней школы  № 35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.Санкт-Петербург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кман Ан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200px-Vasnetsov_Kuindzhi.jpg"/>
          <p:cNvPicPr/>
          <p:nvPr/>
        </p:nvPicPr>
        <p:blipFill>
          <a:blip r:embed="rId3"/>
          <a:stretch/>
        </p:blipFill>
        <p:spPr>
          <a:xfrm>
            <a:off x="104760" y="0"/>
            <a:ext cx="2738520" cy="6597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63200" y="3246480"/>
            <a:ext cx="387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й пейзажис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2"/>
          <a:stretch/>
        </p:blipFill>
        <p:spPr>
          <a:xfrm>
            <a:off x="1712880" y="139680"/>
            <a:ext cx="5900760" cy="1360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85920" y="1571760"/>
            <a:ext cx="589752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Один из шедевров «позднего» Куиндж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Содержимое 3" descr="5.jpg"/>
          <p:cNvPicPr/>
          <p:nvPr/>
        </p:nvPicPr>
        <p:blipFill>
          <a:blip r:embed="rId3"/>
          <a:stretch/>
        </p:blipFill>
        <p:spPr>
          <a:xfrm>
            <a:off x="1692360" y="2133720"/>
            <a:ext cx="561636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4009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3" descr="7.jpg"/>
          <p:cNvPicPr/>
          <p:nvPr/>
        </p:nvPicPr>
        <p:blipFill>
          <a:blip r:embed="rId3"/>
          <a:stretch/>
        </p:blipFill>
        <p:spPr>
          <a:xfrm>
            <a:off x="714240" y="928800"/>
            <a:ext cx="7998120" cy="48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6.jpg"/>
          <p:cNvPicPr/>
          <p:nvPr/>
        </p:nvPicPr>
        <p:blipFill>
          <a:blip r:embed="rId2"/>
          <a:stretch/>
        </p:blipFill>
        <p:spPr>
          <a:xfrm>
            <a:off x="428760" y="1500120"/>
            <a:ext cx="7238880" cy="509904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1" descr=""/>
          <p:cNvPicPr/>
          <p:nvPr/>
        </p:nvPicPr>
        <p:blipFill>
          <a:blip r:embed="rId3"/>
          <a:stretch/>
        </p:blipFill>
        <p:spPr>
          <a:xfrm>
            <a:off x="457200" y="434880"/>
            <a:ext cx="72388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2876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одился 15 января 1841 года в Мариуполе в семье бедного грека-сапож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 1845 голу умирает отец художника, чуть позже его ма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55 год – живет в Феодосии. беря уроки живописи у А.Фессле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68 год – получает звание «свободного художника» за один из Крымских пейзаж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0 год – впервые посещает Валаам. Картина «Ладожское озеро» открывает его «северную серию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1" descr=""/>
          <p:cNvPicPr/>
          <p:nvPr/>
        </p:nvPicPr>
        <p:blipFill>
          <a:blip r:embed="rId2"/>
          <a:stretch/>
        </p:blipFill>
        <p:spPr>
          <a:xfrm>
            <a:off x="317520" y="231840"/>
            <a:ext cx="6040440" cy="135252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10" descr="image001.jpg"/>
          <p:cNvPicPr/>
          <p:nvPr/>
        </p:nvPicPr>
        <p:blipFill>
          <a:blip r:embed="rId3"/>
          <a:stretch/>
        </p:blipFill>
        <p:spPr>
          <a:xfrm>
            <a:off x="468360" y="1484280"/>
            <a:ext cx="80326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643040"/>
            <a:ext cx="83296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3 г. Совершает заграничное путешествие-  Германия, Англия, Франция.Пишет картину «На острове Валааме» – первую картину, приобретенную П.Третьяковы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4 г. Женится на Вер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левфериевне Кетчерджи, которую знал и любил чуть ли не с самого детств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5 г. Вновь едет за границу. Становится членом Товарищества передвижных художественных выстав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6 г. Пишет «Украинскую ноч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457200" y="212760"/>
            <a:ext cx="7242120" cy="101268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8.jpg"/>
          <p:cNvPicPr/>
          <p:nvPr/>
        </p:nvPicPr>
        <p:blipFill>
          <a:blip r:embed="rId3"/>
          <a:stretch/>
        </p:blipFill>
        <p:spPr>
          <a:xfrm>
            <a:off x="485640" y="1496880"/>
            <a:ext cx="7429680" cy="527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643040"/>
            <a:ext cx="782964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78 г. Картины Куинджи встречают теплый прием на Всемирной выставке в Париж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80 г. Официально выходит из Товарищества передвижных художественных выставок. Устраивает выставку одной картины «Лунная ночь на Днепре». Она воспринимается в Петербурге как сенсац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3" descr="3.jpg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492912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3"/>
          <a:stretch/>
        </p:blipFill>
        <p:spPr>
          <a:xfrm>
            <a:off x="457200" y="324000"/>
            <a:ext cx="72421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26028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на из самых известных картин Куинджи. Показ «Лунной ночи»  в 1880 году стал сенсационным событием в Петербурге. Это была первая в России выставка одной картины.Работа была выставлена в отдельном зале .Зал при этом не освещался, лишь на картину падал яркий электрический луч. Когда Куинджи выставлял свою знаменитую картину «Ночь на Днепре» , посетители выставки неизменно пытались заглянуть за холст с обратной стороны, чтобы увидеть спрятанную там лампочку или свечу. На самом же деле никакой подсветки не было и в помине, хотя луна , изображенная на полотне , первое время действительно сияла как настояща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97280"/>
            <a:ext cx="7238880" cy="51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13840"/>
            <a:ext cx="84726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82 г. Прекращает выставочную дея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92 г. Утверждается в звании профессора Академии художе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94 г. Возглавляет пейзажную мастерскую Академии художе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97 г. Уходит с должности руководителя пейзажной мастерск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901 г. После двадцатилетнего перерыва показывает свои новые раб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910 г. Умирает 24 июля в Петербурге. Похоронен на Смоленском кладбищ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952 г. Прах художника перенесен в Некрополь мастеров искусств Александро-Невской Лавр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31:42Z</dcterms:created>
  <dc:creator>Admin</dc:creator>
  <dc:description/>
  <dc:language>en-US</dc:language>
  <cp:lastModifiedBy>евгений</cp:lastModifiedBy>
  <dcterms:modified xsi:type="dcterms:W3CDTF">2012-01-08T18:16:51Z</dcterms:modified>
  <cp:revision>51</cp:revision>
  <dc:subject/>
  <dc:title>КУИНДЖИ АРХИП ИВАНОВИЧ</dc:title>
</cp:coreProperties>
</file>