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2885-F35E-4BA6-AA92-957D90780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17E-522A-48C0-9E70-BFF097F257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F0B-9BD7-48E9-8BF6-7A04FC21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E95-F2C4-45B3-AB4E-F276D7E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AD-6185-4E84-8357-5EEBC68F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26E-CE95-4849-A1E0-4AB4D990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D14C-3821-4A6E-AFC1-B196E209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A50B-299B-4C8E-A6DC-846237E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9E6-3235-4AE4-9F21-E0020BD2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872C-8352-4907-AF89-B4D27D0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8A91-A2A3-470E-8C69-342AB86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DED-3A56-426B-A222-66020FE9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9F8-C782-4FCC-AB5C-C56CD29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2D4-B786-4AA4-8D10-A9517ECC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784B-D9FA-410C-93CF-A88C6ED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592-BB25-4DDF-A144-B74C785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074C-9C59-4820-A2A2-5A73125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F14F-8426-4264-BD0E-85A3E6C5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30CA-019B-4AA0-8868-5C8F740E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8F5C-1372-4748-A913-38CA3BCC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DBB8-B268-409A-9CB1-5765072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8F51-4431-4207-A7D5-CEAB5D8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C6AD-E4A5-487C-A3FA-F0D6D37B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652E-8514-4FD5-8CE3-1644922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844-E2F2-46F7-AFD5-3EBFDBB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4A02-C674-4C5A-A3C0-8321556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C9C0B-BDE1-4128-A880-3FA788C3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00D1-A991-4D0A-9F82-DF6E40C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EF4D-2346-42D5-9B98-DFA2FAD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FAC4-895C-437C-B0C0-A7EDF9AB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DEDB-7AC9-4E8C-B88C-69CBE909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9C20-E3F0-4304-A3BC-E265C3C4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B5C1-B865-4E38-9C93-379BDB9A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B5987-4EC9-4A8A-93A5-9D1CD783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8573-3469-497D-B960-797B175D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D8F-4EDB-488E-98A3-4CD78611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7575-AF89-414F-9824-177AB82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A7A7-99C0-4F22-B66B-B53C83C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2D48-9AEF-4B4E-B1FA-091F61D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0950-B918-4346-A242-89A561C5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7E79-9A57-4972-8F0E-70F336C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7A16-CB73-4619-AC6C-64A6C95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102C-E51C-4CE3-A077-B65F24A1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C1E1-715A-481D-928A-B10F9CD0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C6F5-C10A-4A28-B02D-1B76A3F8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FD94-150B-4F94-82B4-703543CA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37F-3AA3-4D7B-8DEC-F55BBFF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DE57-8E06-43BB-9E42-5D2E094C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2803-A33F-454B-A73C-5F37B4E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5095-3E76-4EF4-AB1F-C8C4A16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3C3A-42A9-4447-9A94-E7014A0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6B6B-8BE4-4E35-B3EB-375063E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BDF2D-1871-443F-89E7-16993D9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055F-D69A-4E35-B232-CC2E16C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3D1F-1D20-4FB2-88DE-7CA586F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7EF3-4B52-4F22-9041-A022259E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45A4-BDD8-4337-8267-A71ED653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024-DD79-4BC8-8239-4EC8605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F18D-287E-409D-8E21-D5E485B4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383-3F54-4C1B-9277-E524DE9B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7AD-8381-44B5-B5A8-9EBE77A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65-EC2D-4678-8B80-9D1837C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1C64-3178-426E-A887-7E3D95B02D4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E996-1F88-4027-8F54-6BB694FF0CD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88C-C82D-459E-B85B-004821457FB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2B91-42C6-4044-9D7E-7203317AE7E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134F-66C0-4C6C-AE01-84979C760B2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5599080" cy="33973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780000" y="4365360"/>
            <a:ext cx="518472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ница 4а класс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ней школы  № 35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.Санкт-Петербург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кман Ан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200px-Vasnetsov_Kuindzhi.jpg"/>
          <p:cNvPicPr/>
          <p:nvPr/>
        </p:nvPicPr>
        <p:blipFill>
          <a:blip r:embed="rId3"/>
          <a:stretch/>
        </p:blipFill>
        <p:spPr>
          <a:xfrm>
            <a:off x="104760" y="0"/>
            <a:ext cx="2738520" cy="6597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63200" y="3246480"/>
            <a:ext cx="387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й пейзажис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2"/>
          <a:stretch/>
        </p:blipFill>
        <p:spPr>
          <a:xfrm>
            <a:off x="1712880" y="139680"/>
            <a:ext cx="5900760" cy="1360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85920" y="1571760"/>
            <a:ext cx="589752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Один из шедевров «позднего» Куиндж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Содержимое 3" descr="5.jpg"/>
          <p:cNvPicPr/>
          <p:nvPr/>
        </p:nvPicPr>
        <p:blipFill>
          <a:blip r:embed="rId3"/>
          <a:stretch/>
        </p:blipFill>
        <p:spPr>
          <a:xfrm>
            <a:off x="1692360" y="2133720"/>
            <a:ext cx="561636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2"/>
          <a:stretch/>
        </p:blipFill>
        <p:spPr>
          <a:xfrm>
            <a:off x="457200" y="0"/>
            <a:ext cx="84009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3" descr="7.jpg"/>
          <p:cNvPicPr/>
          <p:nvPr/>
        </p:nvPicPr>
        <p:blipFill>
          <a:blip r:embed="rId3"/>
          <a:stretch/>
        </p:blipFill>
        <p:spPr>
          <a:xfrm>
            <a:off x="714240" y="928800"/>
            <a:ext cx="7998120" cy="48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6.jpg"/>
          <p:cNvPicPr/>
          <p:nvPr/>
        </p:nvPicPr>
        <p:blipFill>
          <a:blip r:embed="rId2"/>
          <a:stretch/>
        </p:blipFill>
        <p:spPr>
          <a:xfrm>
            <a:off x="428760" y="1500120"/>
            <a:ext cx="7238880" cy="509904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" descr=""/>
          <p:cNvPicPr/>
          <p:nvPr/>
        </p:nvPicPr>
        <p:blipFill>
          <a:blip r:embed="rId3"/>
          <a:stretch/>
        </p:blipFill>
        <p:spPr>
          <a:xfrm>
            <a:off x="457200" y="434880"/>
            <a:ext cx="72388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2876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одился 15 января 1841 года в Мариуполе в семье бедного грека-сапож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 1845 голу умирает отец художника, чуть позже его ма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55 год – живет в Феодосии. беря уроки живописи у А.Фессл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68 год – получает звание «свободного художника» за один из Крымских пейзаж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0 год – впервые посещает Валаам. Картина «Ладожское озеро» открывает его «северную серию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1" descr=""/>
          <p:cNvPicPr/>
          <p:nvPr/>
        </p:nvPicPr>
        <p:blipFill>
          <a:blip r:embed="rId2"/>
          <a:stretch/>
        </p:blipFill>
        <p:spPr>
          <a:xfrm>
            <a:off x="317520" y="231840"/>
            <a:ext cx="6040440" cy="13525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10" descr="image001.jpg"/>
          <p:cNvPicPr/>
          <p:nvPr/>
        </p:nvPicPr>
        <p:blipFill>
          <a:blip r:embed="rId3"/>
          <a:stretch/>
        </p:blipFill>
        <p:spPr>
          <a:xfrm>
            <a:off x="468360" y="1484280"/>
            <a:ext cx="80326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643040"/>
            <a:ext cx="83296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3 г. Совершает заграничное путешествие-  Германия, Англия, Франция.Пишет картину «На острове Валааме» – первую картину, приобретенную П.Третьяковы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4 г. Женится на Вер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левфериевне Кетчерджи, которую знал и любил чуть ли не с самого детств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5 г. Вновь едет за границу. Становится членом Товарищества передвижных художественных выставо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76 г. Пишет «Украинскую ноч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457200" y="212760"/>
            <a:ext cx="7242120" cy="101268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8.jpg"/>
          <p:cNvPicPr/>
          <p:nvPr/>
        </p:nvPicPr>
        <p:blipFill>
          <a:blip r:embed="rId3"/>
          <a:stretch/>
        </p:blipFill>
        <p:spPr>
          <a:xfrm>
            <a:off x="485640" y="1496880"/>
            <a:ext cx="7429680" cy="52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643040"/>
            <a:ext cx="782964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78 г. Картины Куинджи встречают теплый прием на Всемирной выставке в Париж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80 г. Официально выходит из Товарищества передвижных художественных выставок. Устраивает выставку одной картины «Лунная ночь на Днепре». Она воспринимается в Петербурге как сенсац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3" descr="3.jpg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492912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3"/>
          <a:stretch/>
        </p:blipFill>
        <p:spPr>
          <a:xfrm>
            <a:off x="457200" y="324000"/>
            <a:ext cx="72421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26028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на из самых известных картин Куинджи. Показ «Лунной ночи»  в 1880 году стал сенсационным событием в Петербурге. Это была первая в России выставка одной картины.Работа была выставлена в отдельном зале .Зал при этом не освещался, лишь на картину падал яркий электрический луч. Когда Куинджи выставлял свою знаменитую картину «Ночь на Днепре» , посетители выставки неизменно пытались заглянуть за холст с обратной стороны, чтобы увидеть спрятанную там лампочку или свечу. На самом же деле никакой подсветки не было и в помине, хотя луна , изображенная на полотне , первое время действительно сияла как настояща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9728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13840"/>
            <a:ext cx="84726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82 г. Прекращает выставочную дея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2 г. Утверждается в звании профессора Академии художе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4 г. Возглавляет пейзажную мастерскую Академии художест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897 г. Уходит с должности руководителя пейзажной мастерск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01 г. После двадцатилетнего перерыва показывает свои новые рабо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10 г. Умирает 24 июля в Петербурге. Похоронен на Смоленском кладбищ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1952 г. Прах художника перенесен в Некрополь мастеров искусств Александро-Невской Лавр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31:42Z</dcterms:created>
  <dc:creator>Admin</dc:creator>
  <dc:description/>
  <dc:language>en-US</dc:language>
  <cp:lastModifiedBy>евгений</cp:lastModifiedBy>
  <dcterms:modified xsi:type="dcterms:W3CDTF">2012-01-08T18:16:51Z</dcterms:modified>
  <cp:revision>51</cp:revision>
  <dc:subject/>
  <dc:title>КУИНДЖИ АРХИП ИВАНОВИЧ</dc:title>
</cp:coreProperties>
</file>