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7D4-7049-48F4-A790-0BF69450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6B5-8660-4AB3-BB1F-5BBB3E8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97C-A823-4424-BB42-52204870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25B-26B3-466B-86F6-980311C0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F212-1F93-4F3E-85E2-509E877B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9E66-091D-4D6B-B78C-3EEA3F48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7174-B307-4E55-97D0-2EC4CDD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3E77-33DF-4BAA-8D31-23C8C5D7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C1D-FB29-44FB-8C98-9BC535A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B5A2-97A3-44D5-AE51-B08E1E83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697D-461C-4224-8643-E11BE9A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C38-3541-491F-B0F3-A925DD9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6DD-2993-4AC9-AB4E-CFF5BAB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A425-9D4C-4876-91F2-05DD49F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5EE-D78B-4B9F-9355-86C53B44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B567-ED4E-4838-ADAD-6E8F574E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E161-D0DE-437F-BD37-C574576E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8453-D020-450A-9F12-9CAFB780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000D-58AE-4932-B40B-5D1FD177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6615-6AAA-4F78-8606-DD39BF4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D8CC-4095-44EC-BA1E-7F75D692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6DF3-EFDE-4CED-956B-F61E490E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38-98C3-4D97-B00C-E1F092A3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AB44-73AF-4608-ACBA-EB7451C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FAE8-F326-4274-AA7B-8D5AD18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E735-CAF8-4E3F-9175-521C27A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BA25-93A6-4C91-8E3E-7461690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C089-36E4-4372-A312-1BF9AFA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980E-831D-48AD-B69E-6DD6BD0A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5F15-58A2-41AE-92A2-C860C0F2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0CBE-E0C7-414E-9DA7-0ADC2E43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F258-E4A8-4817-A567-92DC66C9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4367-DB53-4CB0-93B8-21EEF28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C2-AA22-44C3-AAD0-4750FA5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602F-0ABF-444E-ABB5-A9C057C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7F6E-096E-43EA-BFA5-1CD7745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FD0E-903E-4EAE-8DD3-40A6AD8A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267F-09BD-460A-AC3E-5084ACBE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E6D6-B699-4FD1-937E-EE692C3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08B5-BF0D-42C8-BC27-22EB5F3C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90CE-A8E1-471F-B7B0-BBA5D86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6B27-E03A-4624-AD8A-C0F5AF45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F8B5-ABE8-4776-84DC-E0B1F9A1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FCE-9F98-4031-887E-CF499CF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1B2-356B-43FF-AB8F-994F8D14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4EB-3106-4B0F-A65A-0AB8854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B95-0777-41BB-9295-902DBCB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B60-E395-4B5D-9D7B-CDFE74F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CBF-BD86-4F8D-BAD3-68A55A8AB3E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0460-2ED5-4DC0-A2FA-49A30E282CA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F5F-7E8E-41D0-80F4-65EE170242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76C-1C2F-4BF9-8196-F43496FE9D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1249200"/>
            <a:ext cx="8570880" cy="2530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4581360"/>
            <a:ext cx="8064720" cy="1656000"/>
          </a:xfrm>
          <a:prstGeom prst="rect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txBody>
          <a:bodyPr lIns="0" rIns="1836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боту выполнил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еница 4а класс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редней школы  № 35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.Санкт-Петербург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иц Поли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Зима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90- 189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kuind_177.jpg"/>
          <p:cNvPicPr/>
          <p:nvPr/>
        </p:nvPicPr>
        <p:blipFill>
          <a:blip r:embed="rId2"/>
          <a:stretch/>
        </p:blipFill>
        <p:spPr>
          <a:xfrm>
            <a:off x="1979640" y="2421000"/>
            <a:ext cx="525636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Эльбрус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. 1890-189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Содержимое 5" descr="Archip_Iwanowitsch_Kuindshi_002.jpg"/>
          <p:cNvPicPr/>
          <p:nvPr/>
        </p:nvPicPr>
        <p:blipFill>
          <a:blip r:embed="rId2"/>
          <a:stretch/>
        </p:blipFill>
        <p:spPr>
          <a:xfrm>
            <a:off x="1125360" y="1935000"/>
            <a:ext cx="689328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2"/>
          <a:stretch/>
        </p:blipFill>
        <p:spPr>
          <a:xfrm>
            <a:off x="682560" y="695160"/>
            <a:ext cx="8156520" cy="2998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ученица 4-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й школы №35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ц Поли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   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25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 Куинджи родился в Мариуполе в квартале Карасу, в семье бедного сапожника-грека. Рано лишился родителей и жил в большой бедности, пас гусей, служил у подрядчика по постройке церкви, потом у хлеботорговца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споминаниям товарищ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ша, Архип учился плох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рисовал постоян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http://www.artimes.org/cache/Bryullov%20Karl/brullov_118_600.jpg"/>
          <p:cNvPicPr/>
          <p:nvPr/>
        </p:nvPicPr>
        <p:blipFill>
          <a:blip r:embed="rId2"/>
          <a:stretch/>
        </p:blipFill>
        <p:spPr>
          <a:xfrm>
            <a:off x="5076720" y="2276640"/>
            <a:ext cx="4067280" cy="44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Юноша  дважды неудачно пытался поступить в  Петербургскую Академию художеств, его  можно считать самоуч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ь Архипа была проста. В памя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и  людей художник остался человек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пыльчивым, но очень добры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ным и умным. Исполне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сокого душевного благородства 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ремленный к поискам добра 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соты, Куинджи безраздельн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л  предан бескорыстному служени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усств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Файл:Vasnetsov Kuindzhi.jpg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413000"/>
            <a:ext cx="8589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 Куинджи является одним из выдающихся    пейзажистов наряду с художниками Алексеем    Саврасовым, Федором Васильевым, Иваном Шишкиным, Исааком Левитан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ы Куинджи сейчас хранятся в лучших музеях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ира, но самая обширная коллекция представлена 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м  Русском музее в Санкт-Петербурге – двести живописных работ худож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 из полотен потеряли прежний вид, но зрители  по -  прежнему стоят перед этими шедеврами, как  завороженные,- такая любовь к природе и восхищение ею от них исходи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Закат в степи на берегу моря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98-1908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image001.jpg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Волны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70-е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Содержимое 3" descr="560fd1cc9e15.jpg"/>
          <p:cNvPicPr/>
          <p:nvPr/>
        </p:nvPicPr>
        <p:blipFill>
          <a:blip r:embed="rId2"/>
          <a:stretch/>
        </p:blipFill>
        <p:spPr>
          <a:xfrm>
            <a:off x="1658880" y="1935000"/>
            <a:ext cx="5826240" cy="43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        </a:t>
            </a:r>
            <a:r>
              <a:rPr b="0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Лунная ночь на Днепре.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  <a:ea typeface="Arial"/>
              </a:rPr>
              <a:t>1880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7" descr="artlib_gallery-7673-b.jpg"/>
          <p:cNvPicPr/>
          <p:nvPr/>
        </p:nvPicPr>
        <p:blipFill>
          <a:blip r:embed="rId2"/>
          <a:stretch/>
        </p:blipFill>
        <p:spPr>
          <a:xfrm>
            <a:off x="1547640" y="2060640"/>
            <a:ext cx="584676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Радуга.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900-1905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5" descr="4287705.jpeg"/>
          <p:cNvPicPr/>
          <p:nvPr/>
        </p:nvPicPr>
        <p:blipFill>
          <a:blip r:embed="rId2"/>
          <a:stretch/>
        </p:blipFill>
        <p:spPr>
          <a:xfrm>
            <a:off x="2124000" y="2639880"/>
            <a:ext cx="4662720" cy="323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Ладожское озеро.1873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ladozhskoe_ozero._1873.jpg"/>
          <p:cNvPicPr/>
          <p:nvPr/>
        </p:nvPicPr>
        <p:blipFill>
          <a:blip r:embed="rId2"/>
          <a:stretch/>
        </p:blipFill>
        <p:spPr>
          <a:xfrm>
            <a:off x="2050920" y="1935000"/>
            <a:ext cx="482472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5:45:54Z</dcterms:created>
  <dc:creator>Олеся</dc:creator>
  <dc:description/>
  <dc:language>en-US</dc:language>
  <cp:lastModifiedBy>евгений</cp:lastModifiedBy>
  <dcterms:modified xsi:type="dcterms:W3CDTF">2012-01-06T20:06:18Z</dcterms:modified>
  <cp:revision>26</cp:revision>
  <dc:subject/>
  <dc:title>Архип Иванович Куинджи (1842-1910)</dc:title>
</cp:coreProperties>
</file>