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4A2-4AAB-4BBA-B521-395CC1E1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B70-CD64-4318-8F0D-D15242F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A84-4D62-4782-94AB-62B74EA8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8BF-4912-42D5-A849-25C829CA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12EC-7A12-4C4B-A2FA-A8130E8C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B537-54B5-4CE5-976F-292ADD26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293-C36C-48E3-BD9B-90B12FAE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F3C-207B-45B4-9AAE-878BEEF7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D4C3-EBCD-4A09-851A-19E15A8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5F59-E2AD-4492-90FD-F21F831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E1E8-9834-475F-ACD8-CA15435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139-824C-481D-B5C5-EF474923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EEC0-8894-4CF6-8183-CBCEFBD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473-4284-476B-99F9-C79E148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F8B6-FFC6-4AFA-B862-51F2DB3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899A-522E-4C1E-9F09-4932B8B6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7E8-DF75-4C37-AA9C-466E2635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59A2-B28D-4548-80F9-D80BEDAA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351C-612F-4C97-BE00-4A2B4A6A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903F-AA64-4452-BCBA-E769F68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ED35-045A-40A8-A97A-D53C5D45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3B7F-25C2-4B89-8DC1-B381B73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D1D-4469-420A-A92D-461CAE72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A9D2-8155-4B16-912A-99177C3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5B53-A999-4AF5-BD01-6F9C0A94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FF20-371C-43FE-A1B7-5F39D5F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D17C-1979-4802-9834-525676A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46E6-52F9-4914-A0F7-72E0A6A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2CF1-52FB-4CE5-B154-CCE6E4D2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1E0B-1FD5-42DE-B3D8-B919D669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A40F-2AB6-47E9-BCF8-173E5E7E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92DB-DBCF-4101-A018-D536F2FD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D955-7EE3-4BAB-921E-D8B7EC3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3C1-4ADE-4BD8-AFC3-4ED3CAA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2485-FCA0-4829-8CEE-B33D761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2195-9BB4-41E9-BBD5-D4D488A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969C-2D8A-4033-9AD1-D61AC7A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0A66-9193-42D0-99A6-33407A8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7C75-A5FE-4342-B313-F3AA646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2F63-626E-4F42-B04C-79905C1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0553-B067-4002-9F17-831EC505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54EC-4B8A-4F78-AD85-D075EBE2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0ABA-B642-4A5F-A1D8-9B9E1248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551-9146-4676-8AF6-C52B0D14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A6D-22CA-4E32-B72F-F19102DA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5F3-BE05-425C-BED6-3BA5420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A58-5044-4C1A-AC17-548AAEE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8A5-EC76-4CA8-81FE-C4C9906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B5E-F7A2-46EB-BA96-7B9F8183E24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453-8D38-4CC2-86DD-A5EBC8CF8A1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F1E0-994F-4483-BFFD-C59A5FD32E4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7F7-7D1F-48ED-AE6D-F563B08C21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1249200"/>
            <a:ext cx="8570880" cy="2530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4581360"/>
            <a:ext cx="8064720" cy="1656000"/>
          </a:xfrm>
          <a:prstGeom prst="rect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txBody>
          <a:bodyPr lIns="0" rIns="1836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боту выполнил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еница 4а класс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редней школы  № 35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.Санкт-Петербург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иц Поли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Зима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90- 189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kuind_177.jpg"/>
          <p:cNvPicPr/>
          <p:nvPr/>
        </p:nvPicPr>
        <p:blipFill>
          <a:blip r:embed="rId2"/>
          <a:stretch/>
        </p:blipFill>
        <p:spPr>
          <a:xfrm>
            <a:off x="1979640" y="2421000"/>
            <a:ext cx="525636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Эльбрус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. 1890-1895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Содержимое 5" descr="Archip_Iwanowitsch_Kuindshi_002.jpg"/>
          <p:cNvPicPr/>
          <p:nvPr/>
        </p:nvPicPr>
        <p:blipFill>
          <a:blip r:embed="rId2"/>
          <a:stretch/>
        </p:blipFill>
        <p:spPr>
          <a:xfrm>
            <a:off x="1125360" y="1935000"/>
            <a:ext cx="689328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2"/>
          <a:stretch/>
        </p:blipFill>
        <p:spPr>
          <a:xfrm>
            <a:off x="682560" y="695160"/>
            <a:ext cx="8156520" cy="2998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ученица 4-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й школы №35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ц Поли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   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25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 Куинджи родился в Мариуполе в квартале Карасу, в семье бедного сапожника-грека. Рано лишился родителей и жил в большой бедности, пас гусей, служил у подрядчика по постройке церкви, потом у хлеботорговца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споминаниям товарищ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аша, Архип учился плох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рисовал постоян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http://www.artimes.org/cache/Bryullov%20Karl/brullov_118_600.jpg"/>
          <p:cNvPicPr/>
          <p:nvPr/>
        </p:nvPicPr>
        <p:blipFill>
          <a:blip r:embed="rId2"/>
          <a:stretch/>
        </p:blipFill>
        <p:spPr>
          <a:xfrm>
            <a:off x="5076720" y="2276640"/>
            <a:ext cx="4067280" cy="44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Юноша  дважды неудачно пытался поступить в  Петербургскую Академию художеств, его  можно считать самоуч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ь Архипа была проста. В памя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и  людей художник остался человек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пыльчивым, но очень добры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ным и умным. Исполне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сокого душевного благородства 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ремленный к поискам добра 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соты, Куинджи безраздельн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л  предан бескорыстному служени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кусств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Файл:Vasnetsov Kuindzhi.jpg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413000"/>
            <a:ext cx="8589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п Куинджи является одним из выдающихся    пейзажистов наряду с художниками Алексеем    Саврасовым, Федором Васильевым, Иваном Шишкиным, Исааком Левитан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ы Куинджи сейчас хранятся в лучших музеях Росс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ира, но самая обширная коллекция представлена 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м  Русском музее в Санкт-Петербурге – двести живописных работ худож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 из полотен потеряли прежний вид, но зрители  по -  прежнему стоят перед этими шедеврами, как  завороженные,- такая любовь к природе и восхищение ею от них исходи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Закат в степи на берегу моря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98-1908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image001.jpg"/>
          <p:cNvPicPr/>
          <p:nvPr/>
        </p:nvPicPr>
        <p:blipFill>
          <a:blip r:embed="rId2"/>
          <a:stretch/>
        </p:blipFill>
        <p:spPr>
          <a:xfrm>
            <a:off x="1403280" y="1916280"/>
            <a:ext cx="621036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Волны.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870-е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Содержимое 3" descr="560fd1cc9e15.jpg"/>
          <p:cNvPicPr/>
          <p:nvPr/>
        </p:nvPicPr>
        <p:blipFill>
          <a:blip r:embed="rId2"/>
          <a:stretch/>
        </p:blipFill>
        <p:spPr>
          <a:xfrm>
            <a:off x="1658880" y="1935000"/>
            <a:ext cx="5826240" cy="43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        </a:t>
            </a:r>
            <a:r>
              <a:rPr b="0" lang="en-US" sz="3600" spc="-1" strike="noStrike">
                <a:solidFill>
                  <a:srgbClr val="04617b"/>
                </a:solidFill>
                <a:latin typeface="Arial"/>
                <a:ea typeface="Arial"/>
              </a:rPr>
              <a:t>Лунная ночь на Днепре.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  <a:ea typeface="Arial"/>
              </a:rPr>
              <a:t>1880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7" descr="artlib_gallery-7673-b.jpg"/>
          <p:cNvPicPr/>
          <p:nvPr/>
        </p:nvPicPr>
        <p:blipFill>
          <a:blip r:embed="rId2"/>
          <a:stretch/>
        </p:blipFill>
        <p:spPr>
          <a:xfrm>
            <a:off x="1547640" y="2060640"/>
            <a:ext cx="584676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Радуга.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1900-1905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5" descr="4287705.jpeg"/>
          <p:cNvPicPr/>
          <p:nvPr/>
        </p:nvPicPr>
        <p:blipFill>
          <a:blip r:embed="rId2"/>
          <a:stretch/>
        </p:blipFill>
        <p:spPr>
          <a:xfrm>
            <a:off x="2124000" y="2639880"/>
            <a:ext cx="4662720" cy="323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Ладожское озеро.1873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ladozhskoe_ozero._1873.jpg"/>
          <p:cNvPicPr/>
          <p:nvPr/>
        </p:nvPicPr>
        <p:blipFill>
          <a:blip r:embed="rId2"/>
          <a:stretch/>
        </p:blipFill>
        <p:spPr>
          <a:xfrm>
            <a:off x="2050920" y="1935000"/>
            <a:ext cx="482472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5:45:54Z</dcterms:created>
  <dc:creator>Олеся</dc:creator>
  <dc:description/>
  <dc:language>en-US</dc:language>
  <cp:lastModifiedBy>евгений</cp:lastModifiedBy>
  <dcterms:modified xsi:type="dcterms:W3CDTF">2012-01-06T20:06:18Z</dcterms:modified>
  <cp:revision>26</cp:revision>
  <dc:subject/>
  <dc:title>Архип Иванович Куинджи (1842-1910)</dc:title>
</cp:coreProperties>
</file>