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6DBE-536B-4A03-8BD7-216CB08C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2D12-9338-43E9-8A23-06D09881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665C-37DF-46B7-9740-CDBFBA66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19B6-3AC5-48FE-87CD-18D1A9B04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3671B-141D-4C20-9183-CE52B2F9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FBB17-69CF-4360-9444-A8F9FA7F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0A908-7D4E-4137-97A4-CCFA73B1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AB502-3E3E-4404-AE67-F56CF7AA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28DD1-4C7C-422D-83C5-34F6CC5B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477C9-A2FF-488F-8410-712FD609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8F0BD-5D29-4DF8-80A8-B77C01E9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3AED-A559-4D5C-80F6-B30C77B7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EB765-6042-40C8-BCB6-E8B40E39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AE4F1-AECA-4AE5-935A-7F807A9E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5C2F2-80A8-4B96-B8E3-0AB1337E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EC571-1767-4F70-B3F8-D70819C4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88DCF-3156-46DC-A7F1-2A1A84B1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B468-31CF-4269-BAF5-482779B9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B4E1-3B39-4C15-8DF7-61C86B1A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714C-2837-4077-AF1C-1B724AA5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92CE-A943-43EE-BFA5-8AB4C754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2F3-A06C-42E5-94BD-9C082BCE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6BF3-AFD2-44E0-BC2A-D1055DBA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2418-222B-4B95-AE81-01C7077D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8E65-2F5C-467B-9E44-395D4D50D0C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BD9D-59C2-480C-A18F-D38F873338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332000" y="1844640"/>
            <a:ext cx="68421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Иван Костантино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Айвазов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560" y="4868640"/>
            <a:ext cx="78598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Работу выполнила</a:t>
            </a:r>
            <a:br>
              <a:rPr sz="1800"/>
            </a:b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ученица 4а класса </a:t>
            </a:r>
            <a:br>
              <a:rPr sz="1800"/>
            </a:b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средней школы  № 352</a:t>
            </a:r>
            <a:br>
              <a:rPr sz="1800"/>
            </a:b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г.Санкт-Петербурга</a:t>
            </a:r>
            <a:br>
              <a:rPr sz="4000"/>
            </a:b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Дьячкова Али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А.С.Пушкин на берегу Чёрного моря 1897 186х141,5"/>
          <p:cNvPicPr/>
          <p:nvPr/>
        </p:nvPicPr>
        <p:blipFill>
          <a:blip r:embed="rId2"/>
          <a:stretch/>
        </p:blipFill>
        <p:spPr>
          <a:xfrm>
            <a:off x="2627280" y="189000"/>
            <a:ext cx="3849840" cy="5111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908000" y="5444280"/>
            <a:ext cx="55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.С.Пушкин на берегу Чёрного моря 1897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Афинский Акрополь 1883 74,5х63,5"/>
          <p:cNvPicPr/>
          <p:nvPr/>
        </p:nvPicPr>
        <p:blipFill>
          <a:blip r:embed="rId2"/>
          <a:stretch/>
        </p:blipFill>
        <p:spPr>
          <a:xfrm>
            <a:off x="2843280" y="549360"/>
            <a:ext cx="3916440" cy="4681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843280" y="5804640"/>
            <a:ext cx="39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финский Акрополь 188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Картинка 4 из 689"/>
          <p:cNvPicPr/>
          <p:nvPr/>
        </p:nvPicPr>
        <p:blipFill>
          <a:blip r:embed="rId2"/>
          <a:stretch/>
        </p:blipFill>
        <p:spPr>
          <a:xfrm>
            <a:off x="1763640" y="549360"/>
            <a:ext cx="6191280" cy="4647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059280" y="5661000"/>
            <a:ext cx="3305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ЕВЯТЫЙ ВАЛ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Варяжская сага - путь из варяг в греки 1876 132х235"/>
          <p:cNvPicPr/>
          <p:nvPr/>
        </p:nvPicPr>
        <p:blipFill>
          <a:blip r:embed="rId2"/>
          <a:stretch/>
        </p:blipFill>
        <p:spPr>
          <a:xfrm>
            <a:off x="971640" y="404640"/>
            <a:ext cx="7619760" cy="4400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403280" y="54572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аряжская сага - путь из варяг в греки 1876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Бушующее море 1872 29х18"/>
          <p:cNvPicPr/>
          <p:nvPr/>
        </p:nvPicPr>
        <p:blipFill>
          <a:blip r:embed="rId2"/>
          <a:stretch/>
        </p:blipFill>
        <p:spPr>
          <a:xfrm>
            <a:off x="2556000" y="476280"/>
            <a:ext cx="3456000" cy="4537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56000" y="5441400"/>
            <a:ext cx="30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ушующее море 187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Венчание поэта в Древней Греции  1886 94Х146"/>
          <p:cNvPicPr/>
          <p:nvPr/>
        </p:nvPicPr>
        <p:blipFill>
          <a:blip r:embed="rId2"/>
          <a:stretch/>
        </p:blipFill>
        <p:spPr>
          <a:xfrm>
            <a:off x="971640" y="404640"/>
            <a:ext cx="7619760" cy="4819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908000" y="5801760"/>
            <a:ext cx="48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енчание поэта в Древней Греции 1886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Ветряные мельницы в украинскойСтепи при закате солнца 1862 51х60"/>
          <p:cNvPicPr/>
          <p:nvPr/>
        </p:nvPicPr>
        <p:blipFill>
          <a:blip r:embed="rId2"/>
          <a:stretch/>
        </p:blipFill>
        <p:spPr>
          <a:xfrm>
            <a:off x="2124000" y="333360"/>
            <a:ext cx="5519880" cy="4678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62080" y="5515920"/>
            <a:ext cx="70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етряные мельницы в украинской Степи при закате солнц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Башни на скале у Босфора 1859 107х16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6124680" y="5229360"/>
            <a:ext cx="301932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БОТУ ВЫПОЛНИЛ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ЧЕНИЦА 4-А КЛАСС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52 ШКОЛ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ЬЯЧКОВА АЛИС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484360" y="1052640"/>
            <a:ext cx="49482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Картинка 4 из 24169"/>
          <p:cNvPicPr/>
          <p:nvPr/>
        </p:nvPicPr>
        <p:blipFill>
          <a:blip r:embed="rId2"/>
          <a:stretch/>
        </p:blipFill>
        <p:spPr>
          <a:xfrm>
            <a:off x="2556000" y="260280"/>
            <a:ext cx="3527280" cy="4824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050920" y="5229360"/>
            <a:ext cx="4762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7.07.1817-19.04.190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237600"/>
            <a:ext cx="86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7 (29) июля 1817 года священник армянской церкви города Феодосии сделал запись о том, что у Константина (Геворга) Гайвазовского и его жены Рипсиме родился «Ованес, сын Геворга Айвазяна». Предки Айвазовского были из галицийских армян, переселившихся в Галицию из турецкой Армении) в XVIII в. Известно, что его родственники владели крупной земельной собственностью в районе Львова, однако никаких документов, бросающих более подробный свет на происхождение Айвазовского, не сохранилось. Его отец Константин (Геворг) и после переселения в Феодосию писал фамилию на польский манер: «Гайвазовский» (фамилия — полонизированная форма армянской фамилии Айвазян). Сам Айвазовский в своей автобиографии говорит об отце, что тот ввиду ссоры со своими братьями в юности переселился из Галиции в Дунайские княжества (Молдавию, Валахию) где занялся торговлей, оттуда в Феодосию; знал несколько язык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Картинка 4 из 96"/>
          <p:cNvPicPr/>
          <p:nvPr/>
        </p:nvPicPr>
        <p:blipFill>
          <a:blip r:embed="rId2"/>
          <a:stretch/>
        </p:blipFill>
        <p:spPr>
          <a:xfrm>
            <a:off x="1403280" y="4122720"/>
            <a:ext cx="2521080" cy="2735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Айвазовский"/>
          <p:cNvPicPr/>
          <p:nvPr/>
        </p:nvPicPr>
        <p:blipFill>
          <a:blip r:embed="rId3"/>
          <a:stretch/>
        </p:blipFill>
        <p:spPr>
          <a:xfrm>
            <a:off x="5651640" y="4149720"/>
            <a:ext cx="2089080" cy="2708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619280" y="692280"/>
            <a:ext cx="56595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ОМ АЙВАЗОВСКОГО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0" name="" descr="Картинка 22 из 2488"/>
          <p:cNvPicPr/>
          <p:nvPr/>
        </p:nvPicPr>
        <p:blipFill>
          <a:blip r:embed="rId4"/>
          <a:stretch/>
        </p:blipFill>
        <p:spPr>
          <a:xfrm>
            <a:off x="4572000" y="2276640"/>
            <a:ext cx="4211640" cy="3292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Картинка 2 из 2488"/>
          <p:cNvPicPr/>
          <p:nvPr/>
        </p:nvPicPr>
        <p:blipFill>
          <a:blip r:embed="rId5"/>
          <a:stretch/>
        </p:blipFill>
        <p:spPr>
          <a:xfrm>
            <a:off x="324000" y="2421000"/>
            <a:ext cx="4066920" cy="3051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51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18936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ик Айвазовских стоял на окраине города, на возвышенном месте. С террасы, увитой виноградной лозой, открывалась широкая панорама на плавную дугу феодосийского залива, северо-крымские степи с древними курганами, на Арабатскую стрелку и Сиваши, встающие как марево на горизонте. У берега лежало кольцо хорошо сохранившихся старинных крепостных стен и башен с грозными бойницами. Здесь смолоду будущий художник научился распознавать в черепках старинной посуды, обомшелых архитектурных обломках и позеленевших монетах черты давно отшумевшей, полной грозными событиями жизн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Картинка 27 из 2488"/>
          <p:cNvPicPr/>
          <p:nvPr/>
        </p:nvPicPr>
        <p:blipFill>
          <a:blip r:embed="rId2"/>
          <a:stretch/>
        </p:blipFill>
        <p:spPr>
          <a:xfrm>
            <a:off x="2340000" y="278136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334080"/>
            <a:ext cx="885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ре всегда имело огромную притягательную силу для художников. Нет ни одного русского живописца, который, побывав у моря, не пытался бы изобразить его. У одних это были эпизодические этюды, не связанные с основным ходом развития их искусства, другие время от времени возвращались к этой теме, уделяя значительное место изображению моря в своих картинах. Среди художников русской школы только Айвазовский целиком отдал свой большой талантмаринистической живописи. От природы он был наделен блестящим дарованием, быстро развившимся благодаря счастливо сложившимся обстоятельствам и благодаря среде, в какой протекли его детство и юнос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Картинка 16 из 2462"/>
          <p:cNvPicPr/>
          <p:nvPr/>
        </p:nvPicPr>
        <p:blipFill>
          <a:blip r:embed="rId2"/>
          <a:stretch/>
        </p:blipFill>
        <p:spPr>
          <a:xfrm>
            <a:off x="1258920" y="3213000"/>
            <a:ext cx="2666880" cy="3240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Картинка 3 из 292470"/>
          <p:cNvPicPr/>
          <p:nvPr/>
        </p:nvPicPr>
        <p:blipFill>
          <a:blip r:embed="rId3"/>
          <a:stretch/>
        </p:blipFill>
        <p:spPr>
          <a:xfrm>
            <a:off x="4356000" y="3357720"/>
            <a:ext cx="3786120" cy="3028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4360" y="411840"/>
            <a:ext cx="75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частливая случайность привела Айвазовского из глухой Феодосии в Петербург, где в 1833 году по представленным детским рисункам он был зачислен в Академию художеств, в пейзажный класс профессора М. Н. Воробье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Картинка 10 из 7639"/>
          <p:cNvPicPr/>
          <p:nvPr/>
        </p:nvPicPr>
        <p:blipFill>
          <a:blip r:embed="rId2"/>
          <a:stretch/>
        </p:blipFill>
        <p:spPr>
          <a:xfrm>
            <a:off x="684360" y="2565360"/>
            <a:ext cx="3992400" cy="2691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Картинка 17 из 7639"/>
          <p:cNvPicPr/>
          <p:nvPr/>
        </p:nvPicPr>
        <p:blipFill>
          <a:blip r:embed="rId3"/>
          <a:stretch/>
        </p:blipFill>
        <p:spPr>
          <a:xfrm>
            <a:off x="5076720" y="2637000"/>
            <a:ext cx="3772080" cy="2828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 0.125 0.16651 C 0.125 0.25843 0.069 0.33302 0 0.33302 C -0.069 0.33302 -0.125 0.25843 -0.125 0.16651 C -0.125 0.0746 -0.069 0 0 0 Z">
                                      <p:cBhvr>
                                        <p:cTn id="107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9 L 0.108 0.08259 L 0.072 0.16651 L 0.108 0.2491 L 0.036 0.2491 L 0 0.33302 L -0.036 0.2491 L -0.108 0.2491 L -0.072 0.16651 L -0.108 0.08259 L -0.036 0.08259 L 0 0 Z">
                                      <p:cBhvr>
                                        <p:cTn id="111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1 0.058 -0.05861 C 0.095 -0.05861 0.125 -0.02265 0.125 0.02265 C 0.125 0.0373 0.122 0.05062 0.116 0.06261 C 0.117 0.06261 0 0.24244 0 0.24377 C 0 0.24244 -0.117 0.06261 -0.116 0.06261 C -0.122 0.05062 -0.125 0.0373 -0.125 0.02265 C -0.125 -0.02265 -0.095 -0.05861 -0.057 -0.05861 C -0.033 -0.05861 -0.012 -0.02398 0 0 Z">
                                      <p:cBhvr>
                                        <p:cTn id="115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11280" y="18972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рование Айвазовского раскрылось необыкновенно рано. В 1835 году за этюд «Воздух над морем» ему уже была присуждена серебряная медаль второго достоинства. А в 1837 году на академической выставке он показал шесть картин, получивших высокую оценку общественности и Совета Академии художеств, который постановил: «Как I-ой ст. академист, Гайвазовский (фамилию Гайвазовский художник в 1841 году изменил на Айвазовский) удостоен к получению за превосходные успехи в живописи морских видов золотой медали первой степени, с которою сопряжено право путешествия в чужие края для усовершенствования». За молодостью лет он был в 1838 году послан на два года в Крым для самостоятельных рабо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Картинка 48 из 2870"/>
          <p:cNvPicPr/>
          <p:nvPr/>
        </p:nvPicPr>
        <p:blipFill>
          <a:blip r:embed="rId2"/>
          <a:stretch/>
        </p:blipFill>
        <p:spPr>
          <a:xfrm>
            <a:off x="1476360" y="3716280"/>
            <a:ext cx="2735280" cy="2952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Картинка 51 из 2870"/>
          <p:cNvPicPr/>
          <p:nvPr/>
        </p:nvPicPr>
        <p:blipFill>
          <a:blip r:embed="rId3"/>
          <a:stretch/>
        </p:blipFill>
        <p:spPr>
          <a:xfrm>
            <a:off x="5508720" y="3716280"/>
            <a:ext cx="2303280" cy="2952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26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63640" y="404640"/>
            <a:ext cx="5446800" cy="4588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26920" y="5157360"/>
            <a:ext cx="75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바탕"/>
              </a:rPr>
              <a:t>И.К. Айвазовский за письменным столом.Автопортрет.188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47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6T12:51:41Z</dcterms:created>
  <dc:creator>Alice</dc:creator>
  <dc:description/>
  <dc:language>en-US</dc:language>
  <cp:lastModifiedBy>евгений</cp:lastModifiedBy>
  <dcterms:modified xsi:type="dcterms:W3CDTF">2012-01-08T17:15:23Z</dcterms:modified>
  <cp:revision>5</cp:revision>
  <dc:subject/>
  <dc:title>Слайд 1</dc:title>
</cp:coreProperties>
</file>