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F95-B230-4F3E-B145-4E01BE63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3AA-0C78-4B7C-BDF8-778B0A1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2AD-DA90-4D04-BAC8-1629F501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A80-876E-4383-988F-DAEB38ED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41A9-E97D-4B0F-9B12-B9BFB061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89190-27A8-4C27-9194-41E71901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A4944-FFF8-4551-8679-457BDFE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6FA5-CED2-4A05-91EA-11FA41E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7C41-ECF0-4125-A3C2-85CBDE5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D58B2-7117-409F-A7DE-5654D5A0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637C-95AC-489D-B714-B7C5B858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842-082C-41CD-A298-A5C3430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0815-9F1A-44BF-85E0-B01B7E0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E2313-94B8-49F4-B323-7C4893A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576F9-CD0F-403B-8FA9-30076B40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190C4-B401-4F4F-A97C-BB6D576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8F56-C9BB-4567-AF81-DE1F1750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42C-D931-4CB7-B3A9-15A0B94F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808-93E7-40AC-A81E-7E468CF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553-649E-42B9-8E9F-F4BC5A6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C69-2EA3-4161-A2F4-072DFC2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8FD-7215-467E-9B90-6A46A64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ADD-4B24-42F9-8D00-5ABB531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22B-91AF-4B21-B924-538DEE5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8080-AA2B-438F-90F9-B3ED052CD5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47E-C7F1-4C08-8CC4-778D6F9027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332000" y="1844640"/>
            <a:ext cx="6842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ван Костанти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йваз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868640"/>
            <a:ext cx="7859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Работу выполнила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ученица 4а класса 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средней школы  № 352</a:t>
            </a:r>
            <a:br>
              <a:rPr sz="18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г.Санкт-Петербурга</a:t>
            </a:r>
            <a:br>
              <a:rPr sz="4000"/>
            </a:b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Дьячкова Али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А.С.Пушкин на берегу Чёрного моря 1897 186х141,5"/>
          <p:cNvPicPr/>
          <p:nvPr/>
        </p:nvPicPr>
        <p:blipFill>
          <a:blip r:embed="rId2"/>
          <a:stretch/>
        </p:blipFill>
        <p:spPr>
          <a:xfrm>
            <a:off x="2627280" y="189000"/>
            <a:ext cx="3849840" cy="51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8000" y="5444280"/>
            <a:ext cx="55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Пушкин на берегу Чёрного моря 1897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Афинский Акрополь 1883 74,5х63,5"/>
          <p:cNvPicPr/>
          <p:nvPr/>
        </p:nvPicPr>
        <p:blipFill>
          <a:blip r:embed="rId2"/>
          <a:stretch/>
        </p:blipFill>
        <p:spPr>
          <a:xfrm>
            <a:off x="2843280" y="549360"/>
            <a:ext cx="3916440" cy="46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43280" y="5804640"/>
            <a:ext cx="39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финский Акрополь 188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ртинка 4 из 689"/>
          <p:cNvPicPr/>
          <p:nvPr/>
        </p:nvPicPr>
        <p:blipFill>
          <a:blip r:embed="rId2"/>
          <a:stretch/>
        </p:blipFill>
        <p:spPr>
          <a:xfrm>
            <a:off x="1763640" y="549360"/>
            <a:ext cx="6191280" cy="4647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59280" y="5661000"/>
            <a:ext cx="33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ВЯТЫЙ В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Варяжская сага - путь из варяг в греки 1876 132х235"/>
          <p:cNvPicPr/>
          <p:nvPr/>
        </p:nvPicPr>
        <p:blipFill>
          <a:blip r:embed="rId2"/>
          <a:stretch/>
        </p:blipFill>
        <p:spPr>
          <a:xfrm>
            <a:off x="971640" y="40464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54572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ряжская сага - путь из варяг в греки 1876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Бушующее море 1872 29х18"/>
          <p:cNvPicPr/>
          <p:nvPr/>
        </p:nvPicPr>
        <p:blipFill>
          <a:blip r:embed="rId2"/>
          <a:stretch/>
        </p:blipFill>
        <p:spPr>
          <a:xfrm>
            <a:off x="2556000" y="476280"/>
            <a:ext cx="3456000" cy="453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5441400"/>
            <a:ext cx="30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ушующее море 187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Венчание поэта в Древней Греции  1886 94Х146"/>
          <p:cNvPicPr/>
          <p:nvPr/>
        </p:nvPicPr>
        <p:blipFill>
          <a:blip r:embed="rId2"/>
          <a:stretch/>
        </p:blipFill>
        <p:spPr>
          <a:xfrm>
            <a:off x="971640" y="404640"/>
            <a:ext cx="7619760" cy="481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80176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нчание поэта в Древней Греции 1886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Ветряные мельницы в украинскойСтепи при закате солнца 1862 51х60"/>
          <p:cNvPicPr/>
          <p:nvPr/>
        </p:nvPicPr>
        <p:blipFill>
          <a:blip r:embed="rId2"/>
          <a:stretch/>
        </p:blipFill>
        <p:spPr>
          <a:xfrm>
            <a:off x="2124000" y="333360"/>
            <a:ext cx="5519880" cy="4678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2080" y="5515920"/>
            <a:ext cx="70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тряные мельницы в украинской Степи при закате солнц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Башни на скале у Босфора 1859 107х1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6124680" y="5229360"/>
            <a:ext cx="30193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У ВЫПОЛНИ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НИЦА 4-А КЛАС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52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ЬЯЧКОВА АЛИ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84360" y="1052640"/>
            <a:ext cx="49482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Картинка 4 из 24169"/>
          <p:cNvPicPr/>
          <p:nvPr/>
        </p:nvPicPr>
        <p:blipFill>
          <a:blip r:embed="rId2"/>
          <a:stretch/>
        </p:blipFill>
        <p:spPr>
          <a:xfrm>
            <a:off x="2556000" y="260280"/>
            <a:ext cx="352728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050920" y="5229360"/>
            <a:ext cx="476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.07.1817-19.04.190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376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 (29) июля 1817 года священник армянской церкви города Феодосии сделал запись о том, что у Константина (Геворга) Гайвазовского и его жены Рипсиме родился «Ованес, сын Геворга Айвазяна». Предки Айвазовского были из галицийских армян, переселившихся в Галицию из турецкой Армении) в XVIII в. Известно, что его родственники владели крупной земельной собственностью в районе Львова, однако никаких документов, бросающих более подробный свет на происхождение Айвазовского, не сохранилось. Его отец Константин (Геворг) и после переселения в Феодосию писал фамилию на польский манер: «Гайвазовский» (фамилия — полонизированная форма армянской фамилии Айвазян). Сам Айвазовский в своей автобиографии говорит об отце, что тот ввиду ссоры со своими братьями в юности переселился из Галиции в Дунайские княжества (Молдавию, Валахию) где занялся торговлей, оттуда в Феодосию; знал несколько язы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Картинка 4 из 96"/>
          <p:cNvPicPr/>
          <p:nvPr/>
        </p:nvPicPr>
        <p:blipFill>
          <a:blip r:embed="rId2"/>
          <a:stretch/>
        </p:blipFill>
        <p:spPr>
          <a:xfrm>
            <a:off x="1403280" y="4122720"/>
            <a:ext cx="2521080" cy="273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Айвазовский"/>
          <p:cNvPicPr/>
          <p:nvPr/>
        </p:nvPicPr>
        <p:blipFill>
          <a:blip r:embed="rId3"/>
          <a:stretch/>
        </p:blipFill>
        <p:spPr>
          <a:xfrm>
            <a:off x="5651640" y="4149720"/>
            <a:ext cx="208908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19280" y="692280"/>
            <a:ext cx="5659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 АЙВАЗОВСКОГ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Картинка 22 из 2488"/>
          <p:cNvPicPr/>
          <p:nvPr/>
        </p:nvPicPr>
        <p:blipFill>
          <a:blip r:embed="rId4"/>
          <a:stretch/>
        </p:blipFill>
        <p:spPr>
          <a:xfrm>
            <a:off x="4572000" y="2276640"/>
            <a:ext cx="4211640" cy="3292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Картинка 2 из 2488"/>
          <p:cNvPicPr/>
          <p:nvPr/>
        </p:nvPicPr>
        <p:blipFill>
          <a:blip r:embed="rId5"/>
          <a:stretch/>
        </p:blipFill>
        <p:spPr>
          <a:xfrm>
            <a:off x="324000" y="2421000"/>
            <a:ext cx="4066920" cy="3051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36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к Айвазовских стоял на окраине города, на возвышенном месте. С террасы, увитой виноградной лозой, открывалась широкая панорама на плавную дугу феодосийского залива, северо-крымские степи с древними курганами, на Арабатскую стрелку и Сиваши, встающие как марево на горизонте. У берега лежало кольцо хорошо сохранившихся старинных крепостных стен и башен с грозными бойницами. Здесь смолоду будущий художник научился распознавать в черепках старинной посуды, обомшелых архитектурных обломках и позеленевших монетах черты давно отшумевшей, полной грозными событиями жиз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ртинка 27 из 2488"/>
          <p:cNvPicPr/>
          <p:nvPr/>
        </p:nvPicPr>
        <p:blipFill>
          <a:blip r:embed="rId2"/>
          <a:stretch/>
        </p:blipFill>
        <p:spPr>
          <a:xfrm>
            <a:off x="2340000" y="278136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3408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ре всегда имело огромную притягательную силу для художников. Нет ни одного русского живописца, который, побывав у моря, не пытался бы изобразить его. У одних это были эпизодические этюды, не связанные с основным ходом развития их искусства, другие время от времени возвращались к этой теме, уделяя значительное место изображению моря в своих картинах. Среди художников русской школы только Айвазовский целиком отдал свой большой талантмаринистической живописи. От природы он был наделен блестящим дарованием, быстро развившимся благодаря счастливо сложившимся обстоятельствам и благодаря среде, в какой протекли его детство и ю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Картинка 16 из 2462"/>
          <p:cNvPicPr/>
          <p:nvPr/>
        </p:nvPicPr>
        <p:blipFill>
          <a:blip r:embed="rId2"/>
          <a:stretch/>
        </p:blipFill>
        <p:spPr>
          <a:xfrm>
            <a:off x="1258920" y="3213000"/>
            <a:ext cx="2666880" cy="324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 из 292470"/>
          <p:cNvPicPr/>
          <p:nvPr/>
        </p:nvPicPr>
        <p:blipFill>
          <a:blip r:embed="rId3"/>
          <a:stretch/>
        </p:blipFill>
        <p:spPr>
          <a:xfrm>
            <a:off x="4356000" y="3357720"/>
            <a:ext cx="3786120" cy="302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41184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частливая случайность привела Айвазовского из глухой Феодосии в Петербург, где в 1833 году по представленным детским рисункам он был зачислен в Академию художеств, в пейзажный класс профессора М. Н. Воробье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Картинка 10 из 7639"/>
          <p:cNvPicPr/>
          <p:nvPr/>
        </p:nvPicPr>
        <p:blipFill>
          <a:blip r:embed="rId2"/>
          <a:stretch/>
        </p:blipFill>
        <p:spPr>
          <a:xfrm>
            <a:off x="684360" y="2565360"/>
            <a:ext cx="3992400" cy="269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17 из 7639"/>
          <p:cNvPicPr/>
          <p:nvPr/>
        </p:nvPicPr>
        <p:blipFill>
          <a:blip r:embed="rId3"/>
          <a:stretch/>
        </p:blipFill>
        <p:spPr>
          <a:xfrm>
            <a:off x="5076720" y="263700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11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89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рование Айвазовского раскрылось необыкновенно рано. В 1835 году за этюд «Воздух над морем» ему уже была присуждена серебряная медаль второго достоинства. А в 1837 году на академической выставке он показал шесть картин, получивших высокую оценку общественности и Совета Академии художеств, который постановил: «Как I-ой ст. академист, Гайвазовский (фамилию Гайвазовский художник в 1841 году изменил на Айвазовский) удостоен к получению за превосходные успехи в живописи морских видов золотой медали первой степени, с которою сопряжено право путешествия в чужие края для усовершенствования». За молодостью лет он был в 1838 году послан на два года в Крым для самостоятельных рабо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Картинка 48 из 2870"/>
          <p:cNvPicPr/>
          <p:nvPr/>
        </p:nvPicPr>
        <p:blipFill>
          <a:blip r:embed="rId2"/>
          <a:stretch/>
        </p:blipFill>
        <p:spPr>
          <a:xfrm>
            <a:off x="1476360" y="3716280"/>
            <a:ext cx="2735280" cy="295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51 из 2870"/>
          <p:cNvPicPr/>
          <p:nvPr/>
        </p:nvPicPr>
        <p:blipFill>
          <a:blip r:embed="rId3"/>
          <a:stretch/>
        </p:blipFill>
        <p:spPr>
          <a:xfrm>
            <a:off x="5508720" y="371628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446800" cy="458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515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바탕"/>
              </a:rPr>
              <a:t>И.К. Айвазовский за письменным столом.Автопортрет.188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2:51:41Z</dcterms:created>
  <dc:creator>Alice</dc:creator>
  <dc:description/>
  <dc:language>en-US</dc:language>
  <cp:lastModifiedBy>евгений</cp:lastModifiedBy>
  <dcterms:modified xsi:type="dcterms:W3CDTF">2012-01-08T17:15:23Z</dcterms:modified>
  <cp:revision>5</cp:revision>
  <dc:subject/>
  <dc:title>Слайд 1</dc:title>
</cp:coreProperties>
</file>