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3B14-13DB-4367-9489-018CB46A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16B2-3929-4B0E-8A1A-59DFCE58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1D1C-57AF-4A5E-8F8D-06C867CA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AFDC-8676-4E31-973D-1873A79D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743-47D9-4FE0-85B7-48E490F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C54E-2A9F-4AC9-AEF6-7C530983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7FC-D25C-4961-93A8-7C6C98FC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860D-C438-4DFB-B5C1-E6F0640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5432-7C8A-44E3-A24A-CA9CF2ED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8B9-D1F1-4959-B758-DF5DCCF0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D03D-559A-459C-A70C-A28C631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B336-673F-4BE6-A027-10E31820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FE19-BBFB-4A87-9039-5E69334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B1CC-AA33-4F1B-B767-BFC57CE1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38B0-E0EB-41E0-BD4F-9014A5FE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EA86-7212-4D31-AE60-EE40449D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A85D-E707-45AA-AC32-EA47B607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A22F-6B62-45B9-9841-364BA34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28E0-EBBA-4F1E-9CCF-E1B80948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0BE5-FE3B-4216-A580-2F2D6355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32C6-60D0-401F-A61E-5AE120A3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A9B3-3CE8-455E-B54A-1375D94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1458-5E99-4E08-ACEB-13D8FC5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817B-95FA-470B-B6AD-02B4D5E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3793-08C2-432A-85EF-11AD74694C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4EB-ABF6-48FF-9959-CFD59D43AF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42920" y="1052640"/>
            <a:ext cx="7561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аак Ильич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витан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Работу выполнила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ученица 4а класса 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средней школы  № 352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г.Санкт-Петербурга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Дьячкова Алиса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мастерская"/>
          <p:cNvPicPr/>
          <p:nvPr/>
        </p:nvPicPr>
        <p:blipFill>
          <a:blip r:embed="rId1"/>
          <a:stretch/>
        </p:blipFill>
        <p:spPr>
          <a:xfrm>
            <a:off x="1476360" y="404640"/>
            <a:ext cx="6191280" cy="4581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332000" y="5229360"/>
            <a:ext cx="54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Мастерская Левита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133200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Левитан и Серов"/>
          <p:cNvPicPr/>
          <p:nvPr/>
        </p:nvPicPr>
        <p:blipFill>
          <a:blip r:embed="rId1"/>
          <a:stretch/>
        </p:blipFill>
        <p:spPr>
          <a:xfrm>
            <a:off x="1332000" y="404640"/>
            <a:ext cx="6307200" cy="4677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24000" y="5373720"/>
            <a:ext cx="88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никальный кадр-Серов пишет портрет Левитан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627280" y="53737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ЛИНА РЕ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" descr="Долина реки"/>
          <p:cNvPicPr/>
          <p:nvPr/>
        </p:nvPicPr>
        <p:blipFill>
          <a:blip r:embed="rId1"/>
          <a:stretch/>
        </p:blipFill>
        <p:spPr>
          <a:xfrm>
            <a:off x="1476360" y="189000"/>
            <a:ext cx="5996160" cy="4879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апрель"/>
          <p:cNvPicPr/>
          <p:nvPr/>
        </p:nvPicPr>
        <p:blipFill>
          <a:blip r:embed="rId1"/>
          <a:stretch/>
        </p:blipFill>
        <p:spPr>
          <a:xfrm>
            <a:off x="1258920" y="549360"/>
            <a:ext cx="6191280" cy="423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340000" y="5013360"/>
            <a:ext cx="392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ВАЯ ЗЕЛ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ПРЕЛ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усадьба"/>
          <p:cNvPicPr/>
          <p:nvPr/>
        </p:nvPicPr>
        <p:blipFill>
          <a:blip r:embed="rId1"/>
          <a:stretch/>
        </p:blipFill>
        <p:spPr>
          <a:xfrm>
            <a:off x="1835280" y="333360"/>
            <a:ext cx="6035400" cy="461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700360" y="5013360"/>
            <a:ext cx="4152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ЗДНЯЯ ОС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АДЬБ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пастель"/>
          <p:cNvPicPr/>
          <p:nvPr/>
        </p:nvPicPr>
        <p:blipFill>
          <a:blip r:embed="rId1"/>
          <a:stretch/>
        </p:blipFill>
        <p:spPr>
          <a:xfrm>
            <a:off x="1979640" y="620640"/>
            <a:ext cx="4824360" cy="3808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700360" y="501336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МУРЫЙ Д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большая дорога"/>
          <p:cNvPicPr/>
          <p:nvPr/>
        </p:nvPicPr>
        <p:blipFill>
          <a:blip r:embed="rId1"/>
          <a:stretch/>
        </p:blipFill>
        <p:spPr>
          <a:xfrm>
            <a:off x="1403280" y="549360"/>
            <a:ext cx="6932520" cy="4422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340000" y="5157720"/>
            <a:ext cx="4514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ЛНЕЧНЫЙ Д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ОЛЬШАЯ ДОРОГ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осень, река"/>
          <p:cNvPicPr/>
          <p:nvPr/>
        </p:nvPicPr>
        <p:blipFill>
          <a:blip r:embed="rId1"/>
          <a:stretch/>
        </p:blipFill>
        <p:spPr>
          <a:xfrm>
            <a:off x="1403280" y="836640"/>
            <a:ext cx="5924520" cy="4070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771640" y="5084640"/>
            <a:ext cx="345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ЕНЬ.РЕ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море"/>
          <p:cNvPicPr/>
          <p:nvPr/>
        </p:nvPicPr>
        <p:blipFill>
          <a:blip r:embed="rId1"/>
          <a:stretch/>
        </p:blipFill>
        <p:spPr>
          <a:xfrm>
            <a:off x="1332000" y="620640"/>
            <a:ext cx="6622920" cy="3862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124000" y="4869000"/>
            <a:ext cx="455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РЕГ МОРЯ.КРЫМ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италия"/>
          <p:cNvPicPr/>
          <p:nvPr/>
        </p:nvPicPr>
        <p:blipFill>
          <a:blip r:embed="rId1"/>
          <a:stretch/>
        </p:blipFill>
        <p:spPr>
          <a:xfrm>
            <a:off x="1116000" y="333360"/>
            <a:ext cx="6572160" cy="4699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195640" y="5229360"/>
            <a:ext cx="474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СЕВЕРЕ ИТАЛИ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89000"/>
            <a:ext cx="9145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дился 18 авгус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60 года в местечке Кибарт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валкской губернии в Литве,в образованной еврейской семь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8" name="" descr="Картинка 1 из 3517"/>
          <p:cNvPicPr/>
          <p:nvPr/>
        </p:nvPicPr>
        <p:blipFill>
          <a:blip r:embed="rId2"/>
          <a:stretch/>
        </p:blipFill>
        <p:spPr>
          <a:xfrm>
            <a:off x="395280" y="3716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31 из 4006"/>
          <p:cNvPicPr/>
          <p:nvPr/>
        </p:nvPicPr>
        <p:blipFill>
          <a:blip r:embed="rId3"/>
          <a:stretch/>
        </p:blipFill>
        <p:spPr>
          <a:xfrm>
            <a:off x="4643280" y="3716280"/>
            <a:ext cx="4286520" cy="2847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папорот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547640" y="620640"/>
            <a:ext cx="56293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2725920" cy="183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64 из 4006"/>
          <p:cNvPicPr/>
          <p:nvPr/>
        </p:nvPicPr>
        <p:blipFill>
          <a:blip r:embed="rId2"/>
          <a:stretch/>
        </p:blipFill>
        <p:spPr>
          <a:xfrm>
            <a:off x="4788000" y="260280"/>
            <a:ext cx="3227400" cy="215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65 из 4006"/>
          <p:cNvPicPr/>
          <p:nvPr/>
        </p:nvPicPr>
        <p:blipFill>
          <a:blip r:embed="rId3"/>
          <a:stretch/>
        </p:blipFill>
        <p:spPr>
          <a:xfrm>
            <a:off x="5724360" y="2492280"/>
            <a:ext cx="2395800" cy="360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а 68 из 4006"/>
          <p:cNvPicPr/>
          <p:nvPr/>
        </p:nvPicPr>
        <p:blipFill>
          <a:blip r:embed="rId4"/>
          <a:stretch/>
        </p:blipFill>
        <p:spPr>
          <a:xfrm>
            <a:off x="3059280" y="2421000"/>
            <a:ext cx="2395440" cy="36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77 из 4006"/>
          <p:cNvPicPr/>
          <p:nvPr/>
        </p:nvPicPr>
        <p:blipFill>
          <a:blip r:embed="rId5"/>
          <a:stretch/>
        </p:blipFill>
        <p:spPr>
          <a:xfrm>
            <a:off x="395280" y="2708280"/>
            <a:ext cx="215424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Картинка 5 из 25"/>
          <p:cNvPicPr/>
          <p:nvPr/>
        </p:nvPicPr>
        <p:blipFill>
          <a:blip r:embed="rId1"/>
          <a:stretch/>
        </p:blipFill>
        <p:spPr>
          <a:xfrm>
            <a:off x="539640" y="692280"/>
            <a:ext cx="3757680" cy="475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48360" y="1773360"/>
            <a:ext cx="3456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ди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.И.Левит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549000"/>
            <a:ext cx="81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мотря на бедность и скудность средств (кроме Исаака, в семье был еще сын и две дочери), в доме Левитанов царила добрая и чистая атмосфера, благоприятная для духовного развития детей. Отец сам обучал их грамо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Картинка 14 из 76"/>
          <p:cNvPicPr/>
          <p:nvPr/>
        </p:nvPicPr>
        <p:blipFill>
          <a:blip r:embed="rId1"/>
          <a:stretch/>
        </p:blipFill>
        <p:spPr>
          <a:xfrm>
            <a:off x="2124000" y="2421000"/>
            <a:ext cx="5040360" cy="3278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480" y="189000"/>
            <a:ext cx="9029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ья Левитана,в начале 1870-х  в переехал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Москву.Осень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873 в училище поступил и Исаак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111640" cy="266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47700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переезда семья Левитанов жила бедно, перебиваясь грошовой оплатой за уроки французского и английского языка, которые давал отец. Тем не менее, родители чутко отнеслись к увлечению сыновей искусством и не возражали, когда в 1870 году старший сын Авель, а затем, в 1873 году, и Исаак решили поступить в Московское училище живописи, ваяния и зодчества. Сейчас нам остается только благодарить и молиться за родителей Левитана, этих безымянных героев, которые своим кротким трудом помогли подняться Исааку и стать тем, кем он встал в своей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Картинка 11 из 23572"/>
          <p:cNvPicPr/>
          <p:nvPr/>
        </p:nvPicPr>
        <p:blipFill>
          <a:blip r:embed="rId1"/>
          <a:stretch/>
        </p:blipFill>
        <p:spPr>
          <a:xfrm>
            <a:off x="5003640" y="3213000"/>
            <a:ext cx="3681720" cy="294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35 из 23571"/>
          <p:cNvPicPr/>
          <p:nvPr/>
        </p:nvPicPr>
        <p:blipFill>
          <a:blip r:embed="rId2"/>
          <a:stretch/>
        </p:blipFill>
        <p:spPr>
          <a:xfrm>
            <a:off x="1908000" y="3284640"/>
            <a:ext cx="2179800" cy="266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484560"/>
            <a:ext cx="74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ды обучения в училище стали для Исаака временем тяжких и мучительных испытаний. Впоследствии, через много лет, уже будучи признанным и любимым, художник писал: "Не надо очень розово представлять себе перспективу изучения живописи. Сколько горя, усилий, трудов и разочарований пока выбился на дорогу". В 1875 году в семье Левитанов умерла мать, вслед за нею два года спустя умер отец, и детям пришлось вести почти нищенский образ жизни. Но, все-таки, уже в ранние годы своего учения Исаак Левитан не только верно усвоил уроки учителей, но и сказал заметное слово в русском пейзаже. Его склонность к изображению природы и страстная любовь к ней проявилась уже вскоре после поступления в училищ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Юный Левитан"/>
          <p:cNvPicPr/>
          <p:nvPr/>
        </p:nvPicPr>
        <p:blipFill>
          <a:blip r:embed="rId1"/>
          <a:stretch/>
        </p:blipFill>
        <p:spPr>
          <a:xfrm>
            <a:off x="6443640" y="3933720"/>
            <a:ext cx="201780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Левитан"/>
          <p:cNvPicPr/>
          <p:nvPr/>
        </p:nvPicPr>
        <p:blipFill>
          <a:blip r:embed="rId2"/>
          <a:stretch/>
        </p:blipFill>
        <p:spPr>
          <a:xfrm>
            <a:off x="1116000" y="4076640"/>
            <a:ext cx="18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Левитанъ"/>
          <p:cNvPicPr/>
          <p:nvPr/>
        </p:nvPicPr>
        <p:blipFill>
          <a:blip r:embed="rId3"/>
          <a:stretch/>
        </p:blipFill>
        <p:spPr>
          <a:xfrm>
            <a:off x="4067280" y="422100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208720" cy="5689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52:23Z</dcterms:created>
  <dc:creator>Alice</dc:creator>
  <dc:description/>
  <dc:language>en-US</dc:language>
  <cp:lastModifiedBy>евгений</cp:lastModifiedBy>
  <dcterms:modified xsi:type="dcterms:W3CDTF">2012-01-08T17:28:33Z</dcterms:modified>
  <cp:revision>11</cp:revision>
  <dc:subject/>
  <dc:title>Слайд 1</dc:title>
</cp:coreProperties>
</file>