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7.png" ContentType="image/png"/>
  <Override PartName="/ppt/media/image14.jpeg" ContentType="image/jpeg"/>
  <Override PartName="/ppt/media/image19.gif" ContentType="image/gif"/>
  <Override PartName="/ppt/media/image1.png" ContentType="image/pn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AF530E-D3C3-4FBE-B5C8-0FEAEC2BB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079276-B68E-4B15-AB1E-8DF58BCD2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349B6A-42A5-49D5-AE4C-C153C5E3B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49360A-DAEF-49BE-BE65-5F81C6A60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E5035-C59F-47E8-B916-5FCE9B447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DB2A3-2668-4F69-9236-F9ECB16E2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28C1A-D68F-4054-8AB7-F6C0A61AE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76C43-5999-4F0D-AB51-BC26D43F5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33C61-5547-4411-9D07-C22A347DD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94D78-FFFB-4E0A-B59C-18ECFE006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A2100-4D8B-4983-ADF7-536531EBF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C92A9F-0636-4D55-A851-5C8C3F10C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D137E-0683-4962-B316-151090CB1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AD607-297B-400B-B8A2-2D5CE8C18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8CDBC-3D09-4BB6-A586-AF89B17A3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BAD1F-887E-418F-BA18-3CE6FC5FE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886AB-4BEF-4ABE-8909-4FE0B01DB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A8E71D-1037-4B6D-88C2-B5A373778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E26DE1-0318-4938-9283-87AFC759D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3E098F-2A97-452C-A73F-3E506E95A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EEFD85-2583-4872-8D03-110EDF149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77FBB0-309C-43BA-82E0-A96F317E3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2467AF-EAB4-4EF5-824E-FA09DCD83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0B82C6-81D3-4F33-832F-48018E51F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D9214-89F8-45C0-940D-1280BAD8304D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4688D-F733-416F-A462-84B62EEB740C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042920" y="1052640"/>
            <a:ext cx="7561440" cy="396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Исаак Ильич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    </a:t>
            </a: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Левитан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95280" y="537336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bf25a"/>
                </a:solidFill>
                <a:latin typeface="Tahoma"/>
              </a:rPr>
              <a:t>Работу выполнила</a:t>
            </a:r>
            <a:br>
              <a:rPr sz="1400"/>
            </a:br>
            <a:r>
              <a:rPr b="1" lang="ru-RU" sz="1400" spc="-1" strike="noStrike">
                <a:solidFill>
                  <a:srgbClr val="ebf25a"/>
                </a:solidFill>
                <a:latin typeface="Tahoma"/>
              </a:rPr>
              <a:t>ученица 4а класса </a:t>
            </a:r>
            <a:br>
              <a:rPr sz="1400"/>
            </a:br>
            <a:r>
              <a:rPr b="1" lang="ru-RU" sz="1400" spc="-1" strike="noStrike">
                <a:solidFill>
                  <a:srgbClr val="ebf25a"/>
                </a:solidFill>
                <a:latin typeface="Tahoma"/>
              </a:rPr>
              <a:t>средней школы  № 352</a:t>
            </a:r>
            <a:br>
              <a:rPr sz="1400"/>
            </a:br>
            <a:r>
              <a:rPr b="1" lang="ru-RU" sz="1400" spc="-1" strike="noStrike">
                <a:solidFill>
                  <a:srgbClr val="ebf25a"/>
                </a:solidFill>
                <a:latin typeface="Tahoma"/>
              </a:rPr>
              <a:t>г.Санкт-Петербурга</a:t>
            </a:r>
            <a:br>
              <a:rPr sz="1400"/>
            </a:br>
            <a:r>
              <a:rPr b="1" lang="ru-RU" sz="1400" spc="-1" strike="noStrike">
                <a:solidFill>
                  <a:srgbClr val="ebf25a"/>
                </a:solidFill>
                <a:latin typeface="Tahoma"/>
              </a:rPr>
              <a:t>Дьячкова Алиса</a:t>
            </a:r>
            <a:endParaRPr b="0" lang="en-US" sz="1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transition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мастерская"/>
          <p:cNvPicPr/>
          <p:nvPr/>
        </p:nvPicPr>
        <p:blipFill>
          <a:blip r:embed="rId1"/>
          <a:stretch/>
        </p:blipFill>
        <p:spPr>
          <a:xfrm>
            <a:off x="1476360" y="404640"/>
            <a:ext cx="6191280" cy="458172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 txBox="1"/>
          <p:nvPr/>
        </p:nvSpPr>
        <p:spPr>
          <a:xfrm>
            <a:off x="1332000" y="5229360"/>
            <a:ext cx="547200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Мастерская Левитана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7451640" y="5157720"/>
            <a:ext cx="1332000" cy="98604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6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1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Левитан и Серов"/>
          <p:cNvPicPr/>
          <p:nvPr/>
        </p:nvPicPr>
        <p:blipFill>
          <a:blip r:embed="rId1"/>
          <a:stretch/>
        </p:blipFill>
        <p:spPr>
          <a:xfrm>
            <a:off x="1332000" y="404640"/>
            <a:ext cx="6307200" cy="467712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 txBox="1"/>
          <p:nvPr/>
        </p:nvSpPr>
        <p:spPr>
          <a:xfrm>
            <a:off x="324000" y="5373720"/>
            <a:ext cx="882000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Уникальный кадр-Серов пишет портрет Левитана.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ransition>
    <p:wheel spokes="8"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8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2627280" y="5373720"/>
            <a:ext cx="3276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ДОЛИНА РЕКИ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55" name="" descr="Долина реки"/>
          <p:cNvPicPr/>
          <p:nvPr/>
        </p:nvPicPr>
        <p:blipFill>
          <a:blip r:embed="rId1"/>
          <a:stretch/>
        </p:blipFill>
        <p:spPr>
          <a:xfrm>
            <a:off x="1476360" y="189000"/>
            <a:ext cx="5996160" cy="487980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апрель"/>
          <p:cNvPicPr/>
          <p:nvPr/>
        </p:nvPicPr>
        <p:blipFill>
          <a:blip r:embed="rId1"/>
          <a:stretch/>
        </p:blipFill>
        <p:spPr>
          <a:xfrm>
            <a:off x="1258920" y="549360"/>
            <a:ext cx="6191280" cy="423864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 txBox="1"/>
          <p:nvPr/>
        </p:nvSpPr>
        <p:spPr>
          <a:xfrm>
            <a:off x="2340000" y="5013360"/>
            <a:ext cx="392436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ПЕРВАЯ ЗЕЛЕНЬ.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АПРЕЛЬ.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wheel spokes="8"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6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усадьба"/>
          <p:cNvPicPr/>
          <p:nvPr/>
        </p:nvPicPr>
        <p:blipFill>
          <a:blip r:embed="rId1"/>
          <a:stretch/>
        </p:blipFill>
        <p:spPr>
          <a:xfrm>
            <a:off x="1835280" y="333360"/>
            <a:ext cx="6035400" cy="46180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 txBox="1"/>
          <p:nvPr/>
        </p:nvSpPr>
        <p:spPr>
          <a:xfrm>
            <a:off x="2700360" y="5013360"/>
            <a:ext cx="415296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ПОЗДНЯЯ ОСЕНЬ.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УСАДЬБА.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wheel spokes="8"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пастель"/>
          <p:cNvPicPr/>
          <p:nvPr/>
        </p:nvPicPr>
        <p:blipFill>
          <a:blip r:embed="rId1"/>
          <a:stretch/>
        </p:blipFill>
        <p:spPr>
          <a:xfrm>
            <a:off x="1979640" y="620640"/>
            <a:ext cx="4824360" cy="380844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 txBox="1"/>
          <p:nvPr/>
        </p:nvSpPr>
        <p:spPr>
          <a:xfrm>
            <a:off x="2700360" y="5013360"/>
            <a:ext cx="3816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ХМУРЫЙ ДЕНЬ.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wheel spokes="8"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07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большая дорога"/>
          <p:cNvPicPr/>
          <p:nvPr/>
        </p:nvPicPr>
        <p:blipFill>
          <a:blip r:embed="rId1"/>
          <a:stretch/>
        </p:blipFill>
        <p:spPr>
          <a:xfrm>
            <a:off x="1403280" y="549360"/>
            <a:ext cx="6932520" cy="442260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 txBox="1"/>
          <p:nvPr/>
        </p:nvSpPr>
        <p:spPr>
          <a:xfrm>
            <a:off x="2340000" y="5157720"/>
            <a:ext cx="4514760" cy="10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СОЛНЕЧНЫЙ ДЕНЬ.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БОЛЬШАЯ ДОРОГА.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wheel spokes="8"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6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осень, река"/>
          <p:cNvPicPr/>
          <p:nvPr/>
        </p:nvPicPr>
        <p:blipFill>
          <a:blip r:embed="rId1"/>
          <a:stretch/>
        </p:blipFill>
        <p:spPr>
          <a:xfrm>
            <a:off x="1403280" y="836640"/>
            <a:ext cx="5924520" cy="40701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 txBox="1"/>
          <p:nvPr/>
        </p:nvSpPr>
        <p:spPr>
          <a:xfrm>
            <a:off x="2771640" y="5084640"/>
            <a:ext cx="345600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ОСЕНЬ.РЕКА.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wheel spokes="8"/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море"/>
          <p:cNvPicPr/>
          <p:nvPr/>
        </p:nvPicPr>
        <p:blipFill>
          <a:blip r:embed="rId1"/>
          <a:stretch/>
        </p:blipFill>
        <p:spPr>
          <a:xfrm>
            <a:off x="1332000" y="620640"/>
            <a:ext cx="6622920" cy="386244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 txBox="1"/>
          <p:nvPr/>
        </p:nvSpPr>
        <p:spPr>
          <a:xfrm>
            <a:off x="2124000" y="4869000"/>
            <a:ext cx="45529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БЕРЕГ МОРЯ.КРЫМ.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wheel spokes="8"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52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италия"/>
          <p:cNvPicPr/>
          <p:nvPr/>
        </p:nvPicPr>
        <p:blipFill>
          <a:blip r:embed="rId1"/>
          <a:stretch/>
        </p:blipFill>
        <p:spPr>
          <a:xfrm>
            <a:off x="1116000" y="333360"/>
            <a:ext cx="6572160" cy="469908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 txBox="1"/>
          <p:nvPr/>
        </p:nvSpPr>
        <p:spPr>
          <a:xfrm>
            <a:off x="2195640" y="5229360"/>
            <a:ext cx="4743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НА СЕВЕРЕ ИТАЛИИ.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wheel spokes="8"/>
  </p:transition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9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0" y="189000"/>
            <a:ext cx="9145440" cy="36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Родился 18 августа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1860 года в местечке Кибарта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Сувалкской губернии в Литве,в образованной еврейской семье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28" name="" descr="Картинка 1 из 3517"/>
          <p:cNvPicPr/>
          <p:nvPr/>
        </p:nvPicPr>
        <p:blipFill>
          <a:blip r:embed="rId2"/>
          <a:stretch/>
        </p:blipFill>
        <p:spPr>
          <a:xfrm>
            <a:off x="395280" y="3716280"/>
            <a:ext cx="3809880" cy="285768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Картинка 31 из 4006"/>
          <p:cNvPicPr/>
          <p:nvPr/>
        </p:nvPicPr>
        <p:blipFill>
          <a:blip r:embed="rId3"/>
          <a:stretch/>
        </p:blipFill>
        <p:spPr>
          <a:xfrm>
            <a:off x="4643280" y="3716280"/>
            <a:ext cx="4286520" cy="284796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папоротник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>
            <a:off x="1547640" y="620640"/>
            <a:ext cx="5629320" cy="69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СПАСИБО ЗА ВНИМАНИ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p:transition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900000" y="404640"/>
            <a:ext cx="2725920" cy="183528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Картинка 64 из 4006"/>
          <p:cNvPicPr/>
          <p:nvPr/>
        </p:nvPicPr>
        <p:blipFill>
          <a:blip r:embed="rId2"/>
          <a:stretch/>
        </p:blipFill>
        <p:spPr>
          <a:xfrm>
            <a:off x="4788000" y="260280"/>
            <a:ext cx="3227400" cy="215100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Картинка 65 из 4006"/>
          <p:cNvPicPr/>
          <p:nvPr/>
        </p:nvPicPr>
        <p:blipFill>
          <a:blip r:embed="rId3"/>
          <a:stretch/>
        </p:blipFill>
        <p:spPr>
          <a:xfrm>
            <a:off x="5724360" y="2492280"/>
            <a:ext cx="2395800" cy="36007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Картинка 68 из 4006"/>
          <p:cNvPicPr/>
          <p:nvPr/>
        </p:nvPicPr>
        <p:blipFill>
          <a:blip r:embed="rId4"/>
          <a:stretch/>
        </p:blipFill>
        <p:spPr>
          <a:xfrm>
            <a:off x="3059280" y="2421000"/>
            <a:ext cx="2395440" cy="360036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Картинка 77 из 4006"/>
          <p:cNvPicPr/>
          <p:nvPr/>
        </p:nvPicPr>
        <p:blipFill>
          <a:blip r:embed="rId5"/>
          <a:stretch/>
        </p:blipFill>
        <p:spPr>
          <a:xfrm>
            <a:off x="395280" y="2708280"/>
            <a:ext cx="2154240" cy="324000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7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2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Картинка 5 из 25"/>
          <p:cNvPicPr/>
          <p:nvPr/>
        </p:nvPicPr>
        <p:blipFill>
          <a:blip r:embed="rId1"/>
          <a:stretch/>
        </p:blipFill>
        <p:spPr>
          <a:xfrm>
            <a:off x="539640" y="692280"/>
            <a:ext cx="3757680" cy="475128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 txBox="1"/>
          <p:nvPr/>
        </p:nvSpPr>
        <p:spPr>
          <a:xfrm>
            <a:off x="5148360" y="1773360"/>
            <a:ext cx="3456000" cy="28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Родител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И.И.Левитан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</p:spTree>
  </p:cSld>
  <p:transition>
    <p:wheel spokes="8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6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468360" y="549000"/>
            <a:ext cx="819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есмотря на бедность и скудность средств (кроме Исаака, в семье был еще сын и две дочери), в доме Левитанов царила добрая и чистая атмосфера, благоприятная для духовного развития детей. Отец сам обучал их грамот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" descr="Картинка 14 из 76"/>
          <p:cNvPicPr/>
          <p:nvPr/>
        </p:nvPicPr>
        <p:blipFill>
          <a:blip r:embed="rId1"/>
          <a:stretch/>
        </p:blipFill>
        <p:spPr>
          <a:xfrm>
            <a:off x="2124000" y="2421000"/>
            <a:ext cx="5040360" cy="327816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8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14480" y="189000"/>
            <a:ext cx="9029520" cy="28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Семья Левитана,в начале 1870-х  в переехала 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в Москву.Осенью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1873 в училище поступил и Исаак.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1979640" y="3500280"/>
            <a:ext cx="5111640" cy="266400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2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971640" y="477000"/>
            <a:ext cx="7489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осле переезда семья Левитанов жила бедно, перебиваясь грошовой оплатой за уроки французского и английского языка, которые давал отец. Тем не менее, родители чутко отнеслись к увлечению сыновей искусством и не возражали, когда в 1870 году старший сын Авель, а затем, в 1873 году, и Исаак решили поступить в Московское училище живописи, ваяния и зодчества. Сейчас нам остается только благодарить и молиться за родителей Левитана, этих безымянных героев, которые своим кротким трудом помогли подняться Исааку и стать тем, кем он встал в своей жизни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" descr="Картинка 11 из 23572"/>
          <p:cNvPicPr/>
          <p:nvPr/>
        </p:nvPicPr>
        <p:blipFill>
          <a:blip r:embed="rId1"/>
          <a:stretch/>
        </p:blipFill>
        <p:spPr>
          <a:xfrm>
            <a:off x="5003640" y="3213000"/>
            <a:ext cx="3681720" cy="294480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Картинка 35 из 23571"/>
          <p:cNvPicPr/>
          <p:nvPr/>
        </p:nvPicPr>
        <p:blipFill>
          <a:blip r:embed="rId2"/>
          <a:stretch/>
        </p:blipFill>
        <p:spPr>
          <a:xfrm>
            <a:off x="1908000" y="3284640"/>
            <a:ext cx="2179800" cy="266544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9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826920" y="484560"/>
            <a:ext cx="74170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Годы обучения в училище стали для Исаака временем тяжких и мучительных испытаний. Впоследствии, через много лет, уже будучи признанным и любимым, художник писал: "Не надо очень розово представлять себе перспективу изучения живописи. Сколько горя, усилий, трудов и разочарований пока выбился на дорогу". В 1875 году в семье Левитанов умерла мать, вслед за нею два года спустя умер отец, и детям пришлось вести почти нищенский образ жизни. Но, все-таки, уже в ранние годы своего учения Исаак Левитан не только верно усвоил уроки учителей, но и сказал заметное слово в русском пейзаже. Его склонность к изображению природы и страстная любовь к ней проявилась уже вскоре после поступления в училище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" descr="Юный Левитан"/>
          <p:cNvPicPr/>
          <p:nvPr/>
        </p:nvPicPr>
        <p:blipFill>
          <a:blip r:embed="rId1"/>
          <a:stretch/>
        </p:blipFill>
        <p:spPr>
          <a:xfrm>
            <a:off x="6443640" y="3933720"/>
            <a:ext cx="2017800" cy="244800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Левитан"/>
          <p:cNvPicPr/>
          <p:nvPr/>
        </p:nvPicPr>
        <p:blipFill>
          <a:blip r:embed="rId2"/>
          <a:stretch/>
        </p:blipFill>
        <p:spPr>
          <a:xfrm>
            <a:off x="1116000" y="4076640"/>
            <a:ext cx="1871640" cy="23767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Левитанъ"/>
          <p:cNvPicPr/>
          <p:nvPr/>
        </p:nvPicPr>
        <p:blipFill>
          <a:blip r:embed="rId3"/>
          <a:stretch/>
        </p:blipFill>
        <p:spPr>
          <a:xfrm>
            <a:off x="4067280" y="4221000"/>
            <a:ext cx="1584360" cy="216072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611280" y="260280"/>
            <a:ext cx="8208720" cy="568980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5T15:52:23Z</dcterms:created>
  <dc:creator>Alice</dc:creator>
  <dc:description/>
  <dc:language>en-US</dc:language>
  <cp:lastModifiedBy>евгений</cp:lastModifiedBy>
  <dcterms:modified xsi:type="dcterms:W3CDTF">2012-01-08T17:28:33Z</dcterms:modified>
  <cp:revision>11</cp:revision>
  <dc:subject/>
  <dc:title>Слайд 1</dc:title>
</cp:coreProperties>
</file>