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399-9CCF-4EDD-97D4-4F389B0D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BF9-72B2-46B4-9467-8C1EA005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600-CD6F-4FD9-889C-E4BC0D11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998-5297-43AC-A80B-770522C5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CB9-ECCA-4A87-A367-7EF0FCB2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554-51E9-499B-A53F-A934C9A6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D59-572E-4E2B-919B-16D77D35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672-CF16-433B-9AA1-958B2179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B09-C9C2-4C86-A23E-E13B3CF3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DEF-6FD3-481C-922E-6118148E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37A-A7B7-4DB2-A1F1-FB3FF18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75D-8514-47A0-ADAD-2F6595ED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1073-988F-4EFC-A0D4-C0EAD5590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кона Казанской Божией Мате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Настя\для открытого урока\ib2385.jpg"/>
          <p:cNvPicPr/>
          <p:nvPr/>
        </p:nvPicPr>
        <p:blipFill>
          <a:blip r:embed="rId1"/>
          <a:stretch/>
        </p:blipFill>
        <p:spPr>
          <a:xfrm>
            <a:off x="2214720" y="1380960"/>
            <a:ext cx="4500360" cy="5477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у выполни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71680" y="1500120"/>
            <a:ext cx="7858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емякина Анаст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к № 9, 4а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емякин Иго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ГУ, Юридический факульт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кур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кабрь 200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5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5,15,-1)"/>
                                      </p:to>
                                    </p:set>
                                    <p:set>
                                      <p:cBhvr>
                                        <p:cTn id="301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)"/>
                                      </p:to>
                                    </p:set>
                                    <p:set>
                                      <p:cBhvr>
                                        <p:cTn id="302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700"/>
                            </p:stCondLst>
                            <p:childTnLst>
                              <p:par>
                                <p:cTn id="30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Икона Казанской Божией Мат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214560" y="500040"/>
            <a:ext cx="93582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ели икону в Казани был  в 1579 году, в один из самых  тяжёлых периодов для Руси -  последнем времени царствования Иоанна Грозн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1579 года в Казани был страшный пожар, половина города обратилась в пепел. Девятилетней Матроне, дочери стрельца Даниила Онучина, явилась во сне икона Божией Матери. Потом ей приснилась Сама Богородица и сказала, что Её икона находится в земле, там, где до пожара находился дом родителей девочки, и велела передать это архиепископу и воеводам.  Девочка сразу побоялась об этом рассказать, но потом поведала все своей матери. Мать не обратила внимания на слова дочери. Тогда Матроне опять приснился сон:  Божия Матерь приказывала рассказать о Своем явлении. Мать снова не послушала девочку. Но вслед за этим последовало новое явление, уже грозное. Однажды во время дневного сна Матрона чудесным образом была перенесена на середину двора и здесь явилась ей та же икона Божией Матери. Матрона услышала голос: «Если ты не поведаешь глаголов Моих о том, чтобы достали Мою икону из недр земли, она явится в другом месте. Ты же лишишься жизни»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-143280"/>
            <a:ext cx="914400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5943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рона позвала мать и со слезами просила её передать 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нии архиепископу и воеводам. Та сначала не хотела, 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ь сказала:  « Если тебе угодно, чтобы я умерла, то не хо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мать пошла с дочерью к городским воеводам. Они толь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еялись. К архиепископу – тот также не внял слов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мать сама стала копать землю, и многие люди стали ей помогать, но ничего не нашли. Тогда девочка сама стала копать в месте, где стояла печь, и вскоре обнаружила что-то, завернутое в кусок сукна. В нем оказалась икона Божией Матери с младенцем, таких икон никто никогда раньше не видел. Она была совершенно новая и вся сия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ть об этом облетела весь город. Архиепископ Иеремия поспешил с крестным ходом, моля Богоматерь о прощении своего невер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858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я ико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500040" y="1307880"/>
            <a:ext cx="82868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 икона была обретена в Казани в 1579 году и прославилась многими чудесами. Летом 1612 года ополчение Минина и Пожарского подошло к Москве. Перед решающей битвой воины обратились с пламенной молитвой ко Господу и Богородице перед Казанским образом, который прислала вместе со своей дружиной Казань. И молитва была услышана. Архиепископу Арсению было открыто в видении, что по ходатайству Богородицы Господь низложит врагов и спасёт Москву. Ободрённые этим ополченцы разбили войско и блокировали засевших в Кремле поляков. В конце октября враги сдались. В благодарность за спасение страны было установлено ещё одно празднование Казанского образа Богородицы 22 октяб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:\Настя\для открытого урока\ib2385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085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642960" y="1643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нская икона Божией Матери – это Её благословение народу российскому, всей нашей дорогой Отчиз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722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дна из историй о том как исцеляет эта ико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71280" y="1928880"/>
            <a:ext cx="907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жды в церковь был принесен матерью ее слепой младенец. Мать стояла перед Образом Богородицы и молилась с плачем о прозрении ребенка. Младенец же вдруг начал руками осязать лицо матери. Весь народ, молившийся пред Пречистым Образом и Архиепископ, стоявший на месте своем,  смотрели на младенца и видели, как он трогал руками свою мать. Архиепископ повелел принести красное яблоко ребенку. Младенец начал хватать яблоко и все удостоверились в том, что он прозрел, воздали славу Богу и Пречистой Его Матери Владычице нашей Богородице, творящей дивные чуд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857160" y="564372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от такие чудеса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D:\Настя\для открытого урока\ib2385.jpg"/>
          <p:cNvPicPr/>
          <p:nvPr/>
        </p:nvPicPr>
        <p:blipFill>
          <a:blip r:embed="rId1"/>
          <a:stretch/>
        </p:blipFill>
        <p:spPr>
          <a:xfrm>
            <a:off x="7540560" y="0"/>
            <a:ext cx="160344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9" dur="1000" autoRev="1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1000" autoRev="1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1000" autoRev="1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00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азанская чудотворная икона Пресвятой Богородицы-многовековая истор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обретения иконы 325 лет в Казанский Богородицкий монастырь шли люди непрерывным пото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йска Пугачева в 1774г ворвались в монастырь, но на икону не посягну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04г икона была украдена и осквернена -изрублена топором грабителями. Взамен нее  была привезена новая икона, написанная в Иерусалиме. Эта икона была похищена в 1992г, но быстро найдена и возвращ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зднование иконы  установлено дважды в год-8 (21) июля в день ее обретения и 22 октября(4 ноября) в память освобождения Москвы от поляков в 1612г с помощью иконы Казанской Божией Мате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 разные образы ик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D:\Настя\для открытого урока\pic_2005528_13mn24s53mls603.jpg"/>
          <p:cNvPicPr/>
          <p:nvPr/>
        </p:nvPicPr>
        <p:blipFill>
          <a:blip r:embed="rId1"/>
          <a:stretch/>
        </p:blipFill>
        <p:spPr>
          <a:xfrm>
            <a:off x="142920" y="1071720"/>
            <a:ext cx="3314520" cy="390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:\Настя\для открытого урока\i400.jpg"/>
          <p:cNvPicPr/>
          <p:nvPr/>
        </p:nvPicPr>
        <p:blipFill>
          <a:blip r:embed="rId2"/>
          <a:stretch/>
        </p:blipFill>
        <p:spPr>
          <a:xfrm>
            <a:off x="2786040" y="2928960"/>
            <a:ext cx="3000240" cy="3762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:\Настя\для открытого урока\230137.jpg"/>
          <p:cNvPicPr/>
          <p:nvPr/>
        </p:nvPicPr>
        <p:blipFill>
          <a:blip r:embed="rId3"/>
          <a:stretch/>
        </p:blipFill>
        <p:spPr>
          <a:xfrm>
            <a:off x="5429160" y="1000080"/>
            <a:ext cx="3571920" cy="3560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а небесная покровитель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D:\Настя\для открытого урока\pic_2005528_13mn24s53mls603.jpg"/>
          <p:cNvPicPr/>
          <p:nvPr/>
        </p:nvPicPr>
        <p:blipFill>
          <a:blip r:embed="rId1"/>
          <a:stretch/>
        </p:blipFill>
        <p:spPr>
          <a:xfrm>
            <a:off x="214200" y="1428840"/>
            <a:ext cx="384516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285800" y="1642680"/>
            <a:ext cx="46436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нашей семьи Казанская икона Божией Матери занимает особо почитаемое место. Родители венчались в храме Казанской Божьей Матери в Казани в 1990 году, в нем же крестили моего брата Игоря в 1992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 храме Казанской Божьей Мате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6" descr="Изображение 6089.jpg"/>
          <p:cNvPicPr/>
          <p:nvPr/>
        </p:nvPicPr>
        <p:blipFill>
          <a:blip r:embed="rId1"/>
          <a:srcRect l="23723" t="32052" r="26469" b="21797"/>
          <a:stretch/>
        </p:blipFill>
        <p:spPr>
          <a:xfrm>
            <a:off x="571680" y="1928880"/>
            <a:ext cx="364320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"/>
          <p:cNvSpPr txBox="1"/>
          <p:nvPr/>
        </p:nvSpPr>
        <p:spPr>
          <a:xfrm>
            <a:off x="4071600" y="2143080"/>
            <a:ext cx="46148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ябре 2000 года в этом храме крестили и меня. Поэтому мы считаем эту икону своей покровительницей- ведь она оберегает и хранит нас в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04:11Z</dcterms:created>
  <dc:creator>WIN7XP</dc:creator>
  <dc:description/>
  <dc:language>en-US</dc:language>
  <cp:lastModifiedBy>Loner-XP</cp:lastModifiedBy>
  <dcterms:modified xsi:type="dcterms:W3CDTF">2009-12-22T16:19:52Z</dcterms:modified>
  <cp:revision>48</cp:revision>
  <dc:subject/>
  <dc:title>История Иконы Казанской Божией Матери</dc:title>
</cp:coreProperties>
</file>