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B4F-9E65-4DC0-9DE6-8A33663D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F19-290E-4FCC-B2B5-2AC86044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4D6-A7A5-4846-B83F-502A01D7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E15-52F6-4D98-A6DD-232A419A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545-2C36-49D8-9D0C-8938B555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237-3E1B-4DAE-9124-0CF37A11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DB6-DDEB-4BCA-870C-7E67524C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CAF-677A-43DD-BDBA-4184041C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AC3-322C-4F8E-BB60-ABABB3EC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EC4-7418-4A48-9C0C-25016C94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881-3A41-4D27-828F-FCF9C0D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A9B-75D6-4976-84DD-0351CA44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F570-B07C-4AAA-987F-7E053641A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здник и  карнавал (урок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 урок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комиться с карнавалами народов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еда «Карнава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ение изучен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ение творческого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е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тавка работ и обс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я о домашнем за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0"/>
            <a:ext cx="41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C067-5771-4E89-8C08-4639B406A5A3}" type="datetime">
              <a:rPr b="1" lang="en-US" sz="22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fld id="{EE6A6E7A-4FE7-4C31-88BC-A3D0648310AD}" type="datetime10">
              <a:rPr b="1" lang="en-US" sz="2200" spc="-1" strike="noStrike">
                <a:solidFill>
                  <a:srgbClr val="000000"/>
                </a:solidFill>
                <a:latin typeface="Arial"/>
              </a:rPr>
              <a:t>20:21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495680" cy="31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0"/>
            <a:ext cx="8915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сейчас в Венеции происходят настоящие чудеса. Набережная лагуны, как в зеркале, отражает всё многоцветие и пышность венецианского карнавала. Множество туристов съезжается  сюда в  последние дни февраля, чтобы посмотреть и принять участие в этом удивительном зрелищ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3251160" cy="487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528336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десь неожиданно можно встретить солидного сеньора Казанову, прогуливающегося с изящной тросточкой и старинным моноклем. Можно побеседовать и прогуляться под руку с грустным и задумчивым Пьер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5334120" cy="4006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42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колько здесь необычных, экстравагантных и экзотичных костюмов, масок, за которыми очень трудно угадать истинное лицо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3860640" cy="5790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3930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ньше традиционной одеждой участников карнавала были лишь шёлковая накидка с капюшоном и чёрная маска. Сегодня костюмы шьют из самых дорогих тканей: шёлка, атласа, гипюра и бархата. Они украшаются золотым и серебряным шитьём, бисером и кружев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57840" y="1523880"/>
            <a:ext cx="3309840" cy="502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-76320"/>
            <a:ext cx="8839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вас нет костюма - не огорчайтесь! Вам достаточно заглянуть на карнавальный рынок, и здесь за ширмами в окружении многочисленных зеркал вам предложат примерить самые разнообразные костюмы и атрибуты к ним: от шляпы в виде дракона до облачения морского разбойника-пирата. А уличный художник запросто предложит вам нарисовать на щеке яркий цветок или пёструю бабоч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" y="251460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"/>
            <a:ext cx="5105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наступлением сумерек начинается главное карнавальное шествие. Герои в костюмах спускаются с ярко освещенных лестниц и торжественно замирают в картинных поз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638680" y="76320"/>
            <a:ext cx="2718000" cy="3124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5257800" cy="3716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202440" y="3276720"/>
            <a:ext cx="27860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тни людей в неописуемых нарядах и загадочных масках проходят по набережным Венеции и собираются на площади Сан-Марко, где смешиваются с толпой зрителей и турис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168444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00600" y="3863880"/>
            <a:ext cx="4114800" cy="291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5800" y="4495680"/>
            <a:ext cx="33908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-763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участвуют в играх, розыгрышах, поют и танцуют под гремящие звуки взрывающихся петард, ослепительных фейерверков, под торжественный звон колоколов венецианских церквей и монастырей. Поистине необыкновенное, удивительное зрелище, которое всё-таки лучше увидеть собственными глазам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4267080" cy="3198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95680" y="3716280"/>
            <a:ext cx="4496040" cy="2989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2120" y="4952880"/>
            <a:ext cx="2743200" cy="182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257800" y="1676520"/>
            <a:ext cx="2962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-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Ах, карнавал! Удивительный мир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09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то из вас не мечтал побывать на настоящем карнавале - шумном, весёлом празднике, облачившись в яркий костюм и скрыв своё лицо под причудливой маской?! Давайте посмотрим это замечательное зрелищ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5562720" cy="465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3809880"/>
            <a:ext cx="312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Франц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52280"/>
            <a:ext cx="8763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Карнавал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юбимые праздники многих народов. Может быть, по­этому слово «карнавал» на всех языках звучит одинаково? Произошло оно от латинского слова «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arrus navali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, что означает «потешная колесница», то есть корабль праздничных процесс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существует и другое мнение. Некоторые, например, считают, что оно восходит к такому странному словосочетанию, как «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arne val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, то есть «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прощай, мясо!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и связано со временем наступающего Великого Поста в странах Западной Европ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24792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Герма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233520" cy="487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6920" y="6373800"/>
            <a:ext cx="350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Бельгия. Бин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0"/>
            <a:ext cx="899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исхождение карнавалов в странах Западной Европы чаще всего связывают со средними веками, так как именно в то время они получили необычайно шумное и яркое выраж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0"/>
            <a:ext cx="8991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эпоху Возрождения карнавал превратился в настоящее роскошное торжество, во время которого замирала вся деловая жизнь города. Жители высыпали на улицы и веселились круглые сутки. Всюду разъезжали красивые повозки с ряжеными, которые изображали времена года, героев античной мифологии, купцов, торговцев и дикарей. Были здесь и шуты, заигрывающие с прохож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5715000" cy="4267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276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Кёльнский карнав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838080"/>
            <a:ext cx="259056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Родино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карнавала по праву считается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Итал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лавным героем итальянских карнавалов становился «король», чинно восседающий на повозк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142920"/>
            <a:ext cx="5715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38098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носчивый врун и трус Капитан, простодушные Влюблённые, глупый и скупой купец Панталоне, плут и весельчак Бригелла, кокетливая Коломбина, неуемный Пульчинелла и многие друг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4800600" cy="3592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610160" cy="345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57800" y="228600"/>
            <a:ext cx="3505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оля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кружали популярные в народе персонажи - герои итальянской комедии масок дель арте: любимец публики Арлеки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обенно прославились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венецианские карнавалы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е упоминание о которых относится к конц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ка. Но наибольшего расцвета они достигли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ке, с тех пор венецианские карнавалы - неотъемлемый народный праздник жителей этого города. «Весь мир устремляется в Венецию, чтобы созерцать всё неистовство и безумие карнавала», - писал один англичанин ещё в 1640 год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2481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08T05:58:13Z</dcterms:modified>
  <cp:revision>10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