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D4F-8C14-457B-801F-54A132E4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7A5-4BEF-467B-9BC4-D51D9A81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C38-D8DD-451A-9CC1-14DB7AEB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07C-313A-48F7-AD49-EEBA75F4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BB1-FBE1-432B-A194-E73DECE9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B87-8E28-4BA0-8B8B-E89CE70F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C8F-6356-4C5A-BFC2-B46111D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56E-C5D2-4587-A2D8-575499C1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5C4-A16E-4698-8483-D90D1163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98E-FA8A-418E-98D8-909E99B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A1D-FE85-4256-969A-3BD3EB6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3E1-5C56-49D1-8C94-1827604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5F5-854E-4235-88DF-1C03EA667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4319640"/>
          </a:xfrm>
          <a:prstGeom prst="rect">
            <a:avLst/>
          </a:prstGeom>
          <a:solidFill>
            <a:srgbClr val="ffcccc"/>
          </a:solidFill>
          <a:ln w="7632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99"/>
                </a:solidFill>
                <a:latin typeface="Times New Roman"/>
              </a:rPr>
              <a:t>Курить – здоровью вреди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e Vent, Le Cri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643040" y="5857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Гайдук Александра Александровна, МС(к) ОУ школа-интернат пгт. Демьян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Влияние курения на глаза и кож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игаретный дым раздражает глазную оболо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 возрастом у курильщиков перерождение глазной оболочки может привести к слеп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ухая, дряблая кожа (обезвоживается из-за недостатка кислор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File1035"/>
          <p:cNvPicPr/>
          <p:nvPr/>
        </p:nvPicPr>
        <p:blipFill>
          <a:blip r:embed="rId4"/>
          <a:stretch/>
        </p:blipFill>
        <p:spPr>
          <a:xfrm>
            <a:off x="4643280" y="2276640"/>
            <a:ext cx="4119840" cy="2911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Лёгки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Так выглядят лёгкие здорового человек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А так куряще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File1032"/>
          <p:cNvPicPr/>
          <p:nvPr/>
        </p:nvPicPr>
        <p:blipFill>
          <a:blip r:embed="rId1"/>
          <a:stretch/>
        </p:blipFill>
        <p:spPr>
          <a:xfrm>
            <a:off x="4648320" y="3003480"/>
            <a:ext cx="4038480" cy="171936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  <p:sp>
        <p:nvSpPr>
          <p:cNvPr id="83" name="Line 8"/>
          <p:cNvSpPr/>
          <p:nvPr/>
        </p:nvSpPr>
        <p:spPr>
          <a:xfrm>
            <a:off x="3924360" y="2060640"/>
            <a:ext cx="1511280" cy="863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2843280" y="4797000"/>
            <a:ext cx="4608360" cy="863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Так выглядят лёгкие куряще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Хозяин этих лёгких курил более 5-ти лет. Они заметно почерн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Лёгкие курильщика с 15-летним стажем забиты смолой и никот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25 лет человек не расставался с сигаретой. Его лёгкие обожжены, как угол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Копия File1016"/>
          <p:cNvPicPr/>
          <p:nvPr/>
        </p:nvPicPr>
        <p:blipFill>
          <a:blip r:embed="rId1"/>
          <a:stretch/>
        </p:blipFill>
        <p:spPr>
          <a:xfrm>
            <a:off x="179280" y="1700280"/>
            <a:ext cx="2448000" cy="193680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  <p:pic>
        <p:nvPicPr>
          <p:cNvPr id="88" name="Picture 8" descr="Копия (2) File1016"/>
          <p:cNvPicPr/>
          <p:nvPr/>
        </p:nvPicPr>
        <p:blipFill>
          <a:blip r:embed="rId2"/>
          <a:stretch/>
        </p:blipFill>
        <p:spPr>
          <a:xfrm>
            <a:off x="2195640" y="4005360"/>
            <a:ext cx="2469960" cy="169056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  <p:pic>
        <p:nvPicPr>
          <p:cNvPr id="89" name="Picture 9" descr="Копия (3) File1016"/>
          <p:cNvPicPr/>
          <p:nvPr/>
        </p:nvPicPr>
        <p:blipFill>
          <a:blip r:embed="rId3"/>
          <a:stretch/>
        </p:blipFill>
        <p:spPr>
          <a:xfrm>
            <a:off x="250920" y="3860640"/>
            <a:ext cx="1741320" cy="282276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  <p:sp>
        <p:nvSpPr>
          <p:cNvPr id="90" name="Line 10"/>
          <p:cNvSpPr/>
          <p:nvPr/>
        </p:nvSpPr>
        <p:spPr>
          <a:xfrm flipH="1">
            <a:off x="2700000" y="2133720"/>
            <a:ext cx="215892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3708360" y="3573360"/>
            <a:ext cx="1224000" cy="360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2050920" y="5805360"/>
            <a:ext cx="2881440" cy="360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Болезни, ждущие курильщ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Рак лёгких, рак гортани, рак губ и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Хронический бронхит и эмфизема (поражение лёгких, одышка и свистящее дых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шемическая болезнь серд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Болезни сосудов н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Гастрит и язва желу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мпотен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Неприятный запах изо рта, преждевременное ста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К сведен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Ежедневно от курения умирают 10000 человек в м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урение сокращает продолжительность жизни и повышает смертность насе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90% умирающих от рака – курильщ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Бросать курить полезно в любом возра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 сведени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Большинство курильщиков любят приводить примеры такого типа: «Вот мой дедушка дымил как паровоз и дожил до 80 лет, а дядя Петя не пил, не курил, а до 50 не дотянул». Это глупейший вид самовнушения! Да, в жизни всё бывает. Но, во-первых, если бы ваш дедуля не курил, то прожил бы и все 100. Во-вторых, любое событие в этой жизни имеет некоторую вероятность, и эта вероятность зависит от кучи факторов. Вероятность заболевания раком лёгких растёт с каждой выкуренной сигарет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Высказывания знаменитых людей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«Курение – это забава для дураков». (Гёт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«Я отложил сигарету и поклялся, что никогда не буду курить. Эту клятву я твёрдо сдержал и вполне убеждён, что табак вредит мозгу также определённо, как и алкоголь!» (А. Дюма-младш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Из истории таба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абак родом из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Привёз его мореплаватель Колум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астение получило название от имени провинции Табаго острова Гаи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Что такое ку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Курение – это вдыхание дыма некоторых тлеющих растительных проду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Курение табака – одна из наиболее распространённых вредных привычек, отрицательно влияющая на здоровье курильщика и окружающих его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Химическая структура табачных лист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иниль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анцерогенные углевод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адиоактивный элемент пол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еро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ёг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Угарный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Более 1000 различ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На что влияет ку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140360" y="4941720"/>
            <a:ext cx="29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File0255"/>
          <p:cNvPicPr/>
          <p:nvPr/>
        </p:nvPicPr>
        <p:blipFill>
          <a:blip r:embed="rId1"/>
          <a:stretch/>
        </p:blipFill>
        <p:spPr>
          <a:xfrm>
            <a:off x="2843280" y="2276640"/>
            <a:ext cx="2906640" cy="363060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53" name="Line 19"/>
          <p:cNvSpPr/>
          <p:nvPr/>
        </p:nvSpPr>
        <p:spPr>
          <a:xfrm>
            <a:off x="1835280" y="2205000"/>
            <a:ext cx="2449440" cy="28728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V="1">
            <a:off x="2124000" y="4724280"/>
            <a:ext cx="2087640" cy="86544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 flipH="1">
            <a:off x="4500360" y="2637000"/>
            <a:ext cx="2376360" cy="14436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1835280" y="3933720"/>
            <a:ext cx="2305080" cy="35892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 flipH="1">
            <a:off x="4716000" y="4221000"/>
            <a:ext cx="2087640" cy="7164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 flipH="1" flipV="1">
            <a:off x="5508360" y="5157360"/>
            <a:ext cx="1657080" cy="64764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-755280" y="194004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-1114200" y="366696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лё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-1042560" y="539604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5150880" y="234792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4933800" y="39560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6"/>
          <p:cNvSpPr/>
          <p:nvPr/>
        </p:nvSpPr>
        <p:spPr>
          <a:xfrm>
            <a:off x="5294880" y="568476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к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Times New Roman"/>
              </a:rPr>
              <a:t>Влияние курения на моз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Нарушаются память и внимание (недостаток кислорода заменяется окисью углер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Снижаются интеллектуальные способности (из-за отложения кальция в сосуд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le1028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488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38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Влияние курения на лёг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ым оседает в виде смол (именно поэтому лёгкие курильщика тёмного цве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овышается риск заболеть раком (в каждой затяжке – более 4 тысяч химика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иск пневмоний, эмфиземы, хронического бронх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File1034"/>
          <p:cNvPicPr/>
          <p:nvPr/>
        </p:nvPicPr>
        <p:blipFill>
          <a:blip r:embed="rId4"/>
          <a:stretch/>
        </p:blipFill>
        <p:spPr>
          <a:xfrm>
            <a:off x="324000" y="2003400"/>
            <a:ext cx="4171680" cy="360216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Влияние курения на желуд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Табачная смесь приводит к выделению соляной кисл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икотин, дым, частички табака со слюной попадают в желудок и оказывают постоянное раздражающее действие на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File1026"/>
          <p:cNvPicPr/>
          <p:nvPr/>
        </p:nvPicPr>
        <p:blipFill>
          <a:blip r:embed="rId3"/>
          <a:stretch/>
        </p:blipFill>
        <p:spPr>
          <a:xfrm>
            <a:off x="4788000" y="1844640"/>
            <a:ext cx="3754440" cy="452592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Times New Roman"/>
              </a:rPr>
              <a:t>Влияние курения на серд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овышается риск сердечных заболеваний (особенно инфаркта миокар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озбуждается нервная система, что влияет на ритм сердцеби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и больших дозах яда алкоида может случится паралич, при котором есть опасность остановки дыхания и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File1029"/>
          <p:cNvPicPr/>
          <p:nvPr/>
        </p:nvPicPr>
        <p:blipFill>
          <a:blip r:embed="rId4"/>
          <a:stretch/>
        </p:blipFill>
        <p:spPr>
          <a:xfrm>
            <a:off x="468360" y="1989000"/>
            <a:ext cx="4038480" cy="3884760"/>
          </a:xfrm>
          <a:prstGeom prst="rect">
            <a:avLst/>
          </a:prstGeom>
          <a:ln w="76320">
            <a:solidFill>
              <a:srgbClr val="ff9966"/>
            </a:solidFill>
            <a:miter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98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22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04:51Z</dcterms:created>
  <dc:creator>User</dc:creator>
  <dc:description/>
  <dc:language>en-US</dc:language>
  <cp:lastModifiedBy>Admin</cp:lastModifiedBy>
  <dcterms:modified xsi:type="dcterms:W3CDTF">2012-01-08T11:19:27Z</dcterms:modified>
  <cp:revision>15</cp:revision>
  <dc:subject/>
  <dc:title>Курить – здоровью вредить</dc:title>
</cp:coreProperties>
</file>