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BCC7-69B0-42A9-8543-EB4BA8CF7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78F7-4F0A-41AF-83F0-EE522A0A0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нашего урока – инер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1823-273C-4EC7-9B6E-D05135AD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81AF-901D-47FA-ABF7-28F03A68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7119-8E30-4B75-BF52-6B055724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794C-9B2F-4A9E-AE15-ECF90516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F6E5-9D78-4D1F-891C-AB5EB81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663-B849-42CC-A736-61FFBDF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B3D5-03AE-46FD-8820-5D0B64C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AD4-4319-4E72-930F-97E00AD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09D-868D-4DB6-81A0-D2781B13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BCDF-4B52-4B26-8FDE-CD1880F5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88D8-F983-4CF3-A9F7-BC340EA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730C-253C-4B5C-A6C0-30760D57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1430-7E7A-45BE-B49A-A0273E2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2D36-1784-4EE2-9A22-806B169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FD2-3795-46BE-8F3B-ED54BF6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541-F5D5-4BBD-9C55-1901438E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606-5CC4-4DAF-B2F7-C1BDAACF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C54B-9A29-4E1B-AFF7-1A7BC40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22F4-4307-4417-9527-0BE2A06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502B-3467-459A-9D40-D44EF64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E51C-5C15-402B-9ABA-ABFB477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32BB-8B2F-496F-81FB-8B6E7EB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7A38-435B-4AA9-A0E9-3465AFA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29F9-ED39-4A63-9C42-3CF3EF7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CE97-1A79-4820-9C81-EB06C1CB57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3F38-F654-40B2-824F-0F1888A17F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ordArt 4" descr=""/>
          <p:cNvPicPr/>
          <p:nvPr/>
        </p:nvPicPr>
        <p:blipFill>
          <a:blip r:embed="rId1"/>
          <a:stretch/>
        </p:blipFill>
        <p:spPr>
          <a:xfrm>
            <a:off x="6072120" y="5357880"/>
            <a:ext cx="1755720" cy="6714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2556000" y="2637000"/>
            <a:ext cx="43210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елятивистская механик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403280" y="6165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532720" y="65833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elita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857760" y="428616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готовила : учитель физики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Ш №10  г.Ельца Липецкой обл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репкова Я.Ю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Черные ды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0000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Черная дыра образуется при гравитационном сжатии массивной звезды . Если масса  звезды более чем в 3 раза превосходит массу Солнца , ядро этой звезды , сжимаясь , достигает такой плотности , что даже свет не может преодолеть силы его тяготения. Интенсивное рентгеновское излучение , наблюдавшееся из определенной области звездного неба , астрономы объяснили резким ускорением звездного вещества , втягивающегося в исключительно мощный гравитационный цен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 =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гласно 1 постулату СТО – максимальное значение скорости равно скорости света.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571680" cy="642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714760" y="2357280"/>
            <a:ext cx="500040" cy="500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357120" y="321480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диус Шварцшильда  :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ш =          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сли частица находится от центра черной дыры на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R &lt; R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ш , то для преодоления гравитационного притяжения она должна обладать  </a:t>
            </a:r>
            <a:r>
              <a:rPr b="0" lang="el-GR" sz="18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&gt; c.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 противоречит постулатам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3357720" y="328608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1" descr="SWScan00401.tif"/>
          <p:cNvPicPr/>
          <p:nvPr/>
        </p:nvPicPr>
        <p:blipFill>
          <a:blip r:embed="rId4"/>
          <a:stretch/>
        </p:blipFill>
        <p:spPr>
          <a:xfrm>
            <a:off x="706320" y="4638600"/>
            <a:ext cx="465768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071360"/>
            <a:ext cx="8229600" cy="47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ледствия из противореч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какая частица , находящаяся внутри сферы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 , не может покинуть черную д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сутствие излучения из черной ды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диус черной дыры массой , равной массе Солнца :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≈ 3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ы не можем наблюдать события ,происходящие внутри сферы ,ограничивающей черную дыру , т.к свет не может из нее выйти наружу. Поэтому поверхность черной дыры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оризонтом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едпосыл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142640"/>
            <a:ext cx="4395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1г  Альберт Майкельсон и  Эдуард Морли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ижение Земли вокруг Солнца не влияет на скорость распространения 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=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υ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классическому закону сложения  скоростей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света , распространяющегося вдоль   направления движения Земли вокруг Солн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= с  +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корость света , распространяющегося в противоположном направл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= с  -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υ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-  скорость света ,излучаемого источником; 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υ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= 2,96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м/с – скорость движения Земли вокруг Солн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υ₁≠υ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4" descr="SWScan00400.tif"/>
          <p:cNvPicPr/>
          <p:nvPr/>
        </p:nvPicPr>
        <p:blipFill>
          <a:blip r:embed="rId1"/>
          <a:stretch/>
        </p:blipFill>
        <p:spPr>
          <a:xfrm>
            <a:off x="357120" y="5500800"/>
            <a:ext cx="321480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5929200" y="107172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ьберт Эйнштейн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4929120" y="164304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5 г., когда ему было 26 лет и он трудился чиновником в патентном бюро, им была создана специальная теория относительности. Десять лет спустя он создал общую теорию относительност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5429160" y="3357720"/>
            <a:ext cx="291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5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латы   СТО   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йнштей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3714480"/>
            <a:ext cx="822960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е законы природы одинаковы в ИС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орость света в вакууме одинакова во всех ИСО.   Скорость света – максимально возможная скорость распространения любого взаимодействия. Материальные тела не могут иметь скорость большую , чем скорость света  с= 3  10 м/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42960" y="50004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щая теория относительности)-    описывает взаимосвязь физических процессов , происходящих в ускоренно движущихся относительно друг друга системах отсчета (НИСО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пециальная теория относительности )  - рассматривает взаимосвязь физических процессов , происходящих только в инерциальных системах отсчета.(ИСО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357120" y="428760"/>
            <a:ext cx="58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Monotype Corsiva"/>
              </a:rPr>
              <a:t>Относительность времени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214200" y="12142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нута — величина относительная: если у вас свидание с симпатичной девушкой, то она пролетит как мгновение, а если вы сидите на раскаленной плите, то она покажется вечностью». 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Так сам Эйнштейн пытался объяснить простыми словами свою теорию относительност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Собственное время  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‘ 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– время ,измеренное наблюдателем , движущимся вместе с часам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9" name="Рисунок 3" descr="роорпап.tif"/>
          <p:cNvPicPr/>
          <p:nvPr/>
        </p:nvPicPr>
        <p:blipFill>
          <a:blip r:embed="rId1"/>
          <a:stretch/>
        </p:blipFill>
        <p:spPr>
          <a:xfrm>
            <a:off x="353880" y="4638600"/>
            <a:ext cx="3584880" cy="1513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14200" y="28576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С точки зрения внешнего наблюдателя импульс достигнет верхнего зеркала за 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t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 , то по т.Пифагора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(с 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)²= (</a:t>
            </a:r>
            <a:r>
              <a:rPr b="0" lang="el-GR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υ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)²+ (ct’)²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Если время в неподвижной и подвижной СО течет одинаково  </a:t>
            </a:r>
            <a:r>
              <a:rPr b="0" lang="en-US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=t’ 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,   то  </a:t>
            </a:r>
            <a:r>
              <a:rPr b="1" lang="ru-RU" sz="1800" spc="-1" strike="noStrike" u="sng">
                <a:solidFill>
                  <a:srgbClr val="321900"/>
                </a:solidFill>
                <a:uFillTx/>
                <a:latin typeface="Times New Roman"/>
                <a:ea typeface="Times New Roman"/>
              </a:rPr>
              <a:t>с² = </a:t>
            </a:r>
            <a:r>
              <a:rPr b="1" lang="el-GR" sz="1800" spc="-1" strike="noStrike" u="sng">
                <a:solidFill>
                  <a:srgbClr val="321900"/>
                </a:solidFill>
                <a:uFillTx/>
                <a:latin typeface="Times New Roman"/>
                <a:ea typeface="Times New Roman"/>
              </a:rPr>
              <a:t>υ²</a:t>
            </a:r>
            <a:r>
              <a:rPr b="1" lang="ru-RU" sz="1800" spc="-1" strike="noStrike" u="sng">
                <a:solidFill>
                  <a:srgbClr val="321900"/>
                </a:solidFill>
                <a:uFillTx/>
                <a:latin typeface="Times New Roman"/>
                <a:ea typeface="Times New Roman"/>
              </a:rPr>
              <a:t>+ с²   </a:t>
            </a:r>
            <a:r>
              <a:rPr b="0" lang="ru-RU" sz="18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????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1" name="Рисунок 3" descr="длорп.tif"/>
          <p:cNvPicPr/>
          <p:nvPr/>
        </p:nvPicPr>
        <p:blipFill>
          <a:blip r:embed="rId2"/>
          <a:stretch/>
        </p:blipFill>
        <p:spPr>
          <a:xfrm>
            <a:off x="4565520" y="4780080"/>
            <a:ext cx="379728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4"/>
          <p:cNvSpPr/>
          <p:nvPr/>
        </p:nvSpPr>
        <p:spPr>
          <a:xfrm>
            <a:off x="428760" y="142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1900"/>
                </a:solidFill>
                <a:latin typeface="Monotype Corsiva"/>
              </a:rPr>
              <a:t>Относительность времени 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28760" y="1357200"/>
            <a:ext cx="81439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Время в неподвижной и движущейся С</a:t>
            </a:r>
            <a:r>
              <a:rPr b="1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O  </a:t>
            </a:r>
            <a:r>
              <a:rPr b="1" lang="ru-RU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течет с разной скоростью :</a:t>
            </a:r>
            <a:r>
              <a:rPr b="1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321900"/>
                </a:solidFill>
                <a:latin typeface="Times New Roman"/>
                <a:ea typeface="Cambria Math"/>
              </a:rPr>
              <a:t>t</a:t>
            </a:r>
            <a:r>
              <a:rPr b="1" lang="ru-RU" sz="1600" spc="-1" strike="noStrike">
                <a:solidFill>
                  <a:srgbClr val="321900"/>
                </a:solidFill>
                <a:latin typeface="Times New Roman"/>
                <a:ea typeface="Cambria Math"/>
              </a:rPr>
              <a:t>≠</a:t>
            </a:r>
            <a:r>
              <a:rPr b="1" lang="en-US" sz="1600" spc="-1" strike="noStrike">
                <a:solidFill>
                  <a:srgbClr val="321900"/>
                </a:solidFill>
                <a:latin typeface="Times New Roman"/>
                <a:ea typeface="Cambria Math"/>
              </a:rPr>
              <a:t> </a:t>
            </a:r>
            <a:r>
              <a:rPr b="1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‘  </a:t>
            </a:r>
            <a:r>
              <a:rPr b="0" lang="ru-RU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тогда  </a:t>
            </a:r>
            <a:r>
              <a:rPr b="0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t² ( c² - </a:t>
            </a:r>
            <a:r>
              <a:rPr b="0" lang="el-GR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υ²</a:t>
            </a:r>
            <a:r>
              <a:rPr b="0" lang="en-US" sz="16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)  =  c² t’ ²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Monotype Corsiva"/>
              </a:rPr>
              <a:t>                 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Monotype Corsiva"/>
              </a:rPr>
              <a:t>   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160" y="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28840" y="2643120"/>
            <a:ext cx="1071360" cy="1214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857160" y="28576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Arial"/>
              </a:rPr>
              <a:t>t =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 flipH="1" flipV="1">
            <a:off x="-357120" y="369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4429080" y="2643120"/>
            <a:ext cx="107172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643200" y="278604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321900"/>
                </a:solidFill>
                <a:latin typeface="Monotype Corsiva"/>
              </a:rPr>
              <a:t> =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6286680" y="27147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1900"/>
                </a:solidFill>
                <a:latin typeface="Arial"/>
              </a:rPr>
              <a:t>t  = </a:t>
            </a:r>
            <a:r>
              <a:rPr b="0" lang="el-GR" sz="24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  t'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500040" y="4214880"/>
            <a:ext cx="8001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системе ,движущейся со скоростью близкой  к скорости света, время течет  в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едленне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замедляются все физические процессы , в том числе и химические реакции в человеческом организме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радокс   близнец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4300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усть возраст близнецов 20 лет. Близнец А остается на Земле , а  В направляется к звезде Арктур ( 40 св.лет) и летит со скоростью  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=0,99 с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ремя путешествия близнеца В в системе отсчета , связанной с близнецом А :      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t=2L / 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= 80,8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св.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космическом корабле часы идут медленне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= 7,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.е  по часам близнеца В , время его путешествия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t’= t /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80,8/ 7,09= 11,4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(св.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5" descr="SWScan00403.tif"/>
          <p:cNvPicPr/>
          <p:nvPr/>
        </p:nvPicPr>
        <p:blipFill>
          <a:blip r:embed="rId1"/>
          <a:stretch/>
        </p:blipFill>
        <p:spPr>
          <a:xfrm>
            <a:off x="4648320" y="1214280"/>
            <a:ext cx="4495680" cy="142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8320" y="2928600"/>
            <a:ext cx="40384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+11,4=31,4 ( возраст близнеца В после возвращ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+80,8= 100,8 ( возраст близнеца А к моменту возвращения брат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= 69,4 –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сть в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1071720" y="4643280"/>
            <a:ext cx="92844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4"/>
          <p:cNvSpPr/>
          <p:nvPr/>
        </p:nvSpPr>
        <p:spPr>
          <a:xfrm>
            <a:off x="571680" y="357120"/>
            <a:ext cx="757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1900"/>
                </a:solidFill>
                <a:latin typeface="Monotype Corsiva"/>
              </a:rPr>
              <a:t>Относительность    расстояния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57120" y="1071720"/>
            <a:ext cx="864396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Собственная длина </a:t>
            </a:r>
            <a:r>
              <a:rPr b="0" lang="en-US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l</a:t>
            </a:r>
            <a:r>
              <a:rPr b="0" lang="en-US" sz="2400" spc="-1" strike="noStrike" baseline="-30000">
                <a:solidFill>
                  <a:srgbClr val="321900"/>
                </a:solidFill>
                <a:latin typeface="Monotype Corsiva"/>
                <a:ea typeface="Calibri"/>
              </a:rPr>
              <a:t>0</a:t>
            </a:r>
            <a:r>
              <a:rPr b="0" lang="ru-RU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 -  длина в системе  К',  в которой тело покоится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  <a:ea typeface="Calibri"/>
              </a:rPr>
              <a:t> </a:t>
            </a:r>
            <a:r>
              <a:rPr b="0" lang="ru-RU" sz="3200" spc="-1" strike="noStrike">
                <a:solidFill>
                  <a:srgbClr val="321900"/>
                </a:solidFill>
                <a:latin typeface="Monotype Corsiva"/>
                <a:ea typeface="Calibri"/>
              </a:rPr>
              <a:t>С</a:t>
            </a:r>
            <a:r>
              <a:rPr b="0" lang="ru-RU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истема  К’ движется относительно  К  со скоростью  </a:t>
            </a:r>
            <a:r>
              <a:rPr b="0" lang="el-GR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υ</a:t>
            </a:r>
            <a:r>
              <a:rPr b="0" lang="ru-RU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Длина тела  относительно системы  К  равна  </a:t>
            </a:r>
            <a:r>
              <a:rPr b="0" lang="en-US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l 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1900"/>
                </a:solidFill>
                <a:latin typeface="Monotype Corsiva"/>
                <a:ea typeface="Calibri"/>
              </a:rPr>
              <a:t>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l 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Monotype Corsiva"/>
                <a:ea typeface="Calibri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 = 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l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  <a:ea typeface="Calibri"/>
              </a:rPr>
              <a:t>Т.е при движении со скоростью близкой к скорости света размеры тела сокращаются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00240" y="2643120"/>
            <a:ext cx="71460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/>
          <p:cNvSpPr/>
          <p:nvPr/>
        </p:nvSpPr>
        <p:spPr>
          <a:xfrm>
            <a:off x="714240" y="642960"/>
            <a:ext cx="750096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са поко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ﻩ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асса тела в СО , в которой тело покоится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 со скоростью близкой к скорости света масса тела увеличивается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</a:t>
            </a:r>
            <a:r>
              <a:rPr b="0" lang="ar-AE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ﻩ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  =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ульс 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p  =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m</a:t>
            </a:r>
            <a:r>
              <a:rPr b="0" lang="ar-AE" sz="2800" spc="-1" strike="noStrike">
                <a:solidFill>
                  <a:srgbClr val="0000ff"/>
                </a:solidFill>
                <a:latin typeface="Monotype Corsiva"/>
                <a:cs typeface="Times New Roman"/>
              </a:rPr>
              <a:t>ﻩ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el-GR" sz="2800" spc="-1" strike="noStrike">
                <a:solidFill>
                  <a:srgbClr val="0000ff"/>
                </a:solidFill>
                <a:latin typeface="Monotype Corsiva"/>
              </a:rPr>
              <a:t>υ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 </a:t>
            </a:r>
            <a:r>
              <a:rPr b="0" lang="el-GR" sz="2400" spc="-1" strike="noStrike">
                <a:solidFill>
                  <a:srgbClr val="000000"/>
                </a:solidFill>
                <a:latin typeface="Monotype Corsiva"/>
              </a:rPr>
              <a:t>υ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Monotype Corsiva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 →  ∞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поэтому а →0 и скорость практически перестает возрастать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ак бы долго не действовала сила.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2571840" y="314316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Прямая соединительная линия 11"/>
          <p:cNvSpPr/>
          <p:nvPr/>
        </p:nvSpPr>
        <p:spPr>
          <a:xfrm>
            <a:off x="2643120" y="3071880"/>
            <a:ext cx="10717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2"/>
          <a:stretch/>
        </p:blipFill>
        <p:spPr>
          <a:xfrm>
            <a:off x="6072120" y="4572000"/>
            <a:ext cx="1214640" cy="928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>
            <a:off x="6072120" y="4500720"/>
            <a:ext cx="12146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4"/>
          <p:cNvSpPr/>
          <p:nvPr/>
        </p:nvSpPr>
        <p:spPr>
          <a:xfrm>
            <a:off x="428760" y="928800"/>
            <a:ext cx="80722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юбое тело уже благодаря факту существования обладает энергией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Е </a:t>
            </a:r>
            <a:r>
              <a:rPr b="0" lang="ar-AE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ﻩ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m </a:t>
            </a:r>
            <a:r>
              <a:rPr b="0" lang="ar-AE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²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ергия покоя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m </a:t>
            </a:r>
            <a:r>
              <a:rPr b="0" lang="ar-AE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ﻩ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Е =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m c²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=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формула  А.Эйнштейн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∆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Е = ∆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m c²             E ² = c²  p ²  + c m²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2143080" y="3500280"/>
            <a:ext cx="1357200" cy="1133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Прямая соединительная линия 9"/>
          <p:cNvSpPr/>
          <p:nvPr/>
        </p:nvSpPr>
        <p:spPr>
          <a:xfrm>
            <a:off x="2286000" y="3429000"/>
            <a:ext cx="121428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7:13:53Z</dcterms:created>
  <dc:creator>ЯНА</dc:creator>
  <dc:description/>
  <dc:language>en-US</dc:language>
  <cp:lastModifiedBy>admi</cp:lastModifiedBy>
  <dcterms:modified xsi:type="dcterms:W3CDTF">2012-01-08T10:58:36Z</dcterms:modified>
  <cp:revision>79</cp:revision>
  <dc:subject/>
  <dc:title>релятив.мех</dc:title>
</cp:coreProperties>
</file>