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652-EE1D-41FC-9FAC-FB35D3B8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61-71A5-4A6A-9DB0-89AA01C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DDB-9775-41F4-AE6D-2CA13C16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104-EF15-441A-8F39-935DCE30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7CB-D247-400E-B01E-F49FCA7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77F-F4F1-4D52-BFD1-A916C2B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4A4-B26D-49B9-B0F0-0ADB15B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0FD-DFBC-4941-8440-7C23B781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F63-BE65-4530-BD9D-673FA01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A64-4F7B-4E7E-9DD2-ABD18B7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A21-1A2E-48CB-8918-9A701F7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5CE-C25B-4FE6-A82B-46E8019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EB35-7134-44BB-B779-F9CA3A71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2520" y="404640"/>
            <a:ext cx="355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Алгорит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920" y="1484280"/>
            <a:ext cx="7858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решения зада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на нахождение слагаемы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по сумме и раз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4148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423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7800" y="9360"/>
            <a:ext cx="39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 Миши и Да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0"/>
            <a:ext cx="7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2880" y="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знач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4508640"/>
            <a:ext cx="259236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373720"/>
            <a:ext cx="36716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9440" y="4915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4051440"/>
            <a:ext cx="6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4076640"/>
            <a:ext cx="432000" cy="151128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8160" y="4508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4508640"/>
            <a:ext cx="0" cy="93636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750200" y="4690080"/>
            <a:ext cx="219240" cy="1008000"/>
          </a:xfrm>
          <a:custGeom>
            <a:avLst/>
            <a:gdLst>
              <a:gd name="textAreaLeft" fmla="*/ 64440 w 219240"/>
              <a:gd name="textAreaRight" fmla="*/ 219600 w 21924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8160" y="41940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480" y="981000"/>
            <a:ext cx="72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 Миши на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начков бол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3760" y="1989000"/>
            <a:ext cx="69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колько значков у каждого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5400000">
            <a:off x="2880360" y="2888280"/>
            <a:ext cx="216000" cy="2592360"/>
          </a:xfrm>
          <a:custGeom>
            <a:avLst/>
            <a:gdLst>
              <a:gd name="textAreaLeft" fmla="*/ 63360 w 216000"/>
              <a:gd name="textAreaRight" fmla="*/ 216360 w 216000"/>
              <a:gd name="textAreaTop" fmla="*/ 108000 h 2592360"/>
              <a:gd name="textAreaBottom" fmla="*/ 24843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419640" y="3788640"/>
            <a:ext cx="216000" cy="3671640"/>
          </a:xfrm>
          <a:custGeom>
            <a:avLst/>
            <a:gdLst>
              <a:gd name="textAreaLeft" fmla="*/ 0 w 216000"/>
              <a:gd name="textAreaRight" fmla="*/ 151560 w 216000"/>
              <a:gd name="textAreaTop" fmla="*/ 153000 h 3671640"/>
              <a:gd name="textAreaBottom" fmla="*/ 3519000 h 36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68920" y="32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3800" y="5877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71640" y="1341360"/>
            <a:ext cx="259236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800" y="20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720" y="836640"/>
            <a:ext cx="6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1268280"/>
            <a:ext cx="431640" cy="1511280"/>
          </a:xfrm>
          <a:custGeom>
            <a:avLst/>
            <a:gdLst>
              <a:gd name="textAreaLeft" fmla="*/ 0 w 431640"/>
              <a:gd name="textAreaRight" fmla="*/ 155880 w 43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7440" y="1700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1413000"/>
            <a:ext cx="0" cy="93636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958560" y="1882080"/>
            <a:ext cx="218880" cy="1008000"/>
          </a:xfrm>
          <a:custGeom>
            <a:avLst/>
            <a:gdLst>
              <a:gd name="textAreaLeft" fmla="*/ 64440 w 218880"/>
              <a:gd name="textAreaRight" fmla="*/ 219240 w 21888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6160" y="14130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565360"/>
            <a:ext cx="259236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565360"/>
            <a:ext cx="10080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32720" y="3141720"/>
            <a:ext cx="39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Уравнять част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6160" y="328464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а -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4005360"/>
            <a:ext cx="324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Найти 1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5280" y="1197000"/>
            <a:ext cx="3024360" cy="1440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2720" y="407664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–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" y="47242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мен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6520" y="494172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Найти 2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800" y="5516640"/>
            <a:ext cx="29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: 2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+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2920" y="60404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1341360"/>
            <a:ext cx="259236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800" y="20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2720" y="836640"/>
            <a:ext cx="6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1268280"/>
            <a:ext cx="431640" cy="1511280"/>
          </a:xfrm>
          <a:custGeom>
            <a:avLst/>
            <a:gdLst>
              <a:gd name="textAreaLeft" fmla="*/ 0 w 431640"/>
              <a:gd name="textAreaRight" fmla="*/ 155880 w 43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7440" y="1700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413000"/>
            <a:ext cx="0" cy="93636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3958560" y="1882080"/>
            <a:ext cx="218880" cy="1008000"/>
          </a:xfrm>
          <a:custGeom>
            <a:avLst/>
            <a:gdLst>
              <a:gd name="textAreaLeft" fmla="*/ 64440 w 218880"/>
              <a:gd name="textAreaRight" fmla="*/ 219240 w 21888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6160" y="14130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565360"/>
            <a:ext cx="259236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720" y="3141720"/>
            <a:ext cx="39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Уравнять част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440" y="328464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а -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4005360"/>
            <a:ext cx="324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Найти 1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720" y="407664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–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960" y="4724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мен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520" y="494172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Найти 2 ч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800" y="5516640"/>
            <a:ext cx="29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: 2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+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000" y="61657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2520" y="3284640"/>
            <a:ext cx="12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 +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8160" y="4005360"/>
            <a:ext cx="21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+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8880" y="5516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(а +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: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2 -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6680" y="60930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мен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0636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10080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341360"/>
            <a:ext cx="100800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55280" y="1341360"/>
            <a:ext cx="3887640" cy="129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7440" y="476280"/>
            <a:ext cx="741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"/>
              </a:rPr>
              <a:t>Способы решен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5400" y="3284640"/>
            <a:ext cx="341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(а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–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2680" y="3284640"/>
            <a:ext cx="31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(а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n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716400">
            <a:off x="2323800" y="2005200"/>
            <a:ext cx="1812960" cy="485640"/>
          </a:xfrm>
          <a:prstGeom prst="leftArrow">
            <a:avLst>
              <a:gd name="adj1" fmla="val 50000"/>
              <a:gd name="adj2" fmla="val 9332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2883600">
            <a:off x="4916520" y="2004840"/>
            <a:ext cx="1812960" cy="486000"/>
          </a:xfrm>
          <a:prstGeom prst="leftArrow">
            <a:avLst>
              <a:gd name="adj1" fmla="val 50000"/>
              <a:gd name="adj2" fmla="val 93259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00816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9:17:29Z</dcterms:created>
  <dc:creator>Admin</dc:creator>
  <dc:description/>
  <dc:language>en-US</dc:language>
  <cp:lastModifiedBy>Admin</cp:lastModifiedBy>
  <dcterms:modified xsi:type="dcterms:W3CDTF">2010-01-25T21:59:10Z</dcterms:modified>
  <cp:revision>8</cp:revision>
  <dc:subject/>
  <dc:title>Слайд 1</dc:title>
</cp:coreProperties>
</file>