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9.gif" ContentType="image/gif"/>
  <Override PartName="/ppt/media/image17.wmf" ContentType="image/x-wmf"/>
  <Override PartName="/ppt/media/image15.jpeg" ContentType="image/jpeg"/>
  <Override PartName="/ppt/media/image16.jpeg" ContentType="image/jpeg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0F9-07F1-488D-BCDB-B923E804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432-E279-4901-A8A9-2CD596FA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F64-6A81-4B95-AC0F-AEE56282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975B-CD62-442E-9BC8-A38025A0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3A1C-A86B-4281-ABA9-BF546DC9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807B-3D17-49B7-9546-EEC6EE67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B572-1FDE-417C-97C3-FEE85B57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B078-C59F-446D-887E-014DF5F0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A85E-A8A7-4E49-A555-8BDDF79A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5FA5-DBCB-4D8C-AF82-AAB8ED0A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1072-D33A-4D69-9276-0EAEB817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3F1B-DCED-4F12-B35A-9A67C60F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8FA1-B8D3-473E-9AB1-18782138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135B-6F3B-4C97-ACAA-A9C103FF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8E57-D1E2-4567-AA2B-B9837740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7A5E-D3CA-4A99-AAB3-B50218F0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65B7-F64E-460B-8A57-D0EEA643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AE1-F5C2-4DD2-BE78-D30AB5A2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FCC-A1D8-4026-87C7-6741326D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503-4F91-4797-8E28-4F998999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940C-959B-49E0-AD78-80BD9921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5DC-17CD-4CB0-A3EC-BDCEA797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3570-33F1-479F-BCFA-AD46CDC2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B6E1-DD13-4987-A663-8BE15163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ABBF-370C-4525-8CAE-232730B755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C985-BA47-4395-95CB-D73645B1A8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Antisthenes_BM_1838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u.wikipedia.org/wiki/&#1048;&#1079;&#1086;&#1073;&#1088;&#1072;&#1078;&#1077;&#1085;&#1080;&#1077;:Slavetreatment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Есть ли у нас рабство?»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цы 9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жугет Аю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ехова Татьян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5_23"/>
          <p:cNvPicPr/>
          <p:nvPr/>
        </p:nvPicPr>
        <p:blipFill>
          <a:blip r:embed="rId1"/>
          <a:stretch/>
        </p:blipFill>
        <p:spPr>
          <a:xfrm>
            <a:off x="0" y="3327480"/>
            <a:ext cx="3995640" cy="3530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28a"/>
          <p:cNvPicPr/>
          <p:nvPr/>
        </p:nvPicPr>
        <p:blipFill>
          <a:blip r:embed="rId2"/>
          <a:stretch/>
        </p:blipFill>
        <p:spPr>
          <a:xfrm>
            <a:off x="0" y="0"/>
            <a:ext cx="1609560" cy="2028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друг, она стала много пить, т. е. стала  рабой алкоголя, что в последствии привело к лишению родительских прав. Но ее ничего не останавливало. Однажды она продала все, что  имела. А когда опомнилась, было уже позд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PICT0092"/>
          <p:cNvPicPr/>
          <p:nvPr/>
        </p:nvPicPr>
        <p:blipFill>
          <a:blip r:embed="rId1"/>
          <a:stretch/>
        </p:blipFill>
        <p:spPr>
          <a:xfrm>
            <a:off x="4765680" y="2205000"/>
            <a:ext cx="437832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 чем разница между рабом и свободным человеком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иси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меет пр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меет соб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ет на хозя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ет из-под па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роявляет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зненное кредо: «А оно мне надо?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ВОБОДНЫЙ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соб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ет для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ет с жел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зненное кредо: «Если не я, то кто же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мотрим, что говорят мудрецы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59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нтисфен: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то боится других, тот раб, хотя он этого и не замеча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вает человек – раб своей трусости. Но сам себе, а тем более другим он в этом никогда не признается. И потому все больше становится рабом своей трусости. И будет выполнять то, что ему прикажут, даже если он этого не хочет дел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51280" y="1599840"/>
            <a:ext cx="303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Антисфен,  Британский музей, Лондо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557360"/>
            <a:ext cx="2995560" cy="454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ратимся к мудреца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30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. Бердяев: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еловек раб потому, ч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бода труд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бство же легко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бодный человек, чем больше имеет свободы, тем больше возрастает и его ответственность. Многие согласны подчиняться, быть на вторых ролях,  чем нести ответственность за какое-то дело, за други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64000" y="1599840"/>
            <a:ext cx="332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berdyaev2"/>
          <p:cNvPicPr/>
          <p:nvPr/>
        </p:nvPicPr>
        <p:blipFill>
          <a:blip r:embed="rId1"/>
          <a:stretch/>
        </p:blipFill>
        <p:spPr>
          <a:xfrm>
            <a:off x="5364000" y="1484280"/>
            <a:ext cx="3527640" cy="463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ратимся к мудреца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35280" y="1599840"/>
            <a:ext cx="505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. Достоевский: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Богатство, грубость наслаждений порождают лень, а лень порождает раб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– раб своей лени. Лень завладевает всем существом человека. Он хочет жить богато, но не хочет работать. Он хочет выглядеть красиво, но не хочет стирать, гладить. Не зря говорят: «Лень – мать всех пороков». От лени люди становятся бездельниками, иждивенцами, во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img"/>
          <p:cNvPicPr/>
          <p:nvPr/>
        </p:nvPicPr>
        <p:blipFill>
          <a:blip r:embed="rId1"/>
          <a:stretch/>
        </p:blipFill>
        <p:spPr>
          <a:xfrm>
            <a:off x="250920" y="1413000"/>
            <a:ext cx="3255840" cy="488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ратимся к мудреца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мфо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«Почти все люди рабы, и это объясняется той же причиной, какой спартанцы объясняли приниженность персов: они не в силах произнести слово «нет». Умение произносить его и умение жить уединенно – вот способы, какими только и можно отстоять свою независимость и свою личнос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не стать рабом своей слабости, необходимо научиться говорить «нет» в определенных ситуациях, когда, например, друзья тебе предлагают сделать то, что противоречит твоим принципам. Будь принципиальным, тогда ты не станешь  раб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ратимся к мудреца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482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. Гёте: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амое большое рабство – не обладая свободой, считать себя свободн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 один пьяница никогда не признается в том, что не может жить без спиртного. Он с уверенностью заявляет, что бросит пить, когда захочет, считает себя свободным. Но он уже раб алкоголя. И из этого рабства никто не сможет его освободить, кроме него самого. Но алкоголь сделал свое дело и не отпустит от себя ра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Johann Heinrich Lips, Porträt Goethe Kreidezeichnung 1791 © Freies Deutsches Hochstift - Frankfurter Goethe-Museum"/>
          <p:cNvPicPr/>
          <p:nvPr/>
        </p:nvPicPr>
        <p:blipFill>
          <a:blip r:embed="rId1"/>
          <a:stretch/>
        </p:blipFill>
        <p:spPr>
          <a:xfrm>
            <a:off x="5508720" y="2133720"/>
            <a:ext cx="3313080" cy="24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ратимся к мудреца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Эпиктет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«Раб тот, кто не умеет владеть соб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человек страдает от того, что у него самого плохой характер, он раб своих дурных привычек. Он не может заставить себя не кричать, не выражаться нецензурной бранью, не грубить, не драться, не лениться и т.п. Из-за своего характера он портит жизнь и себе, и окружающим людям. Но сам он в этом не признается, а будет говорить, что его окружают плохие люди, которые мешают ему 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ЫВОД: Есть ли сейчас рабство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думаю, рабство есть и в наши д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ская психология живет  в люд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становится рабом по собственному жела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вободного человека всегда есть выбор. Из любой ситуации можно найти выход. У человека всегда бывают какие-то проблемы, и их надо решать, а не бежать от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бег от решения проблемы загоняет человека в тупик, он попадает в раб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j0332364"/>
          <p:cNvPicPr/>
          <p:nvPr/>
        </p:nvPicPr>
        <p:blipFill>
          <a:blip r:embed="rId1"/>
          <a:stretch/>
        </p:blipFill>
        <p:spPr>
          <a:xfrm>
            <a:off x="7812000" y="5784840"/>
            <a:ext cx="133200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нформационные источник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сква «ОЛМА-ПРЕСС Образование». 2003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зета «Комсомольская правд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жегов С.И. «Словарь русского языка», М., 198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хоров А.М. «Советский энциклопедический словарь», М., 198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охов. Э. «Энциклопедия афоризмов».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ель исследования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понятия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б, раб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сти исследование, может ли существовать рабство в свободном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мотреть, в каких формах проявляется рабство в наше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человек становится рабом в свободном обществ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22_09"/>
          <p:cNvPicPr/>
          <p:nvPr/>
        </p:nvPicPr>
        <p:blipFill>
          <a:blip r:embed="rId1"/>
          <a:stretch/>
        </p:blipFill>
        <p:spPr>
          <a:xfrm>
            <a:off x="6084720" y="4898880"/>
            <a:ext cx="3059280" cy="1959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то такое рабство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человек, лишенный всех прав и средств производства и являющийся полной собственностью владельца-господина, распоряжающегося его трудом и жизн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ависимый, угнетенный в условиях эксплуататорского общества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от, кто целиком подчинил чему-нибудь свою волю, свои поступ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остояние, положение ра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СТВО – это неволя, угне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8_05"/>
          <p:cNvPicPr/>
          <p:nvPr/>
        </p:nvPicPr>
        <p:blipFill>
          <a:blip r:embed="rId1"/>
          <a:stretch/>
        </p:blipFill>
        <p:spPr>
          <a:xfrm>
            <a:off x="6948360" y="5137200"/>
            <a:ext cx="2195640" cy="172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АКОЕ ПОЛОЖЕНИЕ В ОБЩЕСТВЕ ЗАНИМАЕТ РАБ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6328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 занимает самую низкую ступень в обще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 не ведёт самостоятельную жизнь, он полностью зависит от своего хозя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 выполняет всё, что пожелает хозя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18_06"/>
          <p:cNvPicPr/>
          <p:nvPr/>
        </p:nvPicPr>
        <p:blipFill>
          <a:blip r:embed="rId1"/>
          <a:stretch/>
        </p:blipFill>
        <p:spPr>
          <a:xfrm>
            <a:off x="0" y="4724280"/>
            <a:ext cx="1776240" cy="2133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Рабы часто подвергались телесным наказаниям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1484280"/>
            <a:ext cx="296532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Гипотез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Я думаю, что у нас есть рабство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 разделила бы его  на два вид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18_07"/>
          <p:cNvPicPr/>
          <p:nvPr/>
        </p:nvPicPr>
        <p:blipFill>
          <a:blip r:embed="rId1"/>
          <a:stretch/>
        </p:blipFill>
        <p:spPr>
          <a:xfrm>
            <a:off x="5761080" y="4508640"/>
            <a:ext cx="33829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1. Человек, подчиняющийся своему хозяину.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о значит, человек  делает все, что скажет хозяин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chita1"/>
          <p:cNvPicPr/>
          <p:nvPr/>
        </p:nvPicPr>
        <p:blipFill>
          <a:blip r:embed="rId1"/>
          <a:stretch/>
        </p:blipFill>
        <p:spPr>
          <a:xfrm>
            <a:off x="4859280" y="1701720"/>
            <a:ext cx="382608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пример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1999 года по 2001год один мужчина приготовил под гаражом подвальное помещение для своих будущих рабынь. И в мае 2001года, когда две девочки подросткового возраста на дороге ловили такси, он предложил довести их до желаемого места. Но привез их в свою деревню. Когда подростки стали возмущаться, он предложил выпить чай его мамы,  со снотворным, а затем перенес их в подвал. Потом он делал с ними все, что хот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t21"/>
          <p:cNvPicPr/>
          <p:nvPr/>
        </p:nvPicPr>
        <p:blipFill>
          <a:blip r:embed="rId1"/>
          <a:stretch/>
        </p:blipFill>
        <p:spPr>
          <a:xfrm>
            <a:off x="7531200" y="4365720"/>
            <a:ext cx="1347840" cy="22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полтора года девочка постарше была беременна. Когда она родила, мужчина подбросил ребенка к соседям. А в феврале 2004 года эта девочка оказалась второй раз беремен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в июне этого года девушки были освобождены от рабства  работниками милиции с помощью одной студентки, проживавшей по соседству. Люди помогли девушкам устроить дальнейшую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t10"/>
          <p:cNvPicPr/>
          <p:nvPr/>
        </p:nvPicPr>
        <p:blipFill>
          <a:blip r:embed="rId1"/>
          <a:stretch/>
        </p:blipFill>
        <p:spPr>
          <a:xfrm>
            <a:off x="7524720" y="0"/>
            <a:ext cx="1381320" cy="14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2. Человек, не имеющий силы вол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значает, что человек поддается влиянию своих вредных привычек. Например, в одной деревне жила женщина, которая была учительницей. Она имела двух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t16"/>
          <p:cNvPicPr/>
          <p:nvPr/>
        </p:nvPicPr>
        <p:blipFill>
          <a:blip r:embed="rId1"/>
          <a:stretch/>
        </p:blipFill>
        <p:spPr>
          <a:xfrm>
            <a:off x="6804000" y="3429000"/>
            <a:ext cx="2104920" cy="31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09:00:56Z</dcterms:created>
  <dc:creator>Татьяна Ивановна</dc:creator>
  <dc:description/>
  <dc:language>en-US</dc:language>
  <cp:lastModifiedBy>Татьяна Ивановна</cp:lastModifiedBy>
  <dcterms:modified xsi:type="dcterms:W3CDTF">2012-01-09T11:13:15Z</dcterms:modified>
  <cp:revision>7</cp:revision>
  <dc:subject/>
  <dc:title>Есть ли у нас рабство?» </dc:title>
</cp:coreProperties>
</file>