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EAF66-288B-4FCE-955C-73B05182E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255ED-58A8-43E4-8278-6DD15D4C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97D33-B2CB-467D-A88A-2488DE0C1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F993A-079D-4FF1-A893-AD61A58E4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140715F-90BB-4B5E-BA41-D1F8731BE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2D587B-0779-4076-94B7-47682D885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B349CE-091A-4093-BF13-C58628215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966AF7-5240-4E7B-B1CC-90552B0BA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5CC15A-99FA-40FE-89D1-6B1575E5C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79A3E9-DE60-4BDF-91A3-E5B91FF2B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595743-69F9-4D32-AA0E-05E07E8B4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073F-8881-4B97-973D-E7C6161CB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DF052D-1FA4-4B10-AD87-DDA27DA0C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861CFA-A5C1-4B9D-A21D-4E3C39BFE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9CC95C-5287-459B-B346-4B50CCB2A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3FB7C98-5B39-4C75-8997-B2101D743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AF08A7-095D-4A8B-B455-483FD1E9A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54B56-F7E5-4EB4-BDFB-C0F99273E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82DF9-5A38-4339-9AD2-36400BBD4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00A5A-CB9C-4F22-8387-F2684147F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C5A7-490F-44B4-B43B-958D3D274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1862-73BE-4E87-A109-D9F16203D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AB764-73A5-4A2F-A5F7-1965390AC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672F9-2051-4D3D-80C6-95E041D2D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E89D-0628-47CC-8DEC-B18CAEC7C0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0E46-916F-4E21-9C15-AFA3AB1F2F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0"/>
            <a:ext cx="5627520" cy="31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Гавриил Романович Державин и Тамбовский край</a:t>
            </a:r>
            <a:endParaRPr b="0" lang="en-US" sz="4800" spc="-1" strike="noStrike">
              <a:solidFill>
                <a:srgbClr val="e3e3ff"/>
              </a:solidFill>
              <a:latin typeface="Arial"/>
            </a:endParaRPr>
          </a:p>
        </p:txBody>
      </p:sp>
      <p:sp>
        <p:nvSpPr>
          <p:cNvPr id="123" name="PlaceHolder 2"/>
          <p:cNvSpPr>
            <a:spLocks noGrp="1"/>
          </p:cNvSpPr>
          <p:nvPr>
            <p:ph type="subTitle"/>
          </p:nvPr>
        </p:nvSpPr>
        <p:spPr>
          <a:xfrm>
            <a:off x="6014880" y="5105520"/>
            <a:ext cx="3129120" cy="17524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аботу выполнил ученик 8 класса филиала МБОУ Уваровщинской сош в п. Садовый Кирсановского района Журавлёв Алексей</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уководитель Журавлева Елена Александровна</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24" name="" descr=""/>
          <p:cNvPicPr/>
          <p:nvPr/>
        </p:nvPicPr>
        <p:blipFill>
          <a:blip r:embed="rId1"/>
          <a:stretch/>
        </p:blipFill>
        <p:spPr>
          <a:xfrm>
            <a:off x="0" y="0"/>
            <a:ext cx="3067200" cy="491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7360" y="-528012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 name="PlaceHolder 2"/>
          <p:cNvSpPr>
            <a:spLocks noGrp="1"/>
          </p:cNvSpPr>
          <p:nvPr>
            <p:ph/>
          </p:nvPr>
        </p:nvSpPr>
        <p:spPr>
          <a:xfrm>
            <a:off x="3492000" y="-360"/>
            <a:ext cx="5651640" cy="41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Я любил чистосердечь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умал нравиться лишь и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м и сердце человечь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Были гением мои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Г. Р. Державин</a:t>
            </a:r>
            <a:endParaRPr b="0" lang="en-US" sz="3200" spc="-1" strike="noStrike">
              <a:solidFill>
                <a:srgbClr val="ffffff"/>
              </a:solidFill>
              <a:latin typeface="Arial"/>
            </a:endParaRPr>
          </a:p>
        </p:txBody>
      </p:sp>
      <p:pic>
        <p:nvPicPr>
          <p:cNvPr id="127" name="" descr=""/>
          <p:cNvPicPr/>
          <p:nvPr/>
        </p:nvPicPr>
        <p:blipFill>
          <a:blip r:embed="rId1"/>
          <a:stretch/>
        </p:blipFill>
        <p:spPr>
          <a:xfrm>
            <a:off x="0" y="0"/>
            <a:ext cx="3419640" cy="4292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Биография</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одился поэт в 1743 году в дворянской семье. Его предком был мурза Абрагим, который в 15 веке служил у великого князя Василия Темного. В 1762 году Державин окончил Казанскую гимназию, затем проходил службу в Преображенском полку. Тогда он и начал писать свои первые стихи. В 1774 году Державин был произведен в чин поручика. Поэт принимал участие в подавлении пугачевского восстания. С 1777 года он служил в Сенате. Первый сборник поэта «Оды, переведённые и сочинённые при горе Читалагае», остался незамеченным. Лишь в 1779 году, после опубликования его произведений «На смерть князя Мещерского», «Ключ» и других к Державину пришла известность. В 1782 году Державиным была написана ода «Фелица», благодаря которой он обрел благосклонность императрицы Екатерины II, славу поэта и критику недоброжелателей. В 1784 году он вышел в отставку, но по протекции Екатерины стал правителем Олонецкого наместничества.</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Тамбовский период в жизни поэта</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марте 1786 года указом императрицы Г.Р.Державин был назначен правителем Тамбовского наместничества, где он прослужил до конца 1788 года. Во время его правления в Тамбове началось активное строительство кирпичных домов, город стал благоустраиваться, были построены больница, богадельня, сиротский дом. Особое внимание Державин уделял судоходству по Цне, желая устроить на ней шлюзы. При нем началось топографическое описание местности.</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 время своего наместничества Державин превратил Тамбовскую губернию в очаг гуманитарной культуры. У него дома была создана школа, в которой детей дворян по воскресеньям обучали грамоте, танцам, музыке, театральному искусству. В его доме ставили пьесы, он оказывал помощь в создании городского оркестра и хора.</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ржавин проявлял исключительную энергию и решимость в деле просвещения. В результате его работы в Тамбове и уездных городах были созданы Главное и малые народные училища, семинария с классами риторики, философии и богословия. В Козлове, Елатьме, Лебедяни и Моршанске были открыты двухклассные народные училища.</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оэзия Тамбовского периода</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Тамбове Державин написал множество своих произведений – драму «Пролог», оды «На смерть графини Румянцевой», «Осень во время осады Очакова», «Властителям и судиям», стихи и эпиграммы. Исследователи его поэзии считают, что в произведениях Державина отражена история России 18 века, жизнь и служба поэт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5280120"/>
            <a:ext cx="227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5" name="PlaceHolder 2"/>
          <p:cNvSpPr>
            <a:spLocks noGrp="1"/>
          </p:cNvSpPr>
          <p:nvPr>
            <p:ph/>
          </p:nvPr>
        </p:nvSpPr>
        <p:spPr>
          <a:xfrm>
            <a:off x="3276720" y="0"/>
            <a:ext cx="5867280" cy="685800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ризнание</a:t>
            </a:r>
            <a:endParaRPr b="0" lang="en-US" sz="14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 умел я притворяться,</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 святого походить,</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ажным саном надуваться</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 философа брать вид;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Я любил чистосердечье,</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умал нравиться лишь и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Ум и сердце человечье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ыли гением мои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я блистал восторго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 струн моих огонь летел,</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 собой блистал я – бого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 себя я бога пел.</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звуки посвящались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иры моея царям, -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бродетельми казались</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Мне они равны бога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за победы громки,</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Я венцы сплетал вождям,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умал перелить в потомки</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уши их и их детя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где вельможам властным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мел я правду брякнуть вслух,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Мнил быть сердцем беспристрастны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м, царю, отчизне друг.</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ж я и суетою</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ам был света обольщён,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знаюся, красотою</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ыв пленённым, пел и жён.</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ловом: жёг любви коль пламень,</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адал я, вставал в мой век.</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рось, мудрец, на гроб мой камень,</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ты не человек.</a:t>
            </a:r>
            <a:endParaRPr b="0" lang="en-US" sz="1200" spc="-1" strike="noStrike">
              <a:solidFill>
                <a:srgbClr val="ffffff"/>
              </a:solidFill>
              <a:latin typeface="Arial"/>
            </a:endParaRPr>
          </a:p>
        </p:txBody>
      </p:sp>
      <p:pic>
        <p:nvPicPr>
          <p:cNvPr id="136" name="" descr=""/>
          <p:cNvPicPr/>
          <p:nvPr/>
        </p:nvPicPr>
        <p:blipFill>
          <a:blip r:embed="rId1"/>
          <a:stretch/>
        </p:blipFill>
        <p:spPr>
          <a:xfrm>
            <a:off x="0" y="0"/>
            <a:ext cx="3238560" cy="4762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амять о Державине</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амбовцы хранят память о поэте, государственном деятеле, руководителе Тамбовского наместничества Г. Р. Державине. Ещё в 1916 г., в ознаменовании 100 – летия со дня его кончины, городская Дума приняла решение о переименовании улицы Бибиковской, которая с тех пор называется Державинской. Имя поэта носят в Тамбове гимназия № 12 и Тамбовский государственный университет. 16 июля 1994 г. в областном центре был открыт памятник Г. Р. Державину, установленный в начале улицы Державинской ( скульптор К. Малофеев, архитектор А. Куликов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280120"/>
            <a:ext cx="1540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3780000" y="1600200"/>
            <a:ext cx="4906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амятник Г. Р. Державину в Тамбове на улице, носящей его имя</a:t>
            </a:r>
            <a:endParaRPr b="0" lang="en-US" sz="2800" spc="-1" strike="noStrike">
              <a:solidFill>
                <a:srgbClr val="ffffff"/>
              </a:solidFill>
              <a:latin typeface="Arial"/>
            </a:endParaRPr>
          </a:p>
        </p:txBody>
      </p:sp>
      <p:pic>
        <p:nvPicPr>
          <p:cNvPr id="141" name="" descr=""/>
          <p:cNvPicPr/>
          <p:nvPr/>
        </p:nvPicPr>
        <p:blipFill>
          <a:blip r:embed="rId1"/>
          <a:stretch/>
        </p:blipFill>
        <p:spPr>
          <a:xfrm>
            <a:off x="0" y="0"/>
            <a:ext cx="3851280" cy="5157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6:13:53Z</dcterms:created>
  <dc:creator>Admin</dc:creator>
  <dc:description/>
  <dc:language>en-US</dc:language>
  <cp:lastModifiedBy>Admin</cp:lastModifiedBy>
  <dcterms:modified xsi:type="dcterms:W3CDTF">2012-01-09T11:59:46Z</dcterms:modified>
  <cp:revision>5</cp:revision>
  <dc:subject/>
  <dc:title>Гавриил Романович Державин и Тамбовский край</dc:title>
</cp:coreProperties>
</file>