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838-30FA-4B59-BE83-AEEC3964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EE8-8393-40C0-91A3-C98ED566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897-4270-4CB0-9A06-6B694E05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9C5-DE9C-4340-BCBA-1E79C07B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64513-D54B-4328-8552-811CFBD2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C5F41-EEC1-4CDB-B4AC-2A171910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7242E-B0A6-46C5-B55F-0FCB69E2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8DAD4-C379-4104-8D8F-215F35CB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D1F1F-A66C-41B7-9917-38E212A0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94629-A854-40C0-A1E7-AB8CF719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4E06A-AFE0-4C6F-9329-10931E9C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A81-654F-4262-8749-954BAFA1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48090-ADD0-4966-A271-9DEC32CF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16D2F-D1E7-48C1-88ED-08732F18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5C233-DC20-48E8-A0B0-5DE9370F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A667E-AEA1-4860-90CB-6AF10101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BBC79-E7D3-4F48-912F-2FA7B5C6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4214-3D35-459E-989D-A4F9CA02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FF8E-DA9D-43F7-8D8A-7D42B061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05DD-2BF6-4C20-B02E-257F32CA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2779-488B-4599-8EEE-554C4884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A7C9-458A-4C5D-AD97-A33AA8F3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02E-9172-4B00-97C1-E570C496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EF0E-1AAD-49F2-BF8C-7FCD43BE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AA62-F901-4424-8FBF-4DBFCE1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C834-A88A-48CB-9E1B-CC4EAD95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F8232-75A0-43CD-A597-4E67124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47B62-69C4-4FD0-BF4E-6A38C307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EEE9-279D-4DB1-86F6-67114B86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E070-4FF9-4498-A1B5-36E1FE72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EF712-5857-4A5E-9836-88D54B43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3EA57-D52E-445B-9C2A-FA94F75E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5743C-8B6C-4D53-90C9-8C0F3D9F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660-F48E-4ACF-B416-B6B37966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AA946-B60B-4EF0-9FAC-E2696FA6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7EC8C-CEE6-41BB-8839-EDB56018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09987-BA2C-4251-847A-C4BB003D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FFB3E-95A0-4287-8DD1-87CA4413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1D8B0-2334-42A8-AEB9-5B7A83F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58EFC-0A20-431B-B59A-502F0E24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66F012-5D3B-48C8-AADE-DF28511C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454132-604A-4D00-A9BD-4C69EA31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968CE-20F1-433F-83C9-936855AD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EFD-51D6-455F-AC5F-B29C257E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CFF-3ED4-4F28-A7EB-9934324F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38E-29BE-4C06-B7FB-095C7757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94A-61AA-4F0D-AB8E-F9012F32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7FC-582D-4450-B5E3-A080BFB0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654A-B3FC-47E9-A2A9-20DBA4B5DC01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eb80a"/>
          </a:solidFill>
          <a:ln w="38160">
            <a:solidFill>
              <a:srgbClr val="feb8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F61B-E33F-4CFB-B30A-BF8A0F72CDA8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840A-854E-495A-8F1B-B071429A0BB3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F0FB-74C2-4711-95ED-666DF8CB18AD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3429000" y="3714480"/>
            <a:ext cx="51436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nstantia"/>
              </a:rPr>
              <a:t>Урок истории, 8 класс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Constantia"/>
              </a:rPr>
              <a:t>Коробцова Оксана Леонидовна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Constantia"/>
              </a:rPr>
              <a:t>учитель истории и обществознани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Constantia"/>
              </a:rPr>
              <a:t>МОУ СОШ №4, г. Шелехо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20840" y="920880"/>
            <a:ext cx="10680480" cy="279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285920" y="1523880"/>
          <a:ext cx="6429240" cy="3749760"/>
        </p:xfrm>
        <a:graphic>
          <a:graphicData uri="http://schemas.openxmlformats.org/drawingml/2006/table">
            <a:tbl>
              <a:tblPr/>
              <a:tblGrid>
                <a:gridCol w="3214800"/>
                <a:gridCol w="3214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звитые страны Латинской Амер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1224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тсталые страны                          Латинской Амер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12240">
                      <a:solidFill>
                        <a:srgbClr val="feb80a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1224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1224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36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9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" descr=""/>
          <p:cNvPicPr/>
          <p:nvPr/>
        </p:nvPicPr>
        <p:blipFill>
          <a:blip r:embed="rId2"/>
          <a:stretch/>
        </p:blipFill>
        <p:spPr>
          <a:xfrm>
            <a:off x="4943520" y="1357200"/>
            <a:ext cx="3557520" cy="50878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174" name="Рисунок 6" descr="юж и сев амер.jpg"/>
          <p:cNvPicPr/>
          <p:nvPr/>
        </p:nvPicPr>
        <p:blipFill>
          <a:blip r:embed="rId3"/>
          <a:stretch/>
        </p:blipFill>
        <p:spPr>
          <a:xfrm>
            <a:off x="500040" y="1206360"/>
            <a:ext cx="3643200" cy="527220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2138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Constantia"/>
              </a:rPr>
              <a:t>Выберите правильный ответ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d46c"/>
                </a:solidFill>
                <a:latin typeface="Constantia"/>
              </a:rPr>
              <a:t>1. В  каких годах происходила Гражданская война в СШ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fff1ce"/>
                </a:solidFill>
                <a:latin typeface="Arial"/>
                <a:ea typeface="Arial"/>
              </a:rPr>
              <a:t>А) 1890-1900 ,  Б) 1861- 1865,      В) 1800- 180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d46c"/>
                </a:solidFill>
                <a:latin typeface="Constantia"/>
              </a:rPr>
              <a:t>         </a:t>
            </a:r>
            <a:r>
              <a:rPr b="1" lang="ru-RU" sz="2000" spc="-1" strike="noStrike">
                <a:solidFill>
                  <a:srgbClr val="fed46c"/>
                </a:solidFill>
                <a:latin typeface="Constantia"/>
              </a:rPr>
              <a:t>2. В каком году было отменено рабство в СШ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d46c"/>
                </a:solidFill>
                <a:latin typeface="Constantia"/>
              </a:rPr>
              <a:t>             </a:t>
            </a:r>
            <a:r>
              <a:rPr b="1" lang="ru-RU" sz="2000" spc="-1" strike="noStrike">
                <a:solidFill>
                  <a:srgbClr val="fff1ce"/>
                </a:solidFill>
                <a:latin typeface="Arial"/>
                <a:ea typeface="Arial"/>
              </a:rPr>
              <a:t>А) 1776,       Б) 1890,      В) 1863,       Г) 190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d46c"/>
                </a:solidFill>
                <a:latin typeface="Constantia"/>
              </a:rPr>
              <a:t>        </a:t>
            </a:r>
            <a:r>
              <a:rPr b="1" lang="ru-RU" sz="2000" spc="-1" strike="noStrike">
                <a:solidFill>
                  <a:srgbClr val="fed46c"/>
                </a:solidFill>
                <a:latin typeface="Constantia"/>
              </a:rPr>
              <a:t>3. Исторические личности. Авраам Линкольн – это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1ce"/>
                </a:solidFill>
                <a:latin typeface="Constantia"/>
              </a:rPr>
              <a:t>А) Президент США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1ce"/>
                </a:solidFill>
                <a:latin typeface="Constantia"/>
              </a:rPr>
              <a:t>Б) Человек, который отменил рабство в США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1ce"/>
                </a:solidFill>
                <a:latin typeface="Constantia"/>
              </a:rPr>
              <a:t>В) Человек, который был убит актером Бутом, сторонником рабства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1ce"/>
                </a:solidFill>
                <a:latin typeface="Constantia"/>
              </a:rPr>
              <a:t>Г) Президент США, который сохранил целостность страны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1ce"/>
                </a:solidFill>
                <a:latin typeface="Constantia"/>
              </a:rPr>
              <a:t>Д) Все ответы верны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Рисунок 4" descr="гр.война в США.jpg"/>
          <p:cNvPicPr/>
          <p:nvPr/>
        </p:nvPicPr>
        <p:blipFill>
          <a:blip r:embed="rId1"/>
          <a:stretch/>
        </p:blipFill>
        <p:spPr>
          <a:xfrm>
            <a:off x="2187720" y="3929040"/>
            <a:ext cx="4573440" cy="2714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213920"/>
            <a:ext cx="76867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1ce"/>
                </a:solidFill>
                <a:latin typeface="Constantia"/>
              </a:rPr>
              <a:t>1. </a:t>
            </a:r>
            <a:r>
              <a:rPr b="1" lang="ru-RU" sz="2600" spc="-1" strike="noStrike">
                <a:solidFill>
                  <a:srgbClr val="ffe39d"/>
                </a:solidFill>
                <a:latin typeface="Constantia"/>
              </a:rPr>
              <a:t>Время освободителей. Симон Боливар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39d"/>
                </a:solidFill>
                <a:latin typeface="Constantia"/>
              </a:rPr>
              <a:t>2. Итоги и значение освободительных войн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39d"/>
                </a:solidFill>
                <a:latin typeface="Constantia"/>
              </a:rPr>
              <a:t>3. Век каудильо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39d"/>
                </a:solidFill>
                <a:latin typeface="Constantia"/>
              </a:rPr>
              <a:t>4. Медленное развитие экономик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39d"/>
                </a:solidFill>
                <a:latin typeface="Constantia"/>
              </a:rPr>
              <a:t>5. Латиноамериканский «плавильный котел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4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871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Рисунок3"/>
          <p:cNvPicPr/>
          <p:nvPr/>
        </p:nvPicPr>
        <p:blipFill>
          <a:blip r:embed="rId2"/>
          <a:stretch/>
        </p:blipFill>
        <p:spPr>
          <a:xfrm>
            <a:off x="2357280" y="3786120"/>
            <a:ext cx="4211640" cy="2643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238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14200" y="1428840"/>
            <a:ext cx="457200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e39d"/>
                </a:solidFill>
                <a:latin typeface="Constantia"/>
              </a:rPr>
              <a:t>Б) обладал незаурядным полководческим таланто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e39d"/>
                </a:solidFill>
                <a:latin typeface="Constantia"/>
              </a:rPr>
              <a:t>В) возглавил патриотическое движение за свободу Венесуэл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e39d"/>
                </a:solidFill>
                <a:latin typeface="Constantia"/>
              </a:rPr>
              <a:t>Г) память о С.Боливаре сохранилась в названии одной из стран Латинской Америк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e39d"/>
                </a:solidFill>
                <a:latin typeface="Constantia"/>
              </a:rPr>
              <a:t>Д) верны все ответ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Picture 6" descr="Рисунок6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072040" y="4071960"/>
            <a:ext cx="3660840" cy="22399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5572080" y="357120"/>
            <a:ext cx="2571840" cy="34783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189000" y="353880"/>
            <a:ext cx="8643960" cy="80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523880"/>
            <a:ext cx="440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feb80a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39d"/>
                </a:solidFill>
                <a:latin typeface="Constantia"/>
              </a:rPr>
              <a:t>Все страны Латинской Америки  получили независимос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eb80a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39d"/>
                </a:solidFill>
                <a:latin typeface="Constantia"/>
              </a:rPr>
              <a:t>Были созданы условия для развития хозяй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eb80a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39d"/>
                </a:solidFill>
                <a:latin typeface="Constantia"/>
              </a:rPr>
              <a:t>Уничтожено рабств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eb80a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39d"/>
                </a:solidFill>
                <a:latin typeface="Constantia"/>
              </a:rPr>
              <a:t>Установлены республик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Picture 7" descr="Рисунок5"/>
          <p:cNvPicPr/>
          <p:nvPr/>
        </p:nvPicPr>
        <p:blipFill>
          <a:blip r:embed="rId2"/>
          <a:stretch/>
        </p:blipFill>
        <p:spPr>
          <a:xfrm>
            <a:off x="5143680" y="1500120"/>
            <a:ext cx="3546360" cy="4253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85840" y="571680"/>
            <a:ext cx="88581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eb80a"/>
                </a:solidFill>
                <a:uFillTx/>
                <a:latin typeface="Constantia"/>
              </a:rPr>
              <a:t>Каудильо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  </a:t>
            </a:r>
            <a:r>
              <a:rPr b="1" lang="ru-RU" sz="2600" spc="-1" strike="noStrike">
                <a:solidFill>
                  <a:srgbClr val="ffe39d"/>
                </a:solidFill>
                <a:latin typeface="Constantia"/>
              </a:rPr>
              <a:t>-  форма правления, режим личной власти диктаторов   в ряде стран Латинской Америки, установленный  в ходе  военного переворота   и опирающийся непосредственно на военную сил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8" descr="Рисунок9"/>
          <p:cNvPicPr/>
          <p:nvPr/>
        </p:nvPicPr>
        <p:blipFill>
          <a:blip r:embed="rId1"/>
          <a:stretch/>
        </p:blipFill>
        <p:spPr>
          <a:xfrm>
            <a:off x="1957320" y="2786040"/>
            <a:ext cx="4649760" cy="34527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353880" y="304920"/>
            <a:ext cx="8240760" cy="785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213840" y="1356840"/>
            <a:ext cx="4357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ffe39d"/>
                </a:solidFill>
                <a:latin typeface="Constantia"/>
              </a:rPr>
              <a:t>В экономике стран Латинской Америки  хозяйства ориентировались </a:t>
            </a:r>
            <a:r>
              <a:rPr b="0" lang="ru-RU" sz="2400" spc="-1" strike="noStrike" u="sng">
                <a:solidFill>
                  <a:srgbClr val="fff1ce"/>
                </a:solidFill>
                <a:uFillTx/>
                <a:latin typeface="Constantia"/>
              </a:rPr>
              <a:t>на производство и вывоз за границу </a:t>
            </a:r>
            <a:r>
              <a:rPr b="0" lang="ru-RU" sz="2400" spc="-1" strike="noStrike">
                <a:solidFill>
                  <a:srgbClr val="ffe39d"/>
                </a:solidFill>
                <a:latin typeface="Constantia"/>
              </a:rPr>
              <a:t>сельскохозяйственной продукции или полезных ископаемых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i="1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Подписать на контурной карте,  какую продукцию вывозили из стран Латинской Амери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Рисунок 1" descr=""/>
          <p:cNvPicPr/>
          <p:nvPr/>
        </p:nvPicPr>
        <p:blipFill>
          <a:blip r:embed="rId2"/>
          <a:stretch/>
        </p:blipFill>
        <p:spPr>
          <a:xfrm>
            <a:off x="4857840" y="1204920"/>
            <a:ext cx="3417840" cy="48909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cxnSp>
        <p:nvCxnSpPr>
          <p:cNvPr id="192" name="Прямая со стрелкой 6"/>
          <p:cNvCxnSpPr/>
          <p:nvPr/>
        </p:nvCxnSpPr>
        <p:spPr>
          <a:xfrm flipV="1">
            <a:off x="5572080" y="2428200"/>
            <a:ext cx="1858320" cy="5720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3" name="Прямая со стрелкой 7"/>
          <p:cNvCxnSpPr/>
          <p:nvPr/>
        </p:nvCxnSpPr>
        <p:spPr>
          <a:xfrm flipH="1" flipV="1">
            <a:off x="5214600" y="4571280"/>
            <a:ext cx="1224720" cy="367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4" name="Прямая со стрелкой 9"/>
          <p:cNvCxnSpPr/>
          <p:nvPr/>
        </p:nvCxnSpPr>
        <p:spPr>
          <a:xfrm flipV="1">
            <a:off x="6715080" y="4857480"/>
            <a:ext cx="1357920" cy="286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5" name="Прямая со стрелкой 10"/>
          <p:cNvCxnSpPr/>
          <p:nvPr/>
        </p:nvCxnSpPr>
        <p:spPr>
          <a:xfrm flipV="1">
            <a:off x="6857640" y="3785400"/>
            <a:ext cx="1072440" cy="5007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6" name="Прямая со стрелкой 16"/>
          <p:cNvCxnSpPr/>
          <p:nvPr/>
        </p:nvCxnSpPr>
        <p:spPr>
          <a:xfrm flipV="1">
            <a:off x="6286680" y="3071880"/>
            <a:ext cx="1357920" cy="6433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133200" y="79200"/>
            <a:ext cx="8560080" cy="1298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285480" y="1357200"/>
            <a:ext cx="5072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900" spc="-1" strike="noStrike">
                <a:solidFill>
                  <a:srgbClr val="ffe39d"/>
                </a:solidFill>
                <a:latin typeface="Constantia"/>
              </a:rPr>
              <a:t>XIX</a:t>
            </a:r>
            <a:r>
              <a:rPr b="0" lang="ru-RU" sz="2900" spc="-1" strike="noStrike">
                <a:solidFill>
                  <a:srgbClr val="ffe39d"/>
                </a:solidFill>
                <a:latin typeface="Constantia"/>
              </a:rPr>
              <a:t> век – это время складывания      </a:t>
            </a:r>
            <a:r>
              <a:rPr b="0" lang="ru-RU" sz="3500" spc="-1" strike="noStrike" u="sng">
                <a:solidFill>
                  <a:srgbClr val="ffe39d"/>
                </a:solidFill>
                <a:uFillTx/>
                <a:latin typeface="Constantia"/>
              </a:rPr>
              <a:t>латиноамериканской  нации. </a:t>
            </a:r>
            <a:endParaRPr b="0" lang="en-US" sz="35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e39d"/>
                </a:solidFill>
                <a:latin typeface="Constantia"/>
              </a:rPr>
              <a:t>В Латинской Америке проживало 60 млн человек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e39d"/>
                </a:solidFill>
                <a:latin typeface="Constantia"/>
              </a:rPr>
              <a:t>Существовало 20 независимых государств.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e39d"/>
                </a:solidFill>
                <a:latin typeface="Constantia"/>
              </a:rPr>
              <a:t>В 18 странах население говорило на испанском языке,     в Бразилии — на португальском, в Гаити — на французском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8" descr="Рисунок1"/>
          <p:cNvPicPr/>
          <p:nvPr/>
        </p:nvPicPr>
        <p:blipFill>
          <a:blip r:embed="rId2"/>
          <a:stretch/>
        </p:blipFill>
        <p:spPr>
          <a:xfrm>
            <a:off x="5429160" y="1500120"/>
            <a:ext cx="3354480" cy="49165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2:47:12Z</dcterms:created>
  <dc:creator>Admin</dc:creator>
  <dc:description/>
  <dc:language>en-US</dc:language>
  <cp:lastModifiedBy>Oksana</cp:lastModifiedBy>
  <dcterms:modified xsi:type="dcterms:W3CDTF">2012-01-09T04:59:54Z</dcterms:modified>
  <cp:revision>12</cp:revision>
  <dc:subject/>
  <dc:title>Латинская Америка                          в XIX веке. </dc:title>
</cp:coreProperties>
</file>