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17.gif" ContentType="image/gif"/>
  <Override PartName="/ppt/media/image24.jpeg" ContentType="image/jpeg"/>
  <Override PartName="/ppt/media/image22.jpeg" ContentType="image/jpeg"/>
  <Override PartName="/ppt/media/image46.gif" ContentType="image/gif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1.jpeg" ContentType="image/jpeg"/>
  <Override PartName="/ppt/media/image6.gif" ContentType="image/gif"/>
  <Override PartName="/ppt/media/image16.jpeg" ContentType="image/jpeg"/>
  <Override PartName="/ppt/media/image9.gif" ContentType="image/gif"/>
  <Override PartName="/ppt/media/image39.gif" ContentType="image/gif"/>
  <Override PartName="/ppt/media/image15.jpeg" ContentType="image/jpeg"/>
  <Override PartName="/ppt/media/image29.gif" ContentType="image/gif"/>
  <Override PartName="/ppt/media/image14.jpeg" ContentType="image/jpeg"/>
  <Override PartName="/ppt/media/image41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36.jpeg" ContentType="image/jpeg"/>
  <Override PartName="/ppt/media/image3.gif" ContentType="image/gif"/>
  <Override PartName="/ppt/media/image33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8.jpeg" ContentType="image/jpeg"/>
  <Override PartName="/ppt/media/image10.jpeg" ContentType="image/jpeg"/>
  <Override PartName="/ppt/media/image43.jpeg" ContentType="image/jpeg"/>
  <Override PartName="/ppt/media/image52.gif" ContentType="image/gif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49.gif" ContentType="image/gif"/>
  <Override PartName="/ppt/media/image37.jpeg" ContentType="image/jpeg"/>
  <Override PartName="/ppt/media/image12.jpeg" ContentType="image/jpeg"/>
  <Override PartName="/ppt/media/image50.gif" ContentType="image/gif"/>
  <Override PartName="/ppt/media/image5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0.gif" ContentType="image/gif"/>
  <Override PartName="/ppt/media/image11.jpeg" ContentType="image/jpeg"/>
  <Override PartName="/ppt/media/image40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9D2F-540C-4262-B078-AFD7B13B4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BCF3-B16F-48AA-994D-BED7A636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1791-1B7A-4602-9CA5-1E80EDD95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434F-6E80-4693-8C49-E73604016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D540F-FF4A-4286-920A-E6D4AF056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AC144-DEF0-46F7-BC7B-4C980A4F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6995B-70E7-4D21-8854-13EB5423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44F3C-77F8-4A20-A3E9-75C6DCC9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F3FF0-0C0C-467E-9162-4DA9442F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AFA2-D96B-451B-A068-7B362762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29B2-4386-4275-8B9D-9BE9E1BF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C602-D0D8-44D4-9D56-2CC49496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64D3E-BAE8-4071-A11A-BDF5694C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F222C-001E-4F9A-9735-1C2CD80D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287E-884F-4200-96B6-6BFAB3B5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6173-ADDA-4E8D-B516-5C5A8EB69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E01C-0BF7-47E6-8733-C429376E0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DA8C-9B09-4BD2-B9F9-4238D2F3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BDAB-2756-449F-A7F5-4E0422E4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4748-C2FF-4561-916A-56EEA336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B202-509F-4323-81AD-1337A035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10DA-FF34-40F6-9801-45F0E839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DEFC-0948-427A-81F9-1A7B9C19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7219-0C16-4AA1-AB35-857C729D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F3C3-C84C-49B8-80EE-C47AB5CDCE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FFC4-A2EB-41C3-8BBB-0E823E6BF3E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image" Target="../media/image52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03640" y="3644640"/>
            <a:ext cx="3889440" cy="28796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Выполнили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Чикунов Вячеслав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Болтовская Эли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4 в класс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МОУ СОШ № 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WordArt 4"/>
          <p:cNvSpPr txBox="1"/>
          <p:nvPr/>
        </p:nvSpPr>
        <p:spPr>
          <a:xfrm>
            <a:off x="1187280" y="0"/>
            <a:ext cx="6840720" cy="30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ма: «Волнистые попугаи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 их потомство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0" name="Picture 7" descr="IMG_5958[1]"/>
          <p:cNvPicPr/>
          <p:nvPr/>
        </p:nvPicPr>
        <p:blipFill>
          <a:blip r:embed="rId5"/>
          <a:stretch/>
        </p:blipFill>
        <p:spPr>
          <a:xfrm>
            <a:off x="108000" y="3500280"/>
            <a:ext cx="476244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В эксперименте участвовали пара попугаев:  Кеша и Теша.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8" name="Рисунок 1" descr="D:\LOSTFILE\DIR4\Мои документы-1\фотографии\попугаи 2\Изображение 051.jpg"/>
          <p:cNvPicPr/>
          <p:nvPr/>
        </p:nvPicPr>
        <p:blipFill>
          <a:blip r:embed="rId1"/>
          <a:stretch/>
        </p:blipFill>
        <p:spPr>
          <a:xfrm>
            <a:off x="684360" y="1268280"/>
            <a:ext cx="2879640" cy="1944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30[1]"/>
          <p:cNvPicPr/>
          <p:nvPr/>
        </p:nvPicPr>
        <p:blipFill>
          <a:blip r:embed="rId2"/>
          <a:stretch/>
        </p:blipFill>
        <p:spPr>
          <a:xfrm>
            <a:off x="5435640" y="1341360"/>
            <a:ext cx="2952720" cy="1943280"/>
          </a:xfrm>
          <a:prstGeom prst="rect">
            <a:avLst/>
          </a:prstGeom>
          <a:ln w="0">
            <a:noFill/>
          </a:ln>
        </p:spPr>
      </p:pic>
      <p:pic>
        <p:nvPicPr>
          <p:cNvPr id="140" name="i-main-pic" descr="Картинка 1 из 12"/>
          <p:cNvPicPr/>
          <p:nvPr/>
        </p:nvPicPr>
        <p:blipFill>
          <a:blip r:embed="rId3"/>
          <a:stretch/>
        </p:blipFill>
        <p:spPr>
          <a:xfrm>
            <a:off x="826920" y="3933720"/>
            <a:ext cx="2971800" cy="2229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100_3915"/>
          <p:cNvPicPr/>
          <p:nvPr/>
        </p:nvPicPr>
        <p:blipFill>
          <a:blip r:embed="rId4"/>
          <a:stretch/>
        </p:blipFill>
        <p:spPr>
          <a:xfrm>
            <a:off x="5003640" y="3933720"/>
            <a:ext cx="3097440" cy="22510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2"/>
          <p:cNvSpPr/>
          <p:nvPr/>
        </p:nvSpPr>
        <p:spPr>
          <a:xfrm>
            <a:off x="1042920" y="3271320"/>
            <a:ext cx="68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вод 1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Нельзя вмешиваться  в процесс насиживания, переносить яйца,  тревожить птиц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280" y="244080"/>
            <a:ext cx="8302680" cy="253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Примерно через 2 недели в гнезде появляется первое яйцо, самка несет яйца через день, всего Теша снесла 7 яиц. Вот через 18-20 дней вылупился первый птенец.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4" name="Picture 4" descr="6e57cd5932ff[1]"/>
          <p:cNvPicPr/>
          <p:nvPr/>
        </p:nvPicPr>
        <p:blipFill>
          <a:blip r:embed="rId1"/>
          <a:stretch/>
        </p:blipFill>
        <p:spPr>
          <a:xfrm>
            <a:off x="2843280" y="2852640"/>
            <a:ext cx="3967200" cy="3459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Chicken_13[1]"/>
          <p:cNvPicPr/>
          <p:nvPr/>
        </p:nvPicPr>
        <p:blipFill>
          <a:blip r:embed="rId2"/>
          <a:stretch/>
        </p:blipFill>
        <p:spPr>
          <a:xfrm>
            <a:off x="468360" y="3500280"/>
            <a:ext cx="1800000" cy="1595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141845384[1]"/>
          <p:cNvPicPr/>
          <p:nvPr/>
        </p:nvPicPr>
        <p:blipFill>
          <a:blip r:embed="rId3"/>
          <a:stretch/>
        </p:blipFill>
        <p:spPr>
          <a:xfrm>
            <a:off x="3995640" y="3429000"/>
            <a:ext cx="59076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акие они сначала маленькие и беспомощные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8" name="Рисунок 1" descr="D:\LOSTFILE\DIR4\Мои документы-1\фотографии\попугаи 2\IMG_3157.jpg"/>
          <p:cNvPicPr/>
          <p:nvPr/>
        </p:nvPicPr>
        <p:blipFill>
          <a:blip r:embed="rId1"/>
          <a:stretch/>
        </p:blipFill>
        <p:spPr>
          <a:xfrm>
            <a:off x="826920" y="1413000"/>
            <a:ext cx="2990880" cy="2120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5c31566271a7[1]"/>
          <p:cNvPicPr/>
          <p:nvPr/>
        </p:nvPicPr>
        <p:blipFill>
          <a:blip r:embed="rId2"/>
          <a:stretch/>
        </p:blipFill>
        <p:spPr>
          <a:xfrm>
            <a:off x="3276720" y="1844640"/>
            <a:ext cx="3024000" cy="2125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100_3942"/>
          <p:cNvPicPr/>
          <p:nvPr/>
        </p:nvPicPr>
        <p:blipFill>
          <a:blip r:embed="rId3"/>
          <a:stretch/>
        </p:blipFill>
        <p:spPr>
          <a:xfrm>
            <a:off x="5796000" y="1341360"/>
            <a:ext cx="2951280" cy="20462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fbf2e0fd497a[1]"/>
          <p:cNvPicPr/>
          <p:nvPr/>
        </p:nvPicPr>
        <p:blipFill>
          <a:blip r:embed="rId4"/>
          <a:stretch/>
        </p:blipFill>
        <p:spPr>
          <a:xfrm>
            <a:off x="900000" y="3860640"/>
            <a:ext cx="3384720" cy="225612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9"/>
          <p:cNvSpPr/>
          <p:nvPr/>
        </p:nvSpPr>
        <p:spPr>
          <a:xfrm>
            <a:off x="4356000" y="3934080"/>
            <a:ext cx="4105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 как гнездо было на полу клетки, то особую трудность вызывала чистка клетки, Теша переживала, защищала своих птенцов, угрожающе верещала и кусалас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вод 2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Чтобы не было таких проблем, лучше сразу приобрести  вместительный гнездовой доми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Непредвиденная ситуация  №1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гда вылупилось три птенца, Теша вдруг выкинула из гнезда одно яйцо, мы подумали, что яйцо выкатилось случайно и положили его назад. Незамедлительно последовала реакция птицы, все оставшиеся яйца были выкинуты и разбит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Рисунок 1" descr="D:\LOSTFILE\DIR4\Мои документы-1\фотографии\попугаи 2\разбитые яйца.jpg"/>
          <p:cNvPicPr/>
          <p:nvPr/>
        </p:nvPicPr>
        <p:blipFill>
          <a:blip r:embed="rId1"/>
          <a:stretch/>
        </p:blipFill>
        <p:spPr>
          <a:xfrm>
            <a:off x="1042920" y="4076640"/>
            <a:ext cx="3313080" cy="255744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 flipV="1" rot="10800000">
            <a:off x="4570200" y="4354200"/>
            <a:ext cx="3819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ывод 3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Если бы мы изучили литературу заранее, то возможно оставшиеся яйца были бы це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За оставшимися птенцами птица       очень хорошо следила, согревала своим теплом и птенчики подрастали.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8" name="Picture 4" descr="пара волнистых попугайчиков с птенцом"/>
          <p:cNvPicPr/>
          <p:nvPr/>
        </p:nvPicPr>
        <p:blipFill>
          <a:blip r:embed="rId1"/>
          <a:stretch/>
        </p:blipFill>
        <p:spPr>
          <a:xfrm>
            <a:off x="179280" y="1773360"/>
            <a:ext cx="2737080" cy="29034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100_4020"/>
          <p:cNvPicPr/>
          <p:nvPr/>
        </p:nvPicPr>
        <p:blipFill>
          <a:blip r:embed="rId2"/>
          <a:stretch/>
        </p:blipFill>
        <p:spPr>
          <a:xfrm>
            <a:off x="2843280" y="3749760"/>
            <a:ext cx="3097080" cy="2705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e6eecaddf65e[1]"/>
          <p:cNvPicPr/>
          <p:nvPr/>
        </p:nvPicPr>
        <p:blipFill>
          <a:blip r:embed="rId3"/>
          <a:stretch/>
        </p:blipFill>
        <p:spPr>
          <a:xfrm>
            <a:off x="5940360" y="1916280"/>
            <a:ext cx="2879640" cy="2233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512519113[1]"/>
          <p:cNvPicPr/>
          <p:nvPr/>
        </p:nvPicPr>
        <p:blipFill>
          <a:blip r:embed="rId4"/>
          <a:stretch/>
        </p:blipFill>
        <p:spPr>
          <a:xfrm>
            <a:off x="8124840" y="4724280"/>
            <a:ext cx="1019160" cy="13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Измерение птенца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3" name="Picture 3" descr="1362"/>
          <p:cNvPicPr/>
          <p:nvPr/>
        </p:nvPicPr>
        <p:blipFill>
          <a:blip r:embed="rId1"/>
          <a:stretch/>
        </p:blipFill>
        <p:spPr>
          <a:xfrm>
            <a:off x="0" y="1197000"/>
            <a:ext cx="3851280" cy="2943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pic521"/>
          <p:cNvPicPr/>
          <p:nvPr/>
        </p:nvPicPr>
        <p:blipFill>
          <a:blip r:embed="rId2"/>
          <a:stretch/>
        </p:blipFill>
        <p:spPr>
          <a:xfrm>
            <a:off x="755640" y="4292640"/>
            <a:ext cx="1461960" cy="24159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Миллиграммовые гири, гири в виде пластин"/>
          <p:cNvPicPr/>
          <p:nvPr/>
        </p:nvPicPr>
        <p:blipFill>
          <a:blip r:embed="rId3"/>
          <a:stretch/>
        </p:blipFill>
        <p:spPr>
          <a:xfrm>
            <a:off x="2268360" y="4221000"/>
            <a:ext cx="1798920" cy="244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6" name=""/>
          <p:cNvGraphicFramePr/>
          <p:nvPr/>
        </p:nvGraphicFramePr>
        <p:xfrm>
          <a:off x="4067280" y="1125360"/>
          <a:ext cx="4681440" cy="5821560"/>
        </p:xfrm>
        <a:graphic>
          <a:graphicData uri="http://schemas.openxmlformats.org/drawingml/2006/table">
            <a:tbl>
              <a:tblPr/>
              <a:tblGrid>
                <a:gridCol w="1323720"/>
                <a:gridCol w="993960"/>
                <a:gridCol w="1417680"/>
                <a:gridCol w="94608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озраст, д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Масса, грам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озраст, д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Масс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244080"/>
            <a:ext cx="866304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 Black"/>
              </a:rPr>
              <a:t>     </a:t>
            </a:r>
            <a:r>
              <a:rPr b="1" lang="ru-RU" sz="3200" spc="-1" strike="noStrike">
                <a:solidFill>
                  <a:srgbClr val="ffff66"/>
                </a:solidFill>
                <a:latin typeface="Arial Black"/>
              </a:rPr>
              <a:t>Непредвиденная ситуация  №2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4920" y="1197000"/>
            <a:ext cx="80074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рез две недели после того, как птенцы вылупились, самка перестала их кормить, а так как она стала нападать на птенцов и самца, то её пришлось отсадить. Некоторое время самец кормил птенцов, но потом и он  решил, что птенцы уже выросли, перестал их кормить и стал гнать из клетки, выщипывать у них перья, обижа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огда мы взяли заботу на себя, отсадили птенцов и выкармливали их сами, готовили им кашу и кормили хлебом с молок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4" descr="8c58aa0b4c09[1]"/>
          <p:cNvPicPr/>
          <p:nvPr/>
        </p:nvPicPr>
        <p:blipFill>
          <a:blip r:embed="rId1"/>
          <a:stretch/>
        </p:blipFill>
        <p:spPr>
          <a:xfrm>
            <a:off x="971640" y="4751280"/>
            <a:ext cx="2913120" cy="2106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0f28901c913ct"/>
          <p:cNvPicPr/>
          <p:nvPr/>
        </p:nvPicPr>
        <p:blipFill>
          <a:blip r:embed="rId2"/>
          <a:stretch/>
        </p:blipFill>
        <p:spPr>
          <a:xfrm>
            <a:off x="4915080" y="4653000"/>
            <a:ext cx="354456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В результате птенцы перестали нас бояться, свободно шли на руки, встречали радостным писком. У нас подросли три замечательных птенчика: жёлто-зелёный, бело-голубой и синий с белой головой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4581360"/>
            <a:ext cx="800748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ывод 4: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Если хочешь получить ручных птиц, уже оперившихся птенцов надо выкармливать самостоятельно.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5" descr="DSC02794"/>
          <p:cNvPicPr/>
          <p:nvPr/>
        </p:nvPicPr>
        <p:blipFill>
          <a:blip r:embed="rId1"/>
          <a:stretch/>
        </p:blipFill>
        <p:spPr>
          <a:xfrm>
            <a:off x="2627280" y="1844640"/>
            <a:ext cx="5473800" cy="2664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99655763[1]"/>
          <p:cNvPicPr/>
          <p:nvPr/>
        </p:nvPicPr>
        <p:blipFill>
          <a:blip r:embed="rId2"/>
          <a:stretch/>
        </p:blipFill>
        <p:spPr>
          <a:xfrm>
            <a:off x="7020000" y="5516640"/>
            <a:ext cx="1763640" cy="109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К уже подросшим птенцам Кеша иногда проявлял интерес и стал их понемногу подкармливать, а также учил их кушать самостоятельно. А вот Теша больше детьми не интересовалась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6" name="Picture 4" descr="DSC02801"/>
          <p:cNvPicPr/>
          <p:nvPr/>
        </p:nvPicPr>
        <p:blipFill>
          <a:blip r:embed="rId1"/>
          <a:stretch/>
        </p:blipFill>
        <p:spPr>
          <a:xfrm>
            <a:off x="900000" y="1989000"/>
            <a:ext cx="4103640" cy="3203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DSC02808"/>
          <p:cNvPicPr/>
          <p:nvPr/>
        </p:nvPicPr>
        <p:blipFill>
          <a:blip r:embed="rId2"/>
          <a:stretch/>
        </p:blipFill>
        <p:spPr>
          <a:xfrm>
            <a:off x="4788000" y="3500280"/>
            <a:ext cx="4125960" cy="30942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263391627[1]"/>
          <p:cNvPicPr/>
          <p:nvPr/>
        </p:nvPicPr>
        <p:blipFill>
          <a:blip r:embed="rId3"/>
          <a:stretch/>
        </p:blipFill>
        <p:spPr>
          <a:xfrm>
            <a:off x="611280" y="5337000"/>
            <a:ext cx="2016000" cy="14796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</a:t>
            </a: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Заключ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341000"/>
            <a:ext cx="8007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ше исследование подошло к завершению. Мы достигли цели исследова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яснили, как попугаи выхаживают своё потом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и приняли участие в выкармливании и воспитании маленьких попугайчик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щение с попугайчиками доставило нам удовлетворение, радость общения, знакомство с живой природой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авнили жизнь в природе (теория) и в неволе (птица в клетке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лизкое общение с живыми существами - попугайчиками, дарит радость, удивл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 познание природы путем наблюдения за интересным живым объектом, это и эстетическое наслаждение - ведь эти птицы так совершенны, красивы, грациозн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6" descr="arg-blue-left-tr[1]"/>
          <p:cNvPicPr/>
          <p:nvPr/>
        </p:nvPicPr>
        <p:blipFill>
          <a:blip r:embed="rId1"/>
          <a:stretch/>
        </p:blipFill>
        <p:spPr>
          <a:xfrm>
            <a:off x="8388360" y="115920"/>
            <a:ext cx="471600" cy="177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39704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вед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413000"/>
            <a:ext cx="800748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 - не радуга, не пламя!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то за птица? Угадай!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елый день болтаю с вами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 - цветистый попугай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авят школьникам отметки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вот мне не ставят зря!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оворить учусь я в клетке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имея словаря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Попугаи занимают среди птиц, содержащихся в домашних условиях, особое место. Волнистые попугайчики уже давно привлекали наше внимание своим красивым оперением, веселым пением, озорным поведением. Захотелось и в своем доме иметь таких же  красавчиков. Прежде  чем завести в доме попугайчиков, мы прочитали немало литературы о них самих, а также  по их содержанию и разведению. Особенности поведения волнистых попугайчиков в период размножения   нас заинтересовали, поэтому этой теме мы и посвятили свои исследова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main1[1]"/>
          <p:cNvPicPr/>
          <p:nvPr/>
        </p:nvPicPr>
        <p:blipFill>
          <a:blip r:embed="rId1"/>
          <a:stretch/>
        </p:blipFill>
        <p:spPr>
          <a:xfrm>
            <a:off x="179280" y="260280"/>
            <a:ext cx="812880" cy="1374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7176_big[1]"/>
          <p:cNvPicPr/>
          <p:nvPr/>
        </p:nvPicPr>
        <p:blipFill>
          <a:blip r:embed="rId2"/>
          <a:stretch/>
        </p:blipFill>
        <p:spPr>
          <a:xfrm>
            <a:off x="6100920" y="620640"/>
            <a:ext cx="2687400" cy="27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1"/>
          <p:cNvSpPr/>
          <p:nvPr/>
        </p:nvSpPr>
        <p:spPr>
          <a:xfrm>
            <a:off x="395280" y="0"/>
            <a:ext cx="8497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исок литерату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ьшая книга вопросов и ответов. Что? Зачем? Почему? /Пер. К. Мишиной, А Зыковой. – М.: Эксмо, 2003. – 512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ьшая энциклопедия Кирилла и Мефодия – электронное издание, М.,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лбовский Е.Ю. Экология для любознательных, или О чем не узнаешь на уроке. – Ярославль: «Академия развития», 1998 – 256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 познаю мир. Птицы: Детская энциклопедия. /В.В. Иваницкий. – М.: ООО «Издательство АСТ», 2001. – 397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Б.Шнейдеp, В.А.Гpинев. Птицы в доме. - М.: Глобус, 1990 - 95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 познаю мир. Животные: дет. энцикл. / авт.-сост. П.Р. Ляхов. – М.: АСТ: Транзиткнига, 2006  - 398 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http://www.zooclub.ru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опугаи.Инфо - Сайт о попугаях. Волнистые попугайчи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http://www.popugai.info/volnist.html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олнистые попугаи. Содержание, кормление, развед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http://www.popugai.narod.ru/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нтонов В.М., Епифанский Н.И. Волнистые попугайчики - Ростовское книжное издательство, 1971 - 23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5" name="WordArt 4"/>
          <p:cNvSpPr txBox="1"/>
          <p:nvPr/>
        </p:nvSpPr>
        <p:spPr>
          <a:xfrm>
            <a:off x="971640" y="260280"/>
            <a:ext cx="7775640" cy="38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6" name="Picture 5" descr="059c56b30010[1]"/>
          <p:cNvPicPr/>
          <p:nvPr/>
        </p:nvPicPr>
        <p:blipFill>
          <a:blip r:embed="rId3"/>
          <a:stretch/>
        </p:blipFill>
        <p:spPr>
          <a:xfrm>
            <a:off x="3851280" y="4797360"/>
            <a:ext cx="1695600" cy="18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ипотеза: </a:t>
            </a:r>
            <a:br>
              <a:rPr sz="4400"/>
            </a:b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C</a:t>
            </a: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ами ли и в течение какого времени выхаживают своё потомство волнистые попугайчики?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55280" y="285264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яснить, как выхаживают свое потомство волнистые попуга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6" descr="E:\попугай\DSC00444.JPG"/>
          <p:cNvPicPr/>
          <p:nvPr/>
        </p:nvPicPr>
        <p:blipFill>
          <a:blip r:embed="rId1"/>
          <a:stretch/>
        </p:blipFill>
        <p:spPr>
          <a:xfrm>
            <a:off x="4572000" y="3862440"/>
            <a:ext cx="3672000" cy="28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-1108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280" y="-360"/>
            <a:ext cx="800748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дач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изучить литературу о выращивании в домашних условиях потомства попугае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вести наблюдения за  деятельностью волнистых попугаев в выращивании потомства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делать выводы о выхаживании потомства попугаев в домашних условия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5" descr="216475uyziion4ho[1]"/>
          <p:cNvPicPr/>
          <p:nvPr/>
        </p:nvPicPr>
        <p:blipFill>
          <a:blip r:embed="rId1"/>
          <a:stretch/>
        </p:blipFill>
        <p:spPr>
          <a:xfrm>
            <a:off x="4356000" y="5516640"/>
            <a:ext cx="1079640" cy="87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1"/>
          <p:cNvSpPr/>
          <p:nvPr/>
        </p:nvSpPr>
        <p:spPr>
          <a:xfrm>
            <a:off x="826920" y="0"/>
            <a:ext cx="7777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тоды исследо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Изучение литературы по теме 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Наблюдение за попугаями в период размножения и ухаживания за потомством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Практическое взвешивание птенцов с первого дня жиз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Анализ и обобщение материала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оугольник 2"/>
          <p:cNvSpPr/>
          <p:nvPr/>
        </p:nvSpPr>
        <p:spPr>
          <a:xfrm>
            <a:off x="611280" y="2813040"/>
            <a:ext cx="784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ъект исследован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ара попугаев, Теша и Кеш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2" descr="E:\попугай\DSC00457.JPG"/>
          <p:cNvPicPr/>
          <p:nvPr/>
        </p:nvPicPr>
        <p:blipFill>
          <a:blip r:embed="rId1"/>
          <a:stretch/>
        </p:blipFill>
        <p:spPr>
          <a:xfrm>
            <a:off x="5940360" y="4076640"/>
            <a:ext cx="3024360" cy="26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280" y="244440"/>
            <a:ext cx="86630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Значение слова </a:t>
            </a:r>
            <a:r>
              <a:rPr b="0" lang="ru-RU" sz="4000" spc="-1" strike="noStrike">
                <a:solidFill>
                  <a:srgbClr val="fcc5ba"/>
                </a:solidFill>
                <a:latin typeface="Arial Black"/>
              </a:rPr>
              <a:t>«попугай»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cc5ba"/>
                </a:solidFill>
                <a:latin typeface="Arial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пуга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лесная тропическая птица с ярким и пестрым оперением,      способная подражать человеческой реч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cc5ba"/>
                </a:solidFill>
                <a:latin typeface="Arial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Человек в яркой, пестрой одежде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cc5ba"/>
                </a:solidFill>
                <a:latin typeface="Arial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Человек, который, не имея собственного мнения, повторяет чужие слова.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5" descr="photo06[1]"/>
          <p:cNvPicPr/>
          <p:nvPr/>
        </p:nvPicPr>
        <p:blipFill>
          <a:blip r:embed="rId1"/>
          <a:stretch/>
        </p:blipFill>
        <p:spPr>
          <a:xfrm>
            <a:off x="3708360" y="5013360"/>
            <a:ext cx="2178000" cy="1722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927925406[1]"/>
          <p:cNvPicPr/>
          <p:nvPr/>
        </p:nvPicPr>
        <p:blipFill>
          <a:blip r:embed="rId2"/>
          <a:stretch/>
        </p:blipFill>
        <p:spPr>
          <a:xfrm>
            <a:off x="7812000" y="4581360"/>
            <a:ext cx="1089000" cy="21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3851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b7"/>
                </a:solidFill>
                <a:latin typeface="Arial Black"/>
              </a:rPr>
              <a:t>Волнистые попугаи в природе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Picture 4" descr="i_002"/>
          <p:cNvPicPr/>
          <p:nvPr/>
        </p:nvPicPr>
        <p:blipFill>
          <a:blip r:embed="rId1"/>
          <a:stretch/>
        </p:blipFill>
        <p:spPr>
          <a:xfrm>
            <a:off x="826920" y="4653000"/>
            <a:ext cx="2210040" cy="2016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i_003"/>
          <p:cNvPicPr/>
          <p:nvPr/>
        </p:nvPicPr>
        <p:blipFill>
          <a:blip r:embed="rId2"/>
          <a:stretch/>
        </p:blipFill>
        <p:spPr>
          <a:xfrm>
            <a:off x="6588000" y="1700280"/>
            <a:ext cx="2376720" cy="49687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0" y="1391400"/>
            <a:ext cx="651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диной волнистых попугаев считается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встрал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На этом материке они распространены повсеместно и популяция их процветает. От других видов попугаев волнистые отличаются </a:t>
            </a:r>
            <a:r>
              <a:rPr b="0" lang="ru-RU" sz="1800" spc="-1" strike="noStrike">
                <a:solidFill>
                  <a:srgbClr val="fcc5ba"/>
                </a:solidFill>
                <a:latin typeface="Arial"/>
              </a:rPr>
              <a:t>небольшими размерам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дпочтительные места обитания для них – травянистые равнины, однако попугаи могут прекрасно приспосабливаться и к лесной, а также горной местности. Главное, чтобы была пища. Питаются они семенами и плодами растений, поэтому, как и воробьи, нередко поселяются в садах и городских парк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8" descr="imageservlet"/>
          <p:cNvPicPr/>
          <p:nvPr/>
        </p:nvPicPr>
        <p:blipFill>
          <a:blip r:embed="rId3"/>
          <a:stretch/>
        </p:blipFill>
        <p:spPr>
          <a:xfrm>
            <a:off x="3419640" y="4653000"/>
            <a:ext cx="2701800" cy="20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3640" y="3213000"/>
            <a:ext cx="85690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-за своей доступности, шаловливости, кроткого и ласкового нрава, способности подражать голосу человека, волнистые попугайчики вот уже почти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лтора век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являются одной из любимых и распространенных декоративных птиц. И, что еще нужно отметить, в настоящее время число волнистых попугайчиков, живущих в неволе, значительно превышает количество живущих на воле, и живется им в неволе совсем неплох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5" descr="77ef32228e17[1]"/>
          <p:cNvPicPr/>
          <p:nvPr/>
        </p:nvPicPr>
        <p:blipFill>
          <a:blip r:embed="rId1"/>
          <a:stretch/>
        </p:blipFill>
        <p:spPr>
          <a:xfrm>
            <a:off x="5761080" y="0"/>
            <a:ext cx="3382920" cy="3068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1926abbeff44[1]"/>
          <p:cNvPicPr/>
          <p:nvPr/>
        </p:nvPicPr>
        <p:blipFill>
          <a:blip r:embed="rId2"/>
          <a:stretch/>
        </p:blipFill>
        <p:spPr>
          <a:xfrm>
            <a:off x="3635280" y="1557360"/>
            <a:ext cx="1930320" cy="15397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7" name="Picture 6" descr="E:\попугай\DSC00441.JPG"/>
          <p:cNvPicPr/>
          <p:nvPr/>
        </p:nvPicPr>
        <p:blipFill>
          <a:blip r:embed="rId3"/>
          <a:stretch/>
        </p:blipFill>
        <p:spPr>
          <a:xfrm>
            <a:off x="520560" y="174600"/>
            <a:ext cx="2971800" cy="2822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E:\попугай\DSC00457.JPG"/>
          <p:cNvPicPr/>
          <p:nvPr/>
        </p:nvPicPr>
        <p:blipFill>
          <a:blip r:embed="rId4"/>
          <a:stretch/>
        </p:blipFill>
        <p:spPr>
          <a:xfrm>
            <a:off x="3708360" y="115920"/>
            <a:ext cx="1857240" cy="14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244440"/>
            <a:ext cx="89647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b7"/>
                </a:solidFill>
                <a:latin typeface="Arial Black"/>
              </a:rPr>
              <a:t>У нас дома живут волнистые попугайчики. В разное время у нас жили несколько пар попугаев, которые успешно размножались, кроме того,  среди них были и говорящие птицы.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b7"/>
                </a:solidFill>
                <a:latin typeface="Arial Black"/>
              </a:rPr>
              <a:t>В настоящее время живут Теша и Кеша  и их птенцы.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0" name="Picture 5" descr="PARROT1[1]"/>
          <p:cNvPicPr/>
          <p:nvPr/>
        </p:nvPicPr>
        <p:blipFill>
          <a:blip r:embed="rId1"/>
          <a:stretch/>
        </p:blipFill>
        <p:spPr>
          <a:xfrm>
            <a:off x="7885080" y="692280"/>
            <a:ext cx="1028880" cy="723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25[1]"/>
          <p:cNvPicPr/>
          <p:nvPr/>
        </p:nvPicPr>
        <p:blipFill>
          <a:blip r:embed="rId2"/>
          <a:stretch/>
        </p:blipFill>
        <p:spPr>
          <a:xfrm>
            <a:off x="5076720" y="1916280"/>
            <a:ext cx="3846600" cy="2503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c69d6d33db080124ff1a1a1667dda37d[1]"/>
          <p:cNvPicPr/>
          <p:nvPr/>
        </p:nvPicPr>
        <p:blipFill>
          <a:blip r:embed="rId3"/>
          <a:stretch/>
        </p:blipFill>
        <p:spPr>
          <a:xfrm>
            <a:off x="3419640" y="4121280"/>
            <a:ext cx="2089080" cy="2506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IMG_5966[1]"/>
          <p:cNvPicPr/>
          <p:nvPr/>
        </p:nvPicPr>
        <p:blipFill>
          <a:blip r:embed="rId4"/>
          <a:stretch/>
        </p:blipFill>
        <p:spPr>
          <a:xfrm>
            <a:off x="250920" y="4508640"/>
            <a:ext cx="2881080" cy="2070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e3d9ca168dd1[1]"/>
          <p:cNvPicPr/>
          <p:nvPr/>
        </p:nvPicPr>
        <p:blipFill>
          <a:blip r:embed="rId5"/>
          <a:stretch/>
        </p:blipFill>
        <p:spPr>
          <a:xfrm>
            <a:off x="3132000" y="2276640"/>
            <a:ext cx="1895760" cy="1422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E:\попугай\DSC00440.JPG"/>
          <p:cNvPicPr/>
          <p:nvPr/>
        </p:nvPicPr>
        <p:blipFill>
          <a:blip r:embed="rId6"/>
          <a:stretch/>
        </p:blipFill>
        <p:spPr>
          <a:xfrm>
            <a:off x="5724360" y="4653000"/>
            <a:ext cx="2664000" cy="1773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E:\попугай\DSC00448.JPG"/>
          <p:cNvPicPr/>
          <p:nvPr/>
        </p:nvPicPr>
        <p:blipFill>
          <a:blip r:embed="rId7"/>
          <a:stretch/>
        </p:blipFill>
        <p:spPr>
          <a:xfrm>
            <a:off x="179280" y="1916280"/>
            <a:ext cx="2952720" cy="2519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10:51:17Z</dcterms:created>
  <dc:creator>xxx</dc:creator>
  <dc:description/>
  <dc:language>en-US</dc:language>
  <cp:lastModifiedBy>Лена</cp:lastModifiedBy>
  <dcterms:modified xsi:type="dcterms:W3CDTF">2012-01-09T11:57:34Z</dcterms:modified>
  <cp:revision>25</cp:revision>
  <dc:subject/>
  <dc:title>Слайд 1</dc:title>
</cp:coreProperties>
</file>