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302A-69CF-45B8-908C-3AD380C6E8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78C7-E95F-46A1-9CCE-D7FB51526EEE}" type="slidenum">
              <a:rPr b="0" lang="ru-RU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7A0-5309-4B91-B294-22DD9DAB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3B4-E550-4628-8BEF-83D6C066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4620-E476-4BDE-9645-41CFAF95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E46-1803-42BC-BE9C-5D2BD832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8613-3C94-4F01-9B7F-A7B547BF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8CEB-AA08-4959-81C5-81915A26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63B8-FDC0-4719-93B8-5CB35665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555C-7255-4E51-B27C-B875E040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1B72-4DAE-4B59-BDBD-6759E72D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A712-AC07-42F4-A0E4-054D0001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E85A-5721-4B3E-91AE-ADA978E4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8F5-2D8A-44F5-952C-8194C8B7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2CCB-F849-410A-95DD-E198D4DA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BF60-8F1F-4014-912D-A4A8A0BE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7EA8-6A54-4E62-95AA-919007AB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36EA-CD61-4484-BB96-949760A4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9BE3-B6C4-4076-AE9F-7D347FED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CB155-35DE-4231-A77E-38CBAC9E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94BA-0362-4247-90DF-7C1C284E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49A42-84E2-425B-9BEE-3532A0D1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E67FD-853A-4DC6-ACDC-79786DDE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FBAD5-59E7-4D1B-9032-CA3376F2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B40-B5C0-4D0C-8DD3-B29B17EA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86CDF-C675-45EB-A10D-D6D66321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D2E3-FEFD-452B-9078-95587BF7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3B9A-4F10-4572-85F1-7733CFC5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46863-4F31-4235-B548-8E09E72A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E0694-F031-4E5A-B314-709C3325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BB54-551D-4C7D-9FDB-056448D3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8BE9-B861-4E82-8FAE-2E92C872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04495-EBA9-45C3-BBAA-422C1E87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18494-26A5-4E0B-97A0-E6292E44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F56F4-CB74-40A2-BACB-8E30165D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EB2-D32D-44D7-8909-35C1FC5A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D7244-890D-4BC7-A6F3-BAA81800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E5552-B5E2-4E74-B765-08E48242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AA44D-7D0C-4702-9097-A0FF07C1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1F87D-5363-4A2E-9A2C-8C62588E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BD832-8910-42B5-9A49-D462F536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B6C5E-1DF6-40D8-A1D7-48CA957E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FBA42-93E2-44B5-8249-D7AE41D9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AD630-1DD1-43AD-ACFB-FC99FA4D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9D4D1-3E21-40E6-A7B1-3C13C1E2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303A7-16FF-4076-A81B-A2BDFF62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FB1-D874-4EBC-919C-1778E458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32BCB-2F2C-4E33-A1E1-2BEC7CA1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C83AE-194F-4E36-A6C0-AFF452A7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B851F-057E-4A17-BB8A-00D64070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459BC-51CB-4037-ACBA-D6DD3C46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7E48D-5CE3-4FA3-9FF0-4B932015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EC1DC-A37C-4F70-A80E-93A47C9D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8851B-4EE8-4CF8-B0D9-DAF338A5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41BBD-7BC7-40D4-973F-0E996560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EAD68-8FE0-4ADE-BF5D-2401A674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F860B-3B39-4168-A36E-C14B93E0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7AD-400D-4765-A0E4-FDC16D81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E2ECF-550F-4525-A0D6-4230933E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8B3F5-B39E-439F-BA11-2D9931EE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6B11A-9129-4CDB-8670-32687DAA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C9506-E56E-48ED-985B-7330D682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AF3A4-52A2-49E1-92FA-BCB6CCC1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5D354-ED2F-4151-A525-73B8A2A6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1AAA9-31D9-41BE-90F2-7F719059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7DF9E-CEE3-400C-A9D8-1ED2947A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3C65B-850C-4944-B809-E394DDDD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5B060-62EF-4658-8ECA-59796E28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29F-F3F4-4134-8C29-6156015A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BF48D-6389-4B55-BB93-09025220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F598F-352F-4453-8F31-7C9D5201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18ED2-069C-4488-964B-E1F776D0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B2611-A7C7-456D-AB98-755AF60B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98A80-5C2B-4576-9797-E6DB3B3C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4EA83-C7E6-4635-B38D-E316C7F3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DAB17-4C25-4CBA-9096-6AFA515C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309B1-0FD2-419B-BEEF-BA607E37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C30E2-3AC4-4F97-B5B8-4229CAE9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7E344-268E-4BDE-B2F8-B8B14688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C4E-141B-4EF2-91C3-7C8AD52B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3C79A-0046-45AC-822C-C2EB15DB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ACC23-AF6F-4501-BFFB-576A8E1C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3DA00-180A-4FC5-87E8-9746CC24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8EB3A-2F10-4F4C-AE69-CDA236F5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4E2BF-226B-4279-AEAB-995870BB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20D-52E7-4AB5-A38C-22DCFC87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1619-67B8-478D-B751-9AAFF56C6E3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B1A0-F51B-4198-A3A3-F24DCE60699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49A7-4442-4E23-8AFA-7DB8FC9D6CA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6B23-9968-42B9-8BBD-84DDE062CE0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C26D-BD1D-4CA9-B3D3-B13F71798F8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3680-C074-4456-B831-5BE203DE38D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801E-FF56-493B-AFFF-31AB131A1DB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extBox 3" descr=""/>
          <p:cNvPicPr/>
          <p:nvPr/>
        </p:nvPicPr>
        <p:blipFill>
          <a:blip r:embed="rId1"/>
          <a:stretch/>
        </p:blipFill>
        <p:spPr>
          <a:xfrm>
            <a:off x="1127160" y="2432160"/>
            <a:ext cx="7181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extBox 1" descr=""/>
          <p:cNvPicPr/>
          <p:nvPr/>
        </p:nvPicPr>
        <p:blipFill>
          <a:blip r:embed="rId1"/>
          <a:stretch/>
        </p:blipFill>
        <p:spPr>
          <a:xfrm>
            <a:off x="1231920" y="274680"/>
            <a:ext cx="649116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TextBox 2"/>
          <p:cNvSpPr/>
          <p:nvPr/>
        </p:nvSpPr>
        <p:spPr>
          <a:xfrm>
            <a:off x="-382320" y="2063880"/>
            <a:ext cx="96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Выражайте друг другу Вашу искреннюю признательность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-219600" y="2803680"/>
            <a:ext cx="84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Оказывайте друг другу небольшие знаки внимания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13680" y="3403440"/>
            <a:ext cx="47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Будьте предупредительны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0" name="TextBox 5"/>
          <p:cNvSpPr/>
          <p:nvPr/>
        </p:nvSpPr>
        <p:spPr>
          <a:xfrm>
            <a:off x="-111960" y="4094280"/>
            <a:ext cx="63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Не пытайтесь переделать друг друг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120600" y="4697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Не критикуйт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-182520" y="5259240"/>
            <a:ext cx="76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Старайтесь понять и поддержать друг друг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TextBox 8"/>
          <p:cNvSpPr/>
          <p:nvPr/>
        </p:nvSpPr>
        <p:spPr>
          <a:xfrm>
            <a:off x="-213480" y="5950080"/>
            <a:ext cx="88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Прочтите хорошую книгу о супружеских отношениях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4"/>
          <p:cNvSpPr/>
          <p:nvPr/>
        </p:nvSpPr>
        <p:spPr>
          <a:xfrm>
            <a:off x="5864760" y="5200560"/>
            <a:ext cx="27028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Ф. Достоевский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4" name="TextBox 3" descr=""/>
          <p:cNvPicPr/>
          <p:nvPr/>
        </p:nvPicPr>
        <p:blipFill>
          <a:blip r:embed="rId1"/>
          <a:stretch/>
        </p:blipFill>
        <p:spPr>
          <a:xfrm>
            <a:off x="281160" y="2041560"/>
            <a:ext cx="87231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extBox 3" descr=""/>
          <p:cNvPicPr/>
          <p:nvPr/>
        </p:nvPicPr>
        <p:blipFill>
          <a:blip r:embed="rId1"/>
          <a:stretch/>
        </p:blipFill>
        <p:spPr>
          <a:xfrm>
            <a:off x="1463760" y="3260880"/>
            <a:ext cx="1998720" cy="90936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ая соединительная линия 10" descr=""/>
          <p:cNvPicPr/>
          <p:nvPr/>
        </p:nvPicPr>
        <p:blipFill>
          <a:blip r:embed="rId2"/>
          <a:stretch/>
        </p:blipFill>
        <p:spPr>
          <a:xfrm>
            <a:off x="2090880" y="2073240"/>
            <a:ext cx="152280" cy="144468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ая соединительная линия 11" descr=""/>
          <p:cNvPicPr/>
          <p:nvPr/>
        </p:nvPicPr>
        <p:blipFill>
          <a:blip r:embed="rId3"/>
          <a:stretch/>
        </p:blipFill>
        <p:spPr>
          <a:xfrm>
            <a:off x="2090880" y="4035600"/>
            <a:ext cx="152280" cy="144432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ая со стрелкой 16" descr=""/>
          <p:cNvPicPr/>
          <p:nvPr/>
        </p:nvPicPr>
        <p:blipFill>
          <a:blip r:embed="rId4"/>
          <a:stretch/>
        </p:blipFill>
        <p:spPr>
          <a:xfrm>
            <a:off x="2182680" y="1816200"/>
            <a:ext cx="2919600" cy="36036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ая со стрелкой 19" descr=""/>
          <p:cNvPicPr/>
          <p:nvPr/>
        </p:nvPicPr>
        <p:blipFill>
          <a:blip r:embed="rId5"/>
          <a:stretch/>
        </p:blipFill>
        <p:spPr>
          <a:xfrm>
            <a:off x="2219400" y="5200560"/>
            <a:ext cx="291924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0" name="TextBox 21"/>
          <p:cNvGrpSpPr/>
          <p:nvPr/>
        </p:nvGrpSpPr>
        <p:grpSpPr>
          <a:xfrm>
            <a:off x="5072040" y="2011320"/>
            <a:ext cx="2376360" cy="1152720"/>
            <a:chOff x="5072040" y="2011320"/>
            <a:chExt cx="2376360" cy="1152720"/>
          </a:xfrm>
        </p:grpSpPr>
        <p:pic>
          <p:nvPicPr>
            <p:cNvPr id="351" name="TextBox 21" descr=""/>
            <p:cNvPicPr/>
            <p:nvPr/>
          </p:nvPicPr>
          <p:blipFill>
            <a:blip r:embed="rId6"/>
            <a:stretch/>
          </p:blipFill>
          <p:spPr>
            <a:xfrm>
              <a:off x="5072040" y="2011320"/>
              <a:ext cx="23763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148360" y="2060640"/>
              <a:ext cx="2232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353" name="TextBox 22"/>
          <p:cNvGrpSpPr/>
          <p:nvPr/>
        </p:nvGrpSpPr>
        <p:grpSpPr>
          <a:xfrm>
            <a:off x="5072040" y="4462560"/>
            <a:ext cx="2376360" cy="1152360"/>
            <a:chOff x="5072040" y="4462560"/>
            <a:chExt cx="2376360" cy="1152360"/>
          </a:xfrm>
        </p:grpSpPr>
        <p:pic>
          <p:nvPicPr>
            <p:cNvPr id="354" name="TextBox 22" descr=""/>
            <p:cNvPicPr/>
            <p:nvPr/>
          </p:nvPicPr>
          <p:blipFill>
            <a:blip r:embed="rId7"/>
            <a:stretch/>
          </p:blipFill>
          <p:spPr>
            <a:xfrm>
              <a:off x="5072040" y="4462560"/>
              <a:ext cx="2376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5148360" y="4508640"/>
              <a:ext cx="2232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pic>
        <p:nvPicPr>
          <p:cNvPr id="356" name="TextBox 24" descr=""/>
          <p:cNvPicPr/>
          <p:nvPr/>
        </p:nvPicPr>
        <p:blipFill>
          <a:blip r:embed="rId8"/>
          <a:stretch/>
        </p:blipFill>
        <p:spPr>
          <a:xfrm>
            <a:off x="4943520" y="1914480"/>
            <a:ext cx="2700360" cy="1255680"/>
          </a:xfrm>
          <a:prstGeom prst="rect">
            <a:avLst/>
          </a:prstGeom>
          <a:ln w="0">
            <a:noFill/>
          </a:ln>
        </p:spPr>
      </p:pic>
      <p:pic>
        <p:nvPicPr>
          <p:cNvPr id="357" name="TextBox 26" descr=""/>
          <p:cNvPicPr/>
          <p:nvPr/>
        </p:nvPicPr>
        <p:blipFill>
          <a:blip r:embed="rId9"/>
          <a:stretch/>
        </p:blipFill>
        <p:spPr>
          <a:xfrm>
            <a:off x="4913280" y="4363920"/>
            <a:ext cx="27669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extBox 1" descr=""/>
          <p:cNvPicPr/>
          <p:nvPr/>
        </p:nvPicPr>
        <p:blipFill>
          <a:blip r:embed="rId1"/>
          <a:stretch/>
        </p:blipFill>
        <p:spPr>
          <a:xfrm>
            <a:off x="2182680" y="152280"/>
            <a:ext cx="4857840" cy="1017720"/>
          </a:xfrm>
          <a:prstGeom prst="rect">
            <a:avLst/>
          </a:prstGeom>
          <a:ln w="0">
            <a:noFill/>
          </a:ln>
        </p:spPr>
      </p:pic>
      <p:sp>
        <p:nvSpPr>
          <p:cNvPr id="359" name="TextBox 2"/>
          <p:cNvSpPr/>
          <p:nvPr/>
        </p:nvSpPr>
        <p:spPr>
          <a:xfrm>
            <a:off x="971640" y="1700280"/>
            <a:ext cx="49687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ndara"/>
              </a:rPr>
              <a:t>РЕПРОДУКТИВНАЯ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ndara"/>
              </a:rPr>
              <a:t>СОЦИАЛИЗАЦИИ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ndara"/>
              </a:rPr>
              <a:t>ХОЗЯЙСТВЕННО-БЫТОВАЯ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ndara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ndara"/>
              </a:rPr>
              <a:t>ЗАЩИТНАЯ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ndara"/>
              </a:rPr>
              <a:t>ДУХОВНО-НРАВСТВЕННАЯ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ndara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ndara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ndara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ndara"/>
              </a:rPr>
              <a:t>КОНТРОЛИРУЮЩАЯ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ndara"/>
              </a:rPr>
              <a:t>СЕКСУАЛЬНАЯ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1240920" y="2852640"/>
            <a:ext cx="2384280" cy="398880"/>
          </a:xfrm>
          <a:prstGeom prst="rect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ndara"/>
              </a:rPr>
              <a:t>ЭКОНОМИЧЕСКАЯ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1248840" y="4048200"/>
            <a:ext cx="2469600" cy="398880"/>
          </a:xfrm>
          <a:prstGeom prst="rect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ndara"/>
              </a:rPr>
              <a:t>ЭМОЦИОНАЛЬНАЯ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1198800" y="4508640"/>
            <a:ext cx="3222720" cy="398880"/>
          </a:xfrm>
          <a:prstGeom prst="rect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ndara"/>
              </a:rPr>
              <a:t>СОЦИАЛЬНО-СТАТУСНАЯ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3" name="TextBox 6"/>
          <p:cNvSpPr/>
          <p:nvPr/>
        </p:nvSpPr>
        <p:spPr>
          <a:xfrm>
            <a:off x="1290600" y="5013360"/>
            <a:ext cx="1645200" cy="398880"/>
          </a:xfrm>
          <a:prstGeom prst="rect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ndara"/>
              </a:rPr>
              <a:t>ДОСУГОВАЯ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extBox 2" descr=""/>
          <p:cNvPicPr/>
          <p:nvPr/>
        </p:nvPicPr>
        <p:blipFill>
          <a:blip r:embed="rId1"/>
          <a:stretch/>
        </p:blipFill>
        <p:spPr>
          <a:xfrm>
            <a:off x="689040" y="476280"/>
            <a:ext cx="7589880" cy="987480"/>
          </a:xfrm>
          <a:prstGeom prst="rect">
            <a:avLst/>
          </a:prstGeom>
          <a:ln w="0">
            <a:noFill/>
          </a:ln>
        </p:spPr>
      </p:pic>
      <p:sp>
        <p:nvSpPr>
          <p:cNvPr id="365" name="TextBox 7"/>
          <p:cNvSpPr/>
          <p:nvPr/>
        </p:nvSpPr>
        <p:spPr>
          <a:xfrm>
            <a:off x="252360" y="1916280"/>
            <a:ext cx="744732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Cambria Math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Образование семьи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Cambria Math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Cambria Math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ачало деторождения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Cambria Math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Cambria Math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Окончание деторождения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Cambria Math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Cambria Math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«Пустое гнездо»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Cambria Math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Cambria Math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екращение существования семьи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1042920" y="1484280"/>
          <a:ext cx="7201080" cy="4248360"/>
        </p:xfrm>
        <a:graphic>
          <a:graphicData uri="http://schemas.openxmlformats.org/drawingml/2006/table">
            <a:tbl>
              <a:tblPr/>
              <a:tblGrid>
                <a:gridCol w="1706760"/>
                <a:gridCol w="1866600"/>
                <a:gridCol w="879480"/>
                <a:gridCol w="974880"/>
                <a:gridCol w="17733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снования для клас-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Виды семь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 числу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ногоде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алоде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Безде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 родственной структу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 типу восп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вторита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Либе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емократ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 кол-ву супру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TextBox 4"/>
          <p:cNvSpPr/>
          <p:nvPr/>
        </p:nvSpPr>
        <p:spPr>
          <a:xfrm>
            <a:off x="3339720" y="334152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</a:rPr>
              <a:t>Нуклеарная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5626440" y="33415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</a:rPr>
              <a:t>Расширенная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3373920" y="508464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ndara"/>
              </a:rPr>
              <a:t>Моногамная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0" name="TextBox 7"/>
          <p:cNvSpPr/>
          <p:nvPr/>
        </p:nvSpPr>
        <p:spPr>
          <a:xfrm>
            <a:off x="6198480" y="50846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ndara"/>
              </a:rPr>
              <a:t>Полигамная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1" name="TextBox 8" descr=""/>
          <p:cNvPicPr/>
          <p:nvPr/>
        </p:nvPicPr>
        <p:blipFill>
          <a:blip r:embed="rId1"/>
          <a:stretch/>
        </p:blipFill>
        <p:spPr>
          <a:xfrm>
            <a:off x="1785960" y="262080"/>
            <a:ext cx="597996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extBox 3" descr=""/>
          <p:cNvPicPr/>
          <p:nvPr/>
        </p:nvPicPr>
        <p:blipFill>
          <a:blip r:embed="rId1"/>
          <a:stretch/>
        </p:blipFill>
        <p:spPr>
          <a:xfrm>
            <a:off x="152280" y="2693880"/>
            <a:ext cx="91504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403280" y="836640"/>
          <a:ext cx="7080480" cy="2363760"/>
        </p:xfrm>
        <a:graphic>
          <a:graphicData uri="http://schemas.openxmlformats.org/drawingml/2006/table">
            <a:tbl>
              <a:tblPr/>
              <a:tblGrid>
                <a:gridCol w="2449440"/>
                <a:gridCol w="808200"/>
                <a:gridCol w="809640"/>
                <a:gridCol w="735120"/>
                <a:gridCol w="807840"/>
                <a:gridCol w="735120"/>
                <a:gridCol w="735120"/>
              </a:tblGrid>
              <a:tr h="879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Зарегистрировано  семей, имеющ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06436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06436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06436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06436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06436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06436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06436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дного реб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воих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Троих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етыре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d0d0d"/>
                      </a:solidFill>
                    </a:lnL>
                    <a:lnR w="1440">
                      <a:solidFill>
                        <a:srgbClr val="0d0d0d"/>
                      </a:solidFill>
                    </a:lnR>
                    <a:lnT w="1440">
                      <a:solidFill>
                        <a:srgbClr val="0d0d0d"/>
                      </a:solidFill>
                    </a:lnT>
                    <a:lnB w="1440">
                      <a:solidFill>
                        <a:srgbClr val="0d0d0d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1403280" y="3357720"/>
          <a:ext cx="7129440" cy="2620800"/>
        </p:xfrm>
        <a:graphic>
          <a:graphicData uri="http://schemas.openxmlformats.org/drawingml/2006/table">
            <a:tbl>
              <a:tblPr/>
              <a:tblGrid>
                <a:gridCol w="2448000"/>
                <a:gridCol w="792000"/>
                <a:gridCol w="792360"/>
                <a:gridCol w="792000"/>
                <a:gridCol w="792360"/>
                <a:gridCol w="792000"/>
                <a:gridCol w="72072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Возраст матери рожденного ребенк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6436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6436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6436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6436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6436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6436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6436b"/>
                    </a:solidFill>
                  </a:tcPr>
                </a:tc>
              </a:tr>
              <a:tr h="426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27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1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25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1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643040" y="1000080"/>
          <a:ext cx="6286680" cy="5086440"/>
        </p:xfrm>
        <a:graphic>
          <a:graphicData uri="http://schemas.openxmlformats.org/drawingml/2006/table">
            <a:tbl>
              <a:tblPr/>
              <a:tblGrid>
                <a:gridCol w="2095560"/>
                <a:gridCol w="2238480"/>
                <a:gridCol w="1952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Деву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Юно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опрос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опрос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 бра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 бра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опрос №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-2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опрос №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 ребенок-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 ребенка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 ребенок-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 ребенка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 ребенка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опрос №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естный , надёжный, ум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мная , хозяйк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краси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опрос №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уж-глава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уж-глава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опрос №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Фамилия му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ставить свою фамил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опрос №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т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т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3:00:32Z</dcterms:created>
  <dc:creator>Admin</dc:creator>
  <dc:description/>
  <dc:language>en-US</dc:language>
  <cp:lastModifiedBy>СШ</cp:lastModifiedBy>
  <dcterms:modified xsi:type="dcterms:W3CDTF">2007-06-20T22:19:52Z</dcterms:modified>
  <cp:revision>21</cp:revision>
  <dc:subject/>
  <dc:title>Презентация PowerPoint</dc:title>
</cp:coreProperties>
</file>