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29B8-E86D-4B26-B5CA-B15A6579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B2AE-3330-4F20-8363-6CE6CF7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FC21-DC32-4B1C-8385-D843D884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7445-C307-40F1-B22F-02263FE2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9B5C-D26D-4385-B97B-ED1E5AD6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9B10-AAD7-459A-ADAA-0D60648D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4E0A-1E3B-4D7F-A8EB-CF9B8112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3772-6C7B-46EB-98CF-B0B23B9A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66F1-08BE-40FF-9E77-4855516E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92D6-E2D8-44D6-B2B8-901B659E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77DF-3435-4D96-85E8-D2E682D1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A4B5-55D2-4DC5-B709-1D57B9A9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AF90-4D17-4EA8-9D36-5D672386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EEF1-12FB-45F0-AAC7-68FFF472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328E-B7A5-44C6-8928-E0AB4F54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7FC-89AD-4A54-A9A5-918B30B7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3398-D3CE-4456-B83F-484A585B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69EB-012E-4980-B386-8D3D0023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2ADF-B7C8-47C7-A121-861206C2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646B-E770-4BCE-B33C-D19B37A9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2F22-4045-43FD-800A-E3577B8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FFE8-0EB4-4628-89AB-A0F0F1C9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B677-3B6B-44DB-AF4E-21514A97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3E9C-F034-4577-AE27-214C7E4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64C-1968-4B52-A198-FD1F74A250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A68C-16C2-4052-88D1-42C674FBB4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ЭТИКА   ЧЕЛОВЕЧЕСКИХ   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3720" y="4723920"/>
            <a:ext cx="579132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ЕРЕХ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АТЬЯНА ИВАНО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У  РТ  школа-интернат для детей-сирот и детей, оставшихся без попечения родителей, г. Кызы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и ку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объективной, соответствующей возрасту информации об этике человеческих отношений, способствование увеличению знаний воспитанников путем обсуждения проблем, связанных с общение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воспитанников мотивационной сферы этическ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детей лучше понимать самих себя и критически относиться к собственному поведению; способствовать стремлению воспитанников понять окружающих и анализировать свои отношения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воспитанников эффективно общаться, делать здоровый выбор и принимать ответстве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стремление к самовоспит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курса этики человеческих 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кла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азвивают навыки общения, познают, как не мешать окружающим людям, учатся преодолевать негативные черты характер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х, бояз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ла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чатся преодолевать негативные черты характера: обман, вранье, ложь, развивают положительные качества личности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стность и правдивость, бескорыстность, благодарн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чатся преодолевать негативные черты характера: зависть, гордыня, вспыльчивость, надменность, прививать положительные качеств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я,  деликатность, внима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класс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тся преодолевать негативные черты характера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лобность, жестокость, злослов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кла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чатся преодолевать негативные черты характер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цемерие, угодничество, приспособленч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Organization Chart 7"/>
          <p:cNvGrpSpPr/>
          <p:nvPr/>
        </p:nvGrpSpPr>
        <p:grpSpPr>
          <a:xfrm>
            <a:off x="304920" y="380880"/>
            <a:ext cx="8610120" cy="5941800"/>
            <a:chOff x="304920" y="380880"/>
            <a:chExt cx="8610120" cy="5941800"/>
          </a:xfrm>
        </p:grpSpPr>
        <p:cxnSp>
          <p:nvCxnSpPr>
            <p:cNvPr id="145" name="_s3076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789160" y="1577880"/>
              <a:ext cx="1189080" cy="354672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3077"/>
            <p:cNvCxnSpPr>
              <a:stCxn id="149" idx="0"/>
              <a:endCxn id="147" idx="2"/>
            </p:cNvCxnSpPr>
            <p:nvPr/>
          </p:nvCxnSpPr>
          <p:spPr>
            <a:xfrm flipV="1" rot="16200000">
              <a:off x="4902480" y="2464560"/>
              <a:ext cx="1189080" cy="177372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078"/>
            <p:cNvCxnSpPr>
              <a:stCxn id="151" idx="0"/>
              <a:endCxn id="147" idx="2"/>
            </p:cNvCxnSpPr>
            <p:nvPr/>
          </p:nvCxnSpPr>
          <p:spPr>
            <a:xfrm flipV="1" rot="16200000">
              <a:off x="4016880" y="3350160"/>
              <a:ext cx="1189080" cy="216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79"/>
            <p:cNvCxnSpPr>
              <a:stCxn id="153" idx="0"/>
              <a:endCxn id="147" idx="2"/>
            </p:cNvCxnSpPr>
            <p:nvPr/>
          </p:nvCxnSpPr>
          <p:spPr>
            <a:xfrm flipH="1" flipV="1" rot="5400000">
              <a:off x="3129840" y="2464560"/>
              <a:ext cx="1189080" cy="177372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0"/>
            <p:cNvCxnSpPr>
              <a:stCxn id="155" idx="0"/>
              <a:endCxn id="147" idx="2"/>
            </p:cNvCxnSpPr>
            <p:nvPr/>
          </p:nvCxnSpPr>
          <p:spPr>
            <a:xfrm flipH="1" flipV="1" rot="5400000">
              <a:off x="2243160" y="1578240"/>
              <a:ext cx="1189080" cy="354672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3081"/>
            <p:cNvSpPr/>
            <p:nvPr/>
          </p:nvSpPr>
          <p:spPr>
            <a:xfrm>
              <a:off x="3849120" y="38088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одерж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кур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-7 клас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082"/>
            <p:cNvSpPr/>
            <p:nvPr/>
          </p:nvSpPr>
          <p:spPr>
            <a:xfrm>
              <a:off x="304920" y="394596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Челове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ре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юд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083"/>
            <p:cNvSpPr/>
            <p:nvPr/>
          </p:nvSpPr>
          <p:spPr>
            <a:xfrm>
              <a:off x="2077920" y="394596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а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084"/>
            <p:cNvSpPr/>
            <p:nvPr/>
          </p:nvSpPr>
          <p:spPr>
            <a:xfrm>
              <a:off x="3850920" y="394596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вет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вен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085"/>
            <p:cNvSpPr/>
            <p:nvPr/>
          </p:nvSpPr>
          <p:spPr>
            <a:xfrm>
              <a:off x="5624280" y="394596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лез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 вред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выч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6"/>
            <p:cNvSpPr/>
            <p:nvPr/>
          </p:nvSpPr>
          <p:spPr>
            <a:xfrm>
              <a:off x="7397280" y="3945960"/>
              <a:ext cx="1517760" cy="2376720"/>
            </a:xfrm>
            <a:custGeom>
              <a:avLst/>
              <a:gdLst>
                <a:gd name="textAreaLeft" fmla="*/ 73800 w 1517760"/>
                <a:gd name="textAreaRight" fmla="*/ 1443960 w 1517760"/>
                <a:gd name="textAreaTop" fmla="*/ 73800 h 2376720"/>
                <a:gd name="textAreaBottom" fmla="*/ 2302920 h 2376720"/>
              </a:gdLst>
              <a:ahLst/>
              <a:rect l="textAreaLeft" t="textAreaTop" r="textAreaRight" b="textAreaBottom"/>
              <a:pathLst>
                <a:path w="21600" h="33821">
                  <a:moveTo>
                    <a:pt x="3600" y="0"/>
                  </a:moveTo>
                  <a:arcTo wR="3600" hR="3600" stAng="16200000" swAng="-5400000"/>
                  <a:lnTo>
                    <a:pt x="0" y="30221"/>
                  </a:lnTo>
                  <a:arcTo wR="3600" hR="3600" stAng="10800000" swAng="-5400000"/>
                  <a:lnTo>
                    <a:pt x="18000" y="338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доровь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10"/>
          <p:cNvGrpSpPr/>
          <p:nvPr/>
        </p:nvGrpSpPr>
        <p:grpSpPr>
          <a:xfrm>
            <a:off x="762120" y="228600"/>
            <a:ext cx="7749720" cy="5822280"/>
            <a:chOff x="762120" y="228600"/>
            <a:chExt cx="7749720" cy="5822280"/>
          </a:xfrm>
        </p:grpSpPr>
        <p:cxnSp>
          <p:nvCxnSpPr>
            <p:cNvPr id="157" name="_s4100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650920" y="1542960"/>
              <a:ext cx="1164960" cy="319248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4101"/>
            <p:cNvCxnSpPr>
              <a:stCxn id="161" idx="0"/>
              <a:endCxn id="159" idx="2"/>
            </p:cNvCxnSpPr>
            <p:nvPr/>
          </p:nvCxnSpPr>
          <p:spPr>
            <a:xfrm flipV="1" rot="16200000">
              <a:off x="4852800" y="2341080"/>
              <a:ext cx="1164960" cy="159660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4102"/>
            <p:cNvCxnSpPr>
              <a:stCxn id="163" idx="0"/>
              <a:endCxn id="159" idx="2"/>
            </p:cNvCxnSpPr>
            <p:nvPr/>
          </p:nvCxnSpPr>
          <p:spPr>
            <a:xfrm flipV="1" rot="16200000">
              <a:off x="4055760" y="3138120"/>
              <a:ext cx="1164960" cy="216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4103"/>
            <p:cNvCxnSpPr>
              <a:stCxn id="165" idx="0"/>
              <a:endCxn id="159" idx="2"/>
            </p:cNvCxnSpPr>
            <p:nvPr/>
          </p:nvCxnSpPr>
          <p:spPr>
            <a:xfrm flipH="1" flipV="1" rot="5400000">
              <a:off x="3256920" y="2341080"/>
              <a:ext cx="1164960" cy="159660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4104"/>
            <p:cNvCxnSpPr>
              <a:stCxn id="167" idx="0"/>
              <a:endCxn id="159" idx="2"/>
            </p:cNvCxnSpPr>
            <p:nvPr/>
          </p:nvCxnSpPr>
          <p:spPr>
            <a:xfrm flipH="1" flipV="1" rot="5400000">
              <a:off x="2459160" y="1543320"/>
              <a:ext cx="1164960" cy="319248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4105"/>
            <p:cNvSpPr/>
            <p:nvPr/>
          </p:nvSpPr>
          <p:spPr>
            <a:xfrm>
              <a:off x="3952440" y="22860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держ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ур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-9 кла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4106"/>
            <p:cNvSpPr/>
            <p:nvPr/>
          </p:nvSpPr>
          <p:spPr>
            <a:xfrm>
              <a:off x="762120" y="372204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оскошь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человеческ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бщ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4107"/>
            <p:cNvSpPr/>
            <p:nvPr/>
          </p:nvSpPr>
          <p:spPr>
            <a:xfrm>
              <a:off x="2358000" y="372204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Дружба 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любов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4108"/>
            <p:cNvSpPr/>
            <p:nvPr/>
          </p:nvSpPr>
          <p:spPr>
            <a:xfrm>
              <a:off x="3953880" y="372204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тветствен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ост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4109"/>
            <p:cNvSpPr/>
            <p:nvPr/>
          </p:nvSpPr>
          <p:spPr>
            <a:xfrm>
              <a:off x="5549760" y="372204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редны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 полез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выч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110"/>
            <p:cNvSpPr/>
            <p:nvPr/>
          </p:nvSpPr>
          <p:spPr>
            <a:xfrm>
              <a:off x="7145640" y="3722040"/>
              <a:ext cx="1366200" cy="2328840"/>
            </a:xfrm>
            <a:custGeom>
              <a:avLst/>
              <a:gdLst>
                <a:gd name="textAreaLeft" fmla="*/ 66600 w 1366200"/>
                <a:gd name="textAreaRight" fmla="*/ 1299600 w 136620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816">
                  <a:moveTo>
                    <a:pt x="3600" y="0"/>
                  </a:moveTo>
                  <a:arcTo wR="3600" hR="3600" stAng="16200000" swAng="-5400000"/>
                  <a:lnTo>
                    <a:pt x="0" y="33216"/>
                  </a:lnTo>
                  <a:arcTo wR="3600" hR="3600" stAng="10800000" swAng="-5400000"/>
                  <a:lnTo>
                    <a:pt x="18000" y="36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Здоровье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овек среди люд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-7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общения. Внимание к людям. Умение слушать собеседника. Воображение. Уважение к людям. Сочувствие. Настроение. Учимся вежливости. Слова приветствия, прощания, извинения, просьбы. Скрытая просьба. Благода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ика и этикет. Поведение за столом. В гостях. В театре. Внутренняя и внешняя воспитанность. Уважение. Дерзость. Дисциплина. Бескорыстность. Благотворительность. Честность и правдивость. Благодарность. Доброта. Доброе отношение к людям. Манеры поведения. Условия эффективного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рота и доброжелательность. Деликатность. Варварство. Вспыльчивость. Вульгарность. Зависть. Жестокосердие. Наха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PICT0424"/>
          <p:cNvPicPr/>
          <p:nvPr/>
        </p:nvPicPr>
        <p:blipFill>
          <a:blip r:embed="rId1"/>
          <a:stretch/>
        </p:blipFill>
        <p:spPr>
          <a:xfrm>
            <a:off x="0" y="3049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кошь человеческого общен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8-9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, человек!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живем, чтобы оставить сле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скошь человеческого общения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ть с достоинством. Что это значит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Чтобы радость людям дарить, надо добрым и вежливым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.  Благодарность. Великодушие. Бесчувственность. Злословие. Совесть. Нужна ли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й себя. Как мы общаемся. Строить отношения. Совесть. Добро и з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й познать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воспитание (5-7 класс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дение  на улице, в транспорте. Азбука юного пешехода. Учимся вежест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имиримость к грубости. Равнодушие. Турнир вежливых и внимательных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й себя. Характер. Внимание, память, мышление. Воля и волевые качества личности. Судь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ружба и любовь  (8-9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. Личность. Смысл жизни человека. Счастье жить. Дружба и любовь. Умеем ли мы дружить? Настоящая друж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инство. Мужество. Рыцарство. Женственность. Девичья гордость и мужское достои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смысл любви? Любовь и влюбленность. Любви все возрасты покорны. Делать подарок любимым. Любовь – величайшая ц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ственность  (5-7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. Есть ли границы у ответственности. Ответственность за свои поступки. Самовоспит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PICT0429"/>
          <p:cNvPicPr/>
          <p:nvPr/>
        </p:nvPicPr>
        <p:blipFill>
          <a:blip r:embed="rId1"/>
          <a:stretch/>
        </p:blipFill>
        <p:spPr>
          <a:xfrm>
            <a:off x="5295960" y="1828800"/>
            <a:ext cx="3600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ственность (8-9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а и ответственность. Преступление и наказание. Законы и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ственность и безответственность. Полезны ли полезные привычки. Умей познать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а и ответственность. Есть ли у нас рабство? Преступление и наказание. Законы и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ли у нас выбор? Ценностные ориентации. Как получить то, что хоч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3505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, кто провел свое детство в стенах школы-интерната для детей-сирот и детей, оставшихся без попечения родителей, не имеют позитивного образца отношений в семье (порой, наоборот, имеют отрицательны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066680" y="0"/>
            <a:ext cx="7086600" cy="1676520"/>
          </a:xfrm>
          <a:prstGeom prst="horizont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оль сем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ICT0010"/>
          <p:cNvPicPr/>
          <p:nvPr/>
        </p:nvPicPr>
        <p:blipFill>
          <a:blip r:embed="rId1"/>
          <a:stretch/>
        </p:blipFill>
        <p:spPr>
          <a:xfrm>
            <a:off x="4114800" y="2362320"/>
            <a:ext cx="5029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зные и вредные привычк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5-7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ые и вредные привы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В. Почему люди употребляют ПАВ? Соблюдай безопасность. Давление.. Ингаля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вожность. Как преодолеть тревожность? Знакомство. Алкоголь. Курение. Наркотики. Марихуана. Наркомания. Манипулирование. Как отличить манипулирование от давле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ценка. Стеснительность. Мифы и правда о ПА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дные и полезные привыч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8-9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осток и алкоголь. Алкоголь, никотин: в чем опасность? Осторожно, наркомани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курения, алкоголизма, наркомании. Можно ли прожить без алког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40"/>
          <p:cNvPicPr/>
          <p:nvPr/>
        </p:nvPicPr>
        <p:blipFill>
          <a:blip r:embed="rId1"/>
          <a:stretch/>
        </p:blipFill>
        <p:spPr>
          <a:xfrm>
            <a:off x="685800" y="2438280"/>
            <a:ext cx="2346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оровье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(5-7 класс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е здоровье. Кто в ответе за мое здоровье? Перед кем я несу ответственность за свое здоровье?  За кого я несу ответственность? Вперед к здоровь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26"/>
          <p:cNvPicPr/>
          <p:nvPr/>
        </p:nvPicPr>
        <p:blipFill>
          <a:blip r:embed="rId1"/>
          <a:stretch/>
        </p:blipFill>
        <p:spPr>
          <a:xfrm>
            <a:off x="5105520" y="2836800"/>
            <a:ext cx="37335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оровье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8-9 класс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доровом теле здоровый дух. Ответственность за свое здоровье и здоровье окружающих. Путь к здор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23"/>
          <p:cNvPicPr/>
          <p:nvPr/>
        </p:nvPicPr>
        <p:blipFill>
          <a:blip r:embed="rId1"/>
          <a:srcRect l="0" t="0" r="0" b="8211"/>
          <a:stretch/>
        </p:blipFill>
        <p:spPr>
          <a:xfrm>
            <a:off x="304920" y="2717640"/>
            <a:ext cx="42670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304920" y="1066680"/>
            <a:ext cx="8458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стижения поставленны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ей и зада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бинация традиционных и групповых методов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Diagram 7"/>
          <p:cNvGrpSpPr/>
          <p:nvPr/>
        </p:nvGrpSpPr>
        <p:grpSpPr>
          <a:xfrm>
            <a:off x="2725560" y="2325600"/>
            <a:ext cx="3692880" cy="3196800"/>
            <a:chOff x="2725560" y="2325600"/>
            <a:chExt cx="3692880" cy="3196800"/>
          </a:xfrm>
        </p:grpSpPr>
        <p:sp>
          <p:nvSpPr>
            <p:cNvPr id="196" name="_s5124"/>
            <p:cNvSpPr/>
            <p:nvPr/>
          </p:nvSpPr>
          <p:spPr>
            <a:xfrm flipV="1">
              <a:off x="4308480" y="2325600"/>
              <a:ext cx="527040" cy="457200"/>
            </a:xfrm>
            <a:custGeom>
              <a:avLst/>
              <a:gdLst>
                <a:gd name="textAreaLeft" fmla="*/ 189000 w 527040"/>
                <a:gd name="textAreaRight" fmla="*/ 338040 w 527040"/>
                <a:gd name="textAreaTop" fmla="*/ 164160 h 457200"/>
                <a:gd name="textAreaBottom" fmla="*/ 2930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125"/>
            <p:cNvSpPr/>
            <p:nvPr/>
          </p:nvSpPr>
          <p:spPr>
            <a:xfrm flipV="1">
              <a:off x="4044960" y="2782800"/>
              <a:ext cx="1054080" cy="457200"/>
            </a:xfrm>
            <a:custGeom>
              <a:avLst/>
              <a:gdLst>
                <a:gd name="textAreaLeft" fmla="*/ 231840 w 1054080"/>
                <a:gd name="textAreaRight" fmla="*/ 822240 w 105408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Лек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5126"/>
            <p:cNvSpPr/>
            <p:nvPr/>
          </p:nvSpPr>
          <p:spPr>
            <a:xfrm flipV="1">
              <a:off x="3781440" y="3240000"/>
              <a:ext cx="1581120" cy="455760"/>
            </a:xfrm>
            <a:custGeom>
              <a:avLst/>
              <a:gdLst>
                <a:gd name="textAreaLeft" fmla="*/ 274320 w 1581120"/>
                <a:gd name="textAreaRight" fmla="*/ 1306800 w 1581120"/>
                <a:gd name="textAreaTop" fmla="*/ 78840 h 455760"/>
                <a:gd name="textAreaBottom" fmla="*/ 376920 h 4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удио-визуа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ред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5127"/>
            <p:cNvSpPr/>
            <p:nvPr/>
          </p:nvSpPr>
          <p:spPr>
            <a:xfrm flipV="1">
              <a:off x="3516480" y="3695760"/>
              <a:ext cx="2111040" cy="457200"/>
            </a:xfrm>
            <a:custGeom>
              <a:avLst/>
              <a:gdLst>
                <a:gd name="textAreaLeft" fmla="*/ 317520 w 2111040"/>
                <a:gd name="textAreaRight" fmla="*/ 1793520 w 2111040"/>
                <a:gd name="textAreaTop" fmla="*/ 68760 h 457200"/>
                <a:gd name="textAreaBottom" fmla="*/ 388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глядные пособ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128"/>
            <p:cNvSpPr/>
            <p:nvPr/>
          </p:nvSpPr>
          <p:spPr>
            <a:xfrm flipV="1">
              <a:off x="3252960" y="4152960"/>
              <a:ext cx="2638080" cy="457200"/>
            </a:xfrm>
            <a:custGeom>
              <a:avLst/>
              <a:gdLst>
                <a:gd name="textAreaLeft" fmla="*/ 360000 w 2638080"/>
                <a:gd name="textAreaRight" fmla="*/ 2278080 w 2638080"/>
                <a:gd name="textAreaTop" fmla="*/ 62280 h 457200"/>
                <a:gd name="textAreaBottom" fmla="*/ 394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суждение в группа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129"/>
            <p:cNvSpPr/>
            <p:nvPr/>
          </p:nvSpPr>
          <p:spPr>
            <a:xfrm flipV="1">
              <a:off x="2989440" y="4610160"/>
              <a:ext cx="3165120" cy="457200"/>
            </a:xfrm>
            <a:custGeom>
              <a:avLst/>
              <a:gdLst>
                <a:gd name="textAreaLeft" fmla="*/ 402840 w 3165120"/>
                <a:gd name="textAreaRight" fmla="*/ 2762280 w 3165120"/>
                <a:gd name="textAreaTop" fmla="*/ 57960 h 457200"/>
                <a:gd name="textAreaBottom" fmla="*/ 399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олевые игры, сцен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130"/>
            <p:cNvSpPr/>
            <p:nvPr/>
          </p:nvSpPr>
          <p:spPr>
            <a:xfrm flipV="1">
              <a:off x="2725560" y="5066640"/>
              <a:ext cx="3692880" cy="455400"/>
            </a:xfrm>
            <a:custGeom>
              <a:avLst/>
              <a:gdLst>
                <a:gd name="textAreaLeft" fmla="*/ 445680 w 3692880"/>
                <a:gd name="textAreaRight" fmla="*/ 3247200 w 3692880"/>
                <a:gd name="textAreaTop" fmla="*/ 54720 h 455400"/>
                <a:gd name="textAreaBottom" fmla="*/ 40068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ступление в роли обучающе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510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овая диску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евое моде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ое обучение (научное творчество,практическое творчество, художественное творче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е методы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овые технологии (КТ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7"/>
          <p:cNvGraphicFramePr/>
          <p:nvPr/>
        </p:nvGraphicFramePr>
        <p:xfrm>
          <a:off x="4648320" y="2970360"/>
          <a:ext cx="403848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970360"/>
                    <a:ext cx="403848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11" descr="PICT0159"/>
          <p:cNvPicPr/>
          <p:nvPr/>
        </p:nvPicPr>
        <p:blipFill>
          <a:blip r:embed="rId3"/>
          <a:stretch/>
        </p:blipFill>
        <p:spPr>
          <a:xfrm>
            <a:off x="5181480" y="1976400"/>
            <a:ext cx="39625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733920" y="228600"/>
            <a:ext cx="5410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современных образовательных технологий, в том числе информационно-коммуникационных, в процессе обучения этике человеческих отношений и в воспитательной работе в условиях школы-интерната  просто необходим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язи с тем, что специальных учебников по этике нет, при изучении курса учащиеся учатся пользоваться разными источниками информации: литературой, интернетом, средствами массовой информации, анализировать, выбирать нужное, сравнивать и делать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Изображение 001"/>
          <p:cNvPicPr/>
          <p:nvPr/>
        </p:nvPicPr>
        <p:blipFill>
          <a:blip r:embed="rId1"/>
          <a:srcRect l="8963" t="9964" r="4746" b="0"/>
          <a:stretch/>
        </p:blipFill>
        <p:spPr>
          <a:xfrm>
            <a:off x="380880" y="2666880"/>
            <a:ext cx="3429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5410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м классе каждый воспитанник (можно группа) должен выбрать тему для исследования, ознакомиться с  информационными источниками по этой теме, выполнить творческую работу, оформить ее в форме реферата, презентации и выступить с ней перед классом на уроке э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подход предполагает овладение учениками рядом исследовательских, проектных, информационно-коммуникативных умений, что означает присутствие соответствующих видов учебной деятельности на занят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Копия Изображение 001"/>
          <p:cNvPicPr/>
          <p:nvPr/>
        </p:nvPicPr>
        <p:blipFill>
          <a:blip r:embed="rId1"/>
          <a:stretch/>
        </p:blipFill>
        <p:spPr>
          <a:xfrm>
            <a:off x="5334120" y="1219320"/>
            <a:ext cx="3590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5410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овать такую деятельность, проконтролировать и оценить ее результаты можно только с помощью адекватных образовательных технол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лемных, исследователь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разовательных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ющ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Копия Изображение 001"/>
          <p:cNvPicPr/>
          <p:nvPr/>
        </p:nvPicPr>
        <p:blipFill>
          <a:blip r:embed="rId1"/>
          <a:srcRect l="47211" t="0" r="12283" b="0"/>
          <a:stretch/>
        </p:blipFill>
        <p:spPr>
          <a:xfrm>
            <a:off x="5410080" y="380880"/>
            <a:ext cx="3492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неудач в общен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672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чужденность, недоверие к людям, недоброжелательное, враждебно отстраненное отношение к ним, неумение общ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звитые культура чувств и социальный интеллект, недостатки полоролев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многих воспитанников слабо развито чувство ответственности за свои поступки, за благополучие тех, кто связал с ними свою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гоизм, потребительское отношение к близким, неумение заботиться о 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ая самооценка, неуверенность в себ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ICT0047"/>
          <p:cNvPicPr/>
          <p:nvPr/>
        </p:nvPicPr>
        <p:blipFill>
          <a:blip r:embed="rId1"/>
          <a:stretch/>
        </p:blipFill>
        <p:spPr>
          <a:xfrm>
            <a:off x="228600" y="2117880"/>
            <a:ext cx="40384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723920" y="22860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ках этики, систематически создавая проблемные ситуации и организуя деятельность учащихся по решению этих проблем, обеспечивается оптимальное сочетание  их самостоятельной поисковой деятельности с усвоением готовых выв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PICT0161"/>
          <p:cNvPicPr/>
          <p:nvPr/>
        </p:nvPicPr>
        <p:blipFill>
          <a:blip r:embed="rId1"/>
          <a:stretch/>
        </p:blipFill>
        <p:spPr>
          <a:xfrm>
            <a:off x="304920" y="1905120"/>
            <a:ext cx="457200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ИССЛЕДОВАТЕЛЬСКИХ И ТВОРЧЕСКИХ РАБОТ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ить или не прос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ить или не кур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ли создать самому свое настро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овицы и поговорки о кур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яя и внешняя воспит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я могу совершить благотворитель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рошо ли быть равнодуш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ли границы у ответствен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нипулирование. Хорошо или плох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в ответе за мое здоров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овицы и поговорки о пья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 – от рождения или от вос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к может все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снительность: хорошо или плох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фы о наркот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 кем и за кого я несу ответствен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чему приводит л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ть с достоинством. Что это знач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гу ли я быть волшебни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заботится о тебе, и о ком заботишься 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ственность и безответств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зны ли полезные привы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правильно общ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выбираю жизнь! (О вреде алкоголя, курения, наркоти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ем ли мы дру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вь или влюблен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мы общаем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сть. Нужна ли 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ы и правила. Если их не соблюд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ем нужны добрые де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мысл жизни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мысл любв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уходит любов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цари – это современ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а она – современная дев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овек свободного общества. Свободен ли 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ли у нас раб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ностные ориентаци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я могу получить то, что хочу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ли прожить без алкого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жизнь! (О вреде алкоголя, курения, наркот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ИВНЫЕ МЕТОДЫ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324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обучение помогает перейти от программных форм и методов обучения к развивающим, проблемным, исследовательским, поисковым, обеспечивающим рождение познавательных мотивов и интересов, условий для творчества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е методы на уроках этики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мозговой штурм, групповая дискуссия, ролевое моделирование, проигрывание ситуаций, коллективная творческая деятельность  и др., игры в форме телепередачи «Что, где, когда?», «Окна», «Звездный час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PICT0160"/>
          <p:cNvPicPr/>
          <p:nvPr/>
        </p:nvPicPr>
        <p:blipFill>
          <a:blip r:embed="rId1"/>
          <a:stretch/>
        </p:blipFill>
        <p:spPr>
          <a:xfrm>
            <a:off x="6477120" y="26668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124080" y="198072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Ы НА УРОКАХ Э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Маски», «Жесты», «Иностранец», «Художник», «Глухой телефон», «Сочиняем сказку», «Я садовником родился», «Если бы я был волшебником»,  «Цветопись настроения», «Жмурки», «На улице»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ICT0150"/>
          <p:cNvPicPr/>
          <p:nvPr/>
        </p:nvPicPr>
        <p:blipFill>
          <a:blip r:embed="rId1"/>
          <a:stretch/>
        </p:blipFill>
        <p:spPr>
          <a:xfrm>
            <a:off x="115920" y="1905120"/>
            <a:ext cx="3005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УППОВ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ого обу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правила и обучить 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ить каждому сво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ить задания и каждому указать время его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ь классу ответный коммента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PICT0169"/>
          <p:cNvPicPr/>
          <p:nvPr/>
        </p:nvPicPr>
        <p:blipFill>
          <a:blip r:embed="rId1"/>
          <a:stretch/>
        </p:blipFill>
        <p:spPr>
          <a:xfrm>
            <a:off x="228600" y="264780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495680" y="22860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еречисленные технологии применяются при обучении воспитанников этике в комплексе, они взаимосвязаны между собой.  Программа курса этики человеческих отношений дает широкие возможности для использования современных образовательных технологий и предполагает их обязательное приме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PICT0157"/>
          <p:cNvPicPr/>
          <p:nvPr/>
        </p:nvPicPr>
        <p:blipFill>
          <a:blip r:embed="rId1"/>
          <a:stretch/>
        </p:blipFill>
        <p:spPr>
          <a:xfrm>
            <a:off x="533520" y="304920"/>
            <a:ext cx="3860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об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ике человеческих отношений в школе-интернате для детей-сирот и детей, оставшихся без попечения родителей, определяются ролью в развит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а в цел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формирован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ости кажд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дельного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блемы использования методов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могут начать обсуждать недетск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случае неоценима роль учителя  в создании положительной психологической атмосферы на уроках, без которой применение эффективных методов обучения этике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ые ответы групп на один и тот же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 этом случае констатировать факт наличия разных мнений (ответов) на один и тот же вопрос, поблагодарить каждую группу за ответ, никогда не критиковать никакие ответы, сказать, что все ответы отражают разные стороны  сложной реальности, что каждая группа права по-сво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ственно-этическое образование внесет вклад в формирование общей культуры воспитанника школы-интерната. Изучение этики способствует этическому воспитанию, пониманию красоты и изящества в природе и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в конкретными нравственно-этическими знаниями, необходимыми для применения в практической деятельности, для продолжения образования, воспитанники школы-интерната легче адаптируются в обществе после окончания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ные зн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также здоров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ки и навыки ответствен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ведения  будут играть существенную роль для социализации воспитанников школы-интер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 курса по этике человеческих отношений в школе-интернате для детей-сирот и детей, оставшихся без попечения родителей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уаль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сегодняшн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P1020192"/>
          <p:cNvPicPr/>
          <p:nvPr/>
        </p:nvPicPr>
        <p:blipFill>
          <a:blip r:embed="rId1"/>
          <a:stretch/>
        </p:blipFill>
        <p:spPr>
          <a:xfrm>
            <a:off x="5029200" y="2666880"/>
            <a:ext cx="41148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Organization Chart 5"/>
          <p:cNvGrpSpPr/>
          <p:nvPr/>
        </p:nvGrpSpPr>
        <p:grpSpPr>
          <a:xfrm>
            <a:off x="762120" y="762120"/>
            <a:ext cx="7691760" cy="5398920"/>
            <a:chOff x="762120" y="762120"/>
            <a:chExt cx="7691760" cy="5398920"/>
          </a:xfrm>
        </p:grpSpPr>
        <p:cxnSp>
          <p:nvCxnSpPr>
            <p:cNvPr id="116" name="_s1028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5103360" y="2425680"/>
              <a:ext cx="1080360" cy="2071080"/>
            </a:xfrm>
            <a:prstGeom prst="bentConnector3">
              <a:avLst>
                <a:gd name="adj1" fmla="val 15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9"/>
            <p:cNvCxnSpPr>
              <a:stCxn id="120" idx="0"/>
              <a:endCxn id="118" idx="2"/>
            </p:cNvCxnSpPr>
            <p:nvPr/>
          </p:nvCxnSpPr>
          <p:spPr>
            <a:xfrm flipH="1" flipV="1" rot="5400000">
              <a:off x="3032640" y="2425320"/>
              <a:ext cx="1080360" cy="2071800"/>
            </a:xfrm>
            <a:prstGeom prst="bentConnector3">
              <a:avLst>
                <a:gd name="adj1" fmla="val 15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30"/>
            <p:cNvSpPr/>
            <p:nvPr/>
          </p:nvSpPr>
          <p:spPr>
            <a:xfrm>
              <a:off x="2833560" y="762120"/>
              <a:ext cx="3549960" cy="215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Arial"/>
                </a:rPr>
                <a:t>Назначени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Arial"/>
                </a:rPr>
                <a:t>этического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Arial"/>
                </a:rPr>
                <a:t>образова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1"/>
            <p:cNvSpPr/>
            <p:nvPr/>
          </p:nvSpPr>
          <p:spPr>
            <a:xfrm>
              <a:off x="762120" y="4001400"/>
              <a:ext cx="3549960" cy="215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рактическа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2"/>
            <p:cNvSpPr/>
            <p:nvPr/>
          </p:nvSpPr>
          <p:spPr>
            <a:xfrm>
              <a:off x="4903920" y="4001400"/>
              <a:ext cx="3549960" cy="215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духовна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Diagram 5"/>
          <p:cNvGrpSpPr/>
          <p:nvPr/>
        </p:nvGrpSpPr>
        <p:grpSpPr>
          <a:xfrm>
            <a:off x="2139840" y="932760"/>
            <a:ext cx="5092560" cy="5217840"/>
            <a:chOff x="2139840" y="932760"/>
            <a:chExt cx="5092560" cy="5217840"/>
          </a:xfrm>
        </p:grpSpPr>
        <p:sp>
          <p:nvSpPr>
            <p:cNvPr id="122" name="_s2052"/>
            <p:cNvSpPr/>
            <p:nvPr/>
          </p:nvSpPr>
          <p:spPr>
            <a:xfrm>
              <a:off x="3564000" y="932760"/>
              <a:ext cx="2244240" cy="2714760"/>
            </a:xfrm>
            <a:custGeom>
              <a:avLst/>
              <a:gdLst>
                <a:gd name="textAreaLeft" fmla="*/ 0 w 2244240"/>
                <a:gd name="textAreaRight" fmla="*/ 2244600 w 2244240"/>
                <a:gd name="textAreaTop" fmla="*/ 0 h 2714760"/>
                <a:gd name="textAreaBottom" fmla="*/ 271512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3"/>
            <p:cNvSpPr/>
            <p:nvPr/>
          </p:nvSpPr>
          <p:spPr>
            <a:xfrm rot="3600000">
              <a:off x="4224240" y="1793520"/>
              <a:ext cx="2714760" cy="224388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2243880"/>
                <a:gd name="textAreaBottom" fmla="*/ 2244240 h 224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4"/>
            <p:cNvSpPr/>
            <p:nvPr/>
          </p:nvSpPr>
          <p:spPr>
            <a:xfrm rot="7200000">
              <a:off x="4224240" y="3046320"/>
              <a:ext cx="2714760" cy="224388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2243880"/>
                <a:gd name="textAreaBottom" fmla="*/ 2244240 h 224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5"/>
            <p:cNvSpPr/>
            <p:nvPr/>
          </p:nvSpPr>
          <p:spPr>
            <a:xfrm rot="10800000">
              <a:off x="3564000" y="3435840"/>
              <a:ext cx="2244240" cy="2714760"/>
            </a:xfrm>
            <a:custGeom>
              <a:avLst/>
              <a:gdLst>
                <a:gd name="textAreaLeft" fmla="*/ 0 w 2244240"/>
                <a:gd name="textAreaRight" fmla="*/ 2244600 w 2244240"/>
                <a:gd name="textAreaTop" fmla="*/ 0 h 2714760"/>
                <a:gd name="textAreaBottom" fmla="*/ 271512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6"/>
            <p:cNvSpPr/>
            <p:nvPr/>
          </p:nvSpPr>
          <p:spPr>
            <a:xfrm rot="14400000">
              <a:off x="2432520" y="3045960"/>
              <a:ext cx="2714760" cy="224388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2243880"/>
                <a:gd name="textAreaBottom" fmla="*/ 2244240 h 224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7"/>
            <p:cNvSpPr/>
            <p:nvPr/>
          </p:nvSpPr>
          <p:spPr>
            <a:xfrm rot="18000000">
              <a:off x="2432520" y="1795320"/>
              <a:ext cx="2714760" cy="224388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2243880"/>
                <a:gd name="textAreaBottom" fmla="*/ 2244240 h 224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8"/>
            <p:cNvSpPr/>
            <p:nvPr/>
          </p:nvSpPr>
          <p:spPr>
            <a:xfrm>
              <a:off x="5256360" y="96624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9"/>
            <p:cNvSpPr/>
            <p:nvPr/>
          </p:nvSpPr>
          <p:spPr>
            <a:xfrm>
              <a:off x="2292840" y="303552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ав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0"/>
            <p:cNvSpPr/>
            <p:nvPr/>
          </p:nvSpPr>
          <p:spPr>
            <a:xfrm>
              <a:off x="3280680" y="96624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этик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1"/>
            <p:cNvSpPr/>
            <p:nvPr/>
          </p:nvSpPr>
          <p:spPr>
            <a:xfrm>
              <a:off x="6244200" y="303552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ществозна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62"/>
            <p:cNvSpPr/>
            <p:nvPr/>
          </p:nvSpPr>
          <p:spPr>
            <a:xfrm>
              <a:off x="5256360" y="510516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биолог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63"/>
            <p:cNvSpPr/>
            <p:nvPr/>
          </p:nvSpPr>
          <p:spPr>
            <a:xfrm>
              <a:off x="3280680" y="510516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хим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Цели обучения этик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конкретными нравственно-этическими знаниями, необходимыми для применения в практической деятельности, для изучения смежных дисциплин, для продолжения образования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соци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спитанников школы-интерн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ое развитие воспитанников, формирование качеств мышления, характерных для нравственно-этической деятельности и необходим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дуктивной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 законах этики, об этике как методе познания действи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этике как части общечеловеческой культуры, понимания значимости этики для общественного прогр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и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ладение учащимися объективными, соответствующими возраст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ния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формирование здор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ок и навыков ответственн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дения  для социализации воспитанников школы-интер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800240" y="380520"/>
            <a:ext cx="3886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нравственно-этической культуры  воспитанника – довольно широкое и ёмкое понятие, оно включает, прежде всего, обучение ребенк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ь  в гармонии с  сами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бой, с миром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бы, принимая то или иное решение, он мог поступить так, чтоб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последствии не пожале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э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Изображение 026"/>
          <p:cNvPicPr/>
          <p:nvPr/>
        </p:nvPicPr>
        <p:blipFill>
          <a:blip r:embed="rId1"/>
          <a:srcRect l="4877" t="21352" r="24388" b="8510"/>
          <a:stretch/>
        </p:blipFill>
        <p:spPr>
          <a:xfrm>
            <a:off x="228600" y="1600200"/>
            <a:ext cx="47242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Ивановна</cp:lastModifiedBy>
  <dcterms:modified xsi:type="dcterms:W3CDTF">2012-01-09T11:29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