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477B-1C0F-4EB6-BE26-345F3E62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721C-BC8D-4AF0-807B-938A27C8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711-7F23-4FA5-BAF0-7245BBAE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9984-72A1-4C20-89C7-6A4E94DA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1693-6F66-46BC-AEC8-ED9D760D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8F4B-AF86-4672-BC5D-B84009F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021B-8178-4E6E-9542-599108BB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B179-4CD2-4488-BAD1-3D96D5AC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CBFF-82C7-4322-A313-09070FF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A198-8479-4706-90F9-EDDBAF6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B82-A5A0-4E38-AC02-CF07437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B046-385C-425A-A086-DBCE7F0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9B4-70ED-4F67-A684-57F16DC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74C-AD7D-46A6-9A1D-F0704A5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4269-34AA-450A-AC7E-8D04FDD0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57E-A71D-4FA9-AFE3-8875790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078-3A59-4BFC-B2EE-96E303A2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C2EF-4D1B-4754-855F-68D2FF85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0B6D-ECD4-40DF-87EE-DDE05824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1FA5-0417-4980-92F1-91C0494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A692-355B-4567-8D8F-2E21EBD1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4705-356F-4017-82DA-286EB01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C3A7-FBCD-40B4-835D-F6C1B42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1F45-F03C-4A3C-AD27-47E3FB7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0002-0044-41B8-BEE7-90A7BED4DA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21AF-5873-4C40-994A-1B837DA7FA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ТИКА   ЧЕЛОВЕЧЕСКИХ   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3720" y="4723920"/>
            <a:ext cx="579132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РЕХ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АТЬЯНА ИВАНО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У  РТ  школа-интернат для детей-сирот и детей, оставшихся без попечения родителей, г. Кызы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 ку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объективной, соответствующей возрасту информации об этике человеческих отношений, способствование увеличению знаний воспитанников путем обсуждения проблем, связанных с общени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воспитанников мотивационной сферы этическ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лучше понимать самих себя и критически относиться к собственному поведению; способствовать стремлению воспитанников понять окружающих и анализировать свои отношения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воспитанников эффективно общаться, делать здоровый выбор и принимать ответств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стремление к самовос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курса этики человечески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азвивают навыки общения, познают, как не мешать окружающим людям, учатся преодолевать негативные черты характер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х, бояз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обман, вранье, ложь, развивают положительные качества личности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стность и правдивость, бескорыстность, благодар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зависть, гордыня, вспыльчивость, надменность, прививать положительные качеств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я,  деликатность, внима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класс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тся преодолевать негативные черты характера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лобность, жестокость, злослов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кла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чатся преодолевать негативные черты характер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емерие, угодничество, приспособлен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Organization Chart 7"/>
          <p:cNvGrpSpPr/>
          <p:nvPr/>
        </p:nvGrpSpPr>
        <p:grpSpPr>
          <a:xfrm>
            <a:off x="304920" y="380880"/>
            <a:ext cx="8610120" cy="5941800"/>
            <a:chOff x="304920" y="380880"/>
            <a:chExt cx="8610120" cy="5941800"/>
          </a:xfrm>
        </p:grpSpPr>
        <p:cxnSp>
          <p:nvCxnSpPr>
            <p:cNvPr id="145" name="_s3076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789160" y="1577880"/>
              <a:ext cx="1189080" cy="3546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7"/>
            <p:cNvCxnSpPr>
              <a:stCxn id="149" idx="0"/>
              <a:endCxn id="147" idx="2"/>
            </p:cNvCxnSpPr>
            <p:nvPr/>
          </p:nvCxnSpPr>
          <p:spPr>
            <a:xfrm flipV="1" rot="16200000">
              <a:off x="4902480" y="2464560"/>
              <a:ext cx="1189080" cy="1773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078"/>
            <p:cNvCxnSpPr>
              <a:stCxn id="151" idx="0"/>
              <a:endCxn id="147" idx="2"/>
            </p:cNvCxnSpPr>
            <p:nvPr/>
          </p:nvCxnSpPr>
          <p:spPr>
            <a:xfrm flipV="1" rot="16200000">
              <a:off x="4016880" y="3350160"/>
              <a:ext cx="1189080" cy="216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79"/>
            <p:cNvCxnSpPr>
              <a:stCxn id="153" idx="0"/>
              <a:endCxn id="147" idx="2"/>
            </p:cNvCxnSpPr>
            <p:nvPr/>
          </p:nvCxnSpPr>
          <p:spPr>
            <a:xfrm flipH="1" flipV="1" rot="5400000">
              <a:off x="3129840" y="2464560"/>
              <a:ext cx="1189080" cy="1773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0"/>
            <p:cNvCxnSpPr>
              <a:stCxn id="155" idx="0"/>
              <a:endCxn id="147" idx="2"/>
            </p:cNvCxnSpPr>
            <p:nvPr/>
          </p:nvCxnSpPr>
          <p:spPr>
            <a:xfrm flipH="1" flipV="1" rot="5400000">
              <a:off x="2243160" y="1578240"/>
              <a:ext cx="1189080" cy="3546720"/>
            </a:xfrm>
            <a:prstGeom prst="bentConnector3">
              <a:avLst>
                <a:gd name="adj1" fmla="val 156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3081"/>
            <p:cNvSpPr/>
            <p:nvPr/>
          </p:nvSpPr>
          <p:spPr>
            <a:xfrm>
              <a:off x="3849120" y="38088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ур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-7 клас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3082"/>
            <p:cNvSpPr/>
            <p:nvPr/>
          </p:nvSpPr>
          <p:spPr>
            <a:xfrm>
              <a:off x="304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елове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юд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3083"/>
            <p:cNvSpPr/>
            <p:nvPr/>
          </p:nvSpPr>
          <p:spPr>
            <a:xfrm>
              <a:off x="2077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а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084"/>
            <p:cNvSpPr/>
            <p:nvPr/>
          </p:nvSpPr>
          <p:spPr>
            <a:xfrm>
              <a:off x="385092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вет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вен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5"/>
            <p:cNvSpPr/>
            <p:nvPr/>
          </p:nvSpPr>
          <p:spPr>
            <a:xfrm>
              <a:off x="5624280" y="3945960"/>
              <a:ext cx="1519560" cy="2376720"/>
            </a:xfrm>
            <a:custGeom>
              <a:avLst/>
              <a:gdLst>
                <a:gd name="textAreaLeft" fmla="*/ 74160 w 1519560"/>
                <a:gd name="textAreaRight" fmla="*/ 1445400 w 1519560"/>
                <a:gd name="textAreaTop" fmla="*/ 74160 h 2376720"/>
                <a:gd name="textAreaBottom" fmla="*/ 2302560 h 2376720"/>
              </a:gdLst>
              <a:ahLst/>
              <a:rect l="textAreaLeft" t="textAreaTop" r="textAreaRight" b="textAreaBottom"/>
              <a:pathLst>
                <a:path w="21600" h="33781">
                  <a:moveTo>
                    <a:pt x="3600" y="0"/>
                  </a:moveTo>
                  <a:arcTo wR="3600" hR="3600" stAng="16200000" swAng="-5400000"/>
                  <a:lnTo>
                    <a:pt x="0" y="30181"/>
                  </a:lnTo>
                  <a:arcTo wR="3600" hR="3600" stAng="10800000" swAng="-5400000"/>
                  <a:lnTo>
                    <a:pt x="18000" y="33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ле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вре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выч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6"/>
            <p:cNvSpPr/>
            <p:nvPr/>
          </p:nvSpPr>
          <p:spPr>
            <a:xfrm>
              <a:off x="7397280" y="3945960"/>
              <a:ext cx="1517760" cy="2376720"/>
            </a:xfrm>
            <a:custGeom>
              <a:avLst/>
              <a:gdLst>
                <a:gd name="textAreaLeft" fmla="*/ 73800 w 1517760"/>
                <a:gd name="textAreaRight" fmla="*/ 1443960 w 1517760"/>
                <a:gd name="textAreaTop" fmla="*/ 73800 h 2376720"/>
                <a:gd name="textAreaBottom" fmla="*/ 2302920 h 2376720"/>
              </a:gdLst>
              <a:ahLst/>
              <a:rect l="textAreaLeft" t="textAreaTop" r="textAreaRight" b="textAreaBottom"/>
              <a:pathLst>
                <a:path w="21600" h="33821">
                  <a:moveTo>
                    <a:pt x="3600" y="0"/>
                  </a:moveTo>
                  <a:arcTo wR="3600" hR="3600" stAng="16200000" swAng="-5400000"/>
                  <a:lnTo>
                    <a:pt x="0" y="30221"/>
                  </a:lnTo>
                  <a:arcTo wR="3600" hR="3600" stAng="10800000" swAng="-5400000"/>
                  <a:lnTo>
                    <a:pt x="18000" y="338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Organization Chart 10"/>
          <p:cNvGrpSpPr/>
          <p:nvPr/>
        </p:nvGrpSpPr>
        <p:grpSpPr>
          <a:xfrm>
            <a:off x="762120" y="228600"/>
            <a:ext cx="7749720" cy="5822280"/>
            <a:chOff x="762120" y="228600"/>
            <a:chExt cx="7749720" cy="5822280"/>
          </a:xfrm>
        </p:grpSpPr>
        <p:cxnSp>
          <p:nvCxnSpPr>
            <p:cNvPr id="157" name="_s4100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650920" y="1542960"/>
              <a:ext cx="1164960" cy="319248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01"/>
            <p:cNvCxnSpPr>
              <a:stCxn id="161" idx="0"/>
              <a:endCxn id="159" idx="2"/>
            </p:cNvCxnSpPr>
            <p:nvPr/>
          </p:nvCxnSpPr>
          <p:spPr>
            <a:xfrm flipV="1" rot="16200000">
              <a:off x="4852800" y="2341080"/>
              <a:ext cx="1164960" cy="159660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2"/>
            <p:cNvCxnSpPr>
              <a:stCxn id="163" idx="0"/>
              <a:endCxn id="159" idx="2"/>
            </p:cNvCxnSpPr>
            <p:nvPr/>
          </p:nvCxnSpPr>
          <p:spPr>
            <a:xfrm flipV="1" rot="16200000">
              <a:off x="4055760" y="3138120"/>
              <a:ext cx="1164960" cy="216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3"/>
            <p:cNvCxnSpPr>
              <a:stCxn id="165" idx="0"/>
              <a:endCxn id="159" idx="2"/>
            </p:cNvCxnSpPr>
            <p:nvPr/>
          </p:nvCxnSpPr>
          <p:spPr>
            <a:xfrm flipH="1" flipV="1" rot="5400000">
              <a:off x="3256920" y="2341080"/>
              <a:ext cx="1164960" cy="159660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4"/>
            <p:cNvCxnSpPr>
              <a:stCxn id="167" idx="0"/>
              <a:endCxn id="159" idx="2"/>
            </p:cNvCxnSpPr>
            <p:nvPr/>
          </p:nvCxnSpPr>
          <p:spPr>
            <a:xfrm flipH="1" flipV="1" rot="5400000">
              <a:off x="2459160" y="1543320"/>
              <a:ext cx="1164960" cy="3192480"/>
            </a:xfrm>
            <a:prstGeom prst="bentConnector3">
              <a:avLst>
                <a:gd name="adj1" fmla="val 156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4105"/>
            <p:cNvSpPr/>
            <p:nvPr/>
          </p:nvSpPr>
          <p:spPr>
            <a:xfrm>
              <a:off x="3952440" y="22860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ур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-9 кла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4106"/>
            <p:cNvSpPr/>
            <p:nvPr/>
          </p:nvSpPr>
          <p:spPr>
            <a:xfrm>
              <a:off x="76212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скош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человеческ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4107"/>
            <p:cNvSpPr/>
            <p:nvPr/>
          </p:nvSpPr>
          <p:spPr>
            <a:xfrm>
              <a:off x="235800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ружба 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4108"/>
            <p:cNvSpPr/>
            <p:nvPr/>
          </p:nvSpPr>
          <p:spPr>
            <a:xfrm>
              <a:off x="395388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Ответствен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4109"/>
            <p:cNvSpPr/>
            <p:nvPr/>
          </p:nvSpPr>
          <p:spPr>
            <a:xfrm>
              <a:off x="5549760" y="3722040"/>
              <a:ext cx="1367640" cy="2328840"/>
            </a:xfrm>
            <a:custGeom>
              <a:avLst/>
              <a:gdLst>
                <a:gd name="textAreaLeft" fmla="*/ 66600 w 1367640"/>
                <a:gd name="textAreaRight" fmla="*/ 1301040 w 136764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777">
                  <a:moveTo>
                    <a:pt x="3600" y="0"/>
                  </a:moveTo>
                  <a:arcTo wR="3600" hR="3600" stAng="16200000" swAng="-5400000"/>
                  <a:lnTo>
                    <a:pt x="0" y="33177"/>
                  </a:lnTo>
                  <a:arcTo wR="3600" hR="3600" stAng="10800000" swAng="-5400000"/>
                  <a:lnTo>
                    <a:pt x="18000" y="367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редны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 полез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выч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110"/>
            <p:cNvSpPr/>
            <p:nvPr/>
          </p:nvSpPr>
          <p:spPr>
            <a:xfrm>
              <a:off x="7145640" y="3722040"/>
              <a:ext cx="1366200" cy="2328840"/>
            </a:xfrm>
            <a:custGeom>
              <a:avLst/>
              <a:gdLst>
                <a:gd name="textAreaLeft" fmla="*/ 66600 w 1366200"/>
                <a:gd name="textAreaRight" fmla="*/ 1299600 w 1366200"/>
                <a:gd name="textAreaTop" fmla="*/ 66600 h 2328840"/>
                <a:gd name="textAreaBottom" fmla="*/ 2262240 h 2328840"/>
              </a:gdLst>
              <a:ahLst/>
              <a:rect l="textAreaLeft" t="textAreaTop" r="textAreaRight" b="textAreaBottom"/>
              <a:pathLst>
                <a:path w="21600" h="36816">
                  <a:moveTo>
                    <a:pt x="3600" y="0"/>
                  </a:moveTo>
                  <a:arcTo wR="3600" hR="3600" stAng="16200000" swAng="-5400000"/>
                  <a:lnTo>
                    <a:pt x="0" y="33216"/>
                  </a:lnTo>
                  <a:arcTo wR="3600" hR="3600" stAng="10800000" swAng="-5400000"/>
                  <a:lnTo>
                    <a:pt x="18000" y="36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доровье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овек среди люд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общения. Внимание к людям. Умение слушать собеседника. Воображение. Уважение к людям. Сочувствие. Настроение. Учимся вежливости. Слова приветствия, прощания, извинения, просьбы. Скрытая просьба. Благода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ика и этикет. Поведение за столом. В гостях. В театре. Внутренняя и внешняя воспитанность. Уважение. Дерзость. Дисциплина. Бескорыстность. Благотворительность. Честность и правдивость. Благодарность. Доброта. Доброе отношение к людям. Манеры поведения. Условия эффективного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ота и доброжелательность. Деликатность. Варварство. Вспыльчивость. Вульгарность. Зависть. Жестокосердие. Наха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ICT0424"/>
          <p:cNvPicPr/>
          <p:nvPr/>
        </p:nvPicPr>
        <p:blipFill>
          <a:blip r:embed="rId1"/>
          <a:stretch/>
        </p:blipFill>
        <p:spPr>
          <a:xfrm>
            <a:off x="0" y="3049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кошь человеческого общен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, человек!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живем, чтобы оставить сле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скошь человеческого общения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ть с достоинством. Что это значит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тобы радость людям дарить, надо добрым и вежливым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.  Благодарность. Великодушие. Бесчувственность. Злословие. Совесть. Нужна ли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й себя. Как мы общаемся. Строить отношения. Совесть. Добро и з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й познать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воспитание (5-7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дение  на улице, в транспорте. Азбука юного пешехода. Учимся вежест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имиримость к грубости. Равнодушие. Турнир вежливых и внимательны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й себя. Характер. Внимание, память, мышление. Воля и волевые качества личности. Судь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ружба и любовь  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. Личность. Смысл жизни человека. Счастье жить. Дружба и любовь. Умеем ли мы дружить? Настоящая друж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инство. Мужество. Рыцарство. Женственность. Девичья гордость и мужское достои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смысл любви? Любовь и влюбленность. Любви все возрасты покорны. Делать подарок любимым. Любовь – величайшая ц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 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. Есть ли границы у ответственности. Ответственность за свои поступки. Самовоспит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PICT0429"/>
          <p:cNvPicPr/>
          <p:nvPr/>
        </p:nvPicPr>
        <p:blipFill>
          <a:blip r:embed="rId1"/>
          <a:stretch/>
        </p:blipFill>
        <p:spPr>
          <a:xfrm>
            <a:off x="5295960" y="1828800"/>
            <a:ext cx="3600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ственность 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и ответственность. Преступление и наказание. Законы и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ость и безответственность. Полезны ли полезные привычки. Умей познать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а и ответственность. Есть ли у нас рабство? Преступление и наказание. Законы и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ли у нас выбор? Ценностные ориентации. Как получить то, что хоч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, кто провел свое детство в стенах школы-интерната для детей-сирот и детей, оставшихся без попечения родителей, не имеют позитивного образца отношений в семье (порой, наоборот, имеют отрицательны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066680" y="0"/>
            <a:ext cx="7086600" cy="1676520"/>
          </a:xfrm>
          <a:prstGeom prst="horizont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оль сем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ICT0010"/>
          <p:cNvPicPr/>
          <p:nvPr/>
        </p:nvPicPr>
        <p:blipFill>
          <a:blip r:embed="rId1"/>
          <a:stretch/>
        </p:blipFill>
        <p:spPr>
          <a:xfrm>
            <a:off x="4114800" y="2362320"/>
            <a:ext cx="5029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 вредные привыч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5-7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ые и вредные привы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В. Почему люди употребляют ПАВ? Соблюдай безопасность. Давление.. Ингаля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вожность. Как преодолеть тревожность? Знакомство. Алкоголь. Курение. Наркотики. Марихуана. Наркомания. Манипулирование. Как отличить манипулирование от давл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ценка. Стеснительность. Мифы и правда о П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дные и полезные привыч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осток и алкоголь. Алкоголь, никотин: в чем опасность? Осторожно, наркомани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курения, алкоголизма, наркомании. Можно ли прожить без алког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40"/>
          <p:cNvPicPr/>
          <p:nvPr/>
        </p:nvPicPr>
        <p:blipFill>
          <a:blip r:embed="rId1"/>
          <a:stretch/>
        </p:blipFill>
        <p:spPr>
          <a:xfrm>
            <a:off x="685800" y="2438280"/>
            <a:ext cx="2346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(5-7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е здоровье. Кто в ответе за мое здоровье? Перед кем я несу ответственность за свое здоровье?  За кого я несу ответственность? Вперед к здоровь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6"/>
          <p:cNvPicPr/>
          <p:nvPr/>
        </p:nvPicPr>
        <p:blipFill>
          <a:blip r:embed="rId1"/>
          <a:stretch/>
        </p:blipFill>
        <p:spPr>
          <a:xfrm>
            <a:off x="5105520" y="2836800"/>
            <a:ext cx="37335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8-9 класс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доровом теле здоровый дух. Ответственность за свое здоровье и здоровье окружающих. Путь к здо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23"/>
          <p:cNvPicPr/>
          <p:nvPr/>
        </p:nvPicPr>
        <p:blipFill>
          <a:blip r:embed="rId1"/>
          <a:srcRect l="0" t="0" r="0" b="8211"/>
          <a:stretch/>
        </p:blipFill>
        <p:spPr>
          <a:xfrm>
            <a:off x="304920" y="2717640"/>
            <a:ext cx="4267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304920" y="1066680"/>
            <a:ext cx="8458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тижения поставленны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ей и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бинация традиционных и групповых метод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Diagram 7"/>
          <p:cNvGrpSpPr/>
          <p:nvPr/>
        </p:nvGrpSpPr>
        <p:grpSpPr>
          <a:xfrm>
            <a:off x="2725560" y="2325600"/>
            <a:ext cx="3692880" cy="3196800"/>
            <a:chOff x="2725560" y="2325600"/>
            <a:chExt cx="3692880" cy="3196800"/>
          </a:xfrm>
        </p:grpSpPr>
        <p:sp>
          <p:nvSpPr>
            <p:cNvPr id="196" name="_s5124"/>
            <p:cNvSpPr/>
            <p:nvPr/>
          </p:nvSpPr>
          <p:spPr>
            <a:xfrm flipV="1">
              <a:off x="4308480" y="2325600"/>
              <a:ext cx="527040" cy="457200"/>
            </a:xfrm>
            <a:custGeom>
              <a:avLst/>
              <a:gdLst>
                <a:gd name="textAreaLeft" fmla="*/ 189000 w 527040"/>
                <a:gd name="textAreaRight" fmla="*/ 338040 w 527040"/>
                <a:gd name="textAreaTop" fmla="*/ 164160 h 457200"/>
                <a:gd name="textAreaBottom" fmla="*/ 293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125"/>
            <p:cNvSpPr/>
            <p:nvPr/>
          </p:nvSpPr>
          <p:spPr>
            <a:xfrm flipV="1">
              <a:off x="4044960" y="2782800"/>
              <a:ext cx="1054080" cy="457200"/>
            </a:xfrm>
            <a:custGeom>
              <a:avLst/>
              <a:gdLst>
                <a:gd name="textAreaLeft" fmla="*/ 231840 w 1054080"/>
                <a:gd name="textAreaRight" fmla="*/ 822240 w 105408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Лек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126"/>
            <p:cNvSpPr/>
            <p:nvPr/>
          </p:nvSpPr>
          <p:spPr>
            <a:xfrm flipV="1">
              <a:off x="3781440" y="3240000"/>
              <a:ext cx="1581120" cy="455760"/>
            </a:xfrm>
            <a:custGeom>
              <a:avLst/>
              <a:gdLst>
                <a:gd name="textAreaLeft" fmla="*/ 274320 w 1581120"/>
                <a:gd name="textAreaRight" fmla="*/ 1306800 w 1581120"/>
                <a:gd name="textAreaTop" fmla="*/ 78840 h 455760"/>
                <a:gd name="textAreaBottom" fmla="*/ 376920 h 4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удио-визу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5127"/>
            <p:cNvSpPr/>
            <p:nvPr/>
          </p:nvSpPr>
          <p:spPr>
            <a:xfrm flipV="1">
              <a:off x="3516480" y="3695760"/>
              <a:ext cx="2111040" cy="457200"/>
            </a:xfrm>
            <a:custGeom>
              <a:avLst/>
              <a:gdLst>
                <a:gd name="textAreaLeft" fmla="*/ 317520 w 2111040"/>
                <a:gd name="textAreaRight" fmla="*/ 1793520 w 2111040"/>
                <a:gd name="textAreaTop" fmla="*/ 68760 h 457200"/>
                <a:gd name="textAreaBottom" fmla="*/ 388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глядные пособ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128"/>
            <p:cNvSpPr/>
            <p:nvPr/>
          </p:nvSpPr>
          <p:spPr>
            <a:xfrm flipV="1">
              <a:off x="3252960" y="4152960"/>
              <a:ext cx="2638080" cy="457200"/>
            </a:xfrm>
            <a:custGeom>
              <a:avLst/>
              <a:gdLst>
                <a:gd name="textAreaLeft" fmla="*/ 360000 w 2638080"/>
                <a:gd name="textAreaRight" fmla="*/ 2278080 w 2638080"/>
                <a:gd name="textAreaTop" fmla="*/ 62280 h 457200"/>
                <a:gd name="textAreaBottom" fmla="*/ 394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суждение в групп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129"/>
            <p:cNvSpPr/>
            <p:nvPr/>
          </p:nvSpPr>
          <p:spPr>
            <a:xfrm flipV="1">
              <a:off x="2989440" y="4610160"/>
              <a:ext cx="3165120" cy="457200"/>
            </a:xfrm>
            <a:custGeom>
              <a:avLst/>
              <a:gdLst>
                <a:gd name="textAreaLeft" fmla="*/ 402840 w 3165120"/>
                <a:gd name="textAreaRight" fmla="*/ 2762280 w 3165120"/>
                <a:gd name="textAreaTop" fmla="*/ 57960 h 457200"/>
                <a:gd name="textAreaBottom" fmla="*/ 399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олевые игры, сцен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130"/>
            <p:cNvSpPr/>
            <p:nvPr/>
          </p:nvSpPr>
          <p:spPr>
            <a:xfrm flipV="1">
              <a:off x="2725560" y="5066640"/>
              <a:ext cx="3692880" cy="455400"/>
            </a:xfrm>
            <a:custGeom>
              <a:avLst/>
              <a:gdLst>
                <a:gd name="textAreaLeft" fmla="*/ 445680 w 3692880"/>
                <a:gd name="textAreaRight" fmla="*/ 3247200 w 3692880"/>
                <a:gd name="textAreaTop" fmla="*/ 54720 h 455400"/>
                <a:gd name="textAreaBottom" fmla="*/ 40068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тупление в роли обучающе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ая диску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ое модел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ое обучение (научное творчество,практическое творчество, художественное творч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е методы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ые технологии (КТ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7"/>
          <p:cNvGraphicFramePr/>
          <p:nvPr/>
        </p:nvGraphicFramePr>
        <p:xfrm>
          <a:off x="4648320" y="2970360"/>
          <a:ext cx="403848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970360"/>
                    <a:ext cx="403848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11" descr="PICT0159"/>
          <p:cNvPicPr/>
          <p:nvPr/>
        </p:nvPicPr>
        <p:blipFill>
          <a:blip r:embed="rId3"/>
          <a:stretch/>
        </p:blipFill>
        <p:spPr>
          <a:xfrm>
            <a:off x="5181480" y="1976400"/>
            <a:ext cx="39625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733920" y="228600"/>
            <a:ext cx="5410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современных образовательных технологий, в том числе информационно-коммуникационных, в процессе обучения этике человеческих отношений и в воспитательной работе в условиях школы-интерната  просто необход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тем, что специальных учебников по этике нет, при изучении курса учащиеся учатся пользоваться разными источниками информации: литературой, интернетом, средствами массовой информации, анализировать, выбирать нужное, сравнивать и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Изображение 001"/>
          <p:cNvPicPr/>
          <p:nvPr/>
        </p:nvPicPr>
        <p:blipFill>
          <a:blip r:embed="rId1"/>
          <a:srcRect l="8963" t="9964" r="4746" b="0"/>
          <a:stretch/>
        </p:blipFill>
        <p:spPr>
          <a:xfrm>
            <a:off x="380880" y="2666880"/>
            <a:ext cx="3429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5410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м классе каждый воспитанник (можно группа) должен выбрать тему для исследования, ознакомиться с  информационными источниками по этой теме, выполнить творческую работу, оформить ее в форме реферата, презентации и выступить с ней перед классом на уроке э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подход предполагает овладение учениками рядом исследовательских, проектных, информационно-коммуникативных умений, что означает присутствие соответствующих видов учебной деятельности на занят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5334120" y="1219320"/>
            <a:ext cx="3590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410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овать такую деятельность, проконтролировать и оценить ее результаты можно только с помощью адекватных образовательных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ых, исследователь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овательн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ющ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опия Изображение 001"/>
          <p:cNvPicPr/>
          <p:nvPr/>
        </p:nvPicPr>
        <p:blipFill>
          <a:blip r:embed="rId1"/>
          <a:srcRect l="47211" t="0" r="12283" b="0"/>
          <a:stretch/>
        </p:blipFill>
        <p:spPr>
          <a:xfrm>
            <a:off x="5410080" y="380880"/>
            <a:ext cx="3492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неудач в обще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672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чужденность, недоверие к людям, недоброжелательное, враждебно отстраненное отношение к ним, неумение общ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звитые культура чувств и социальный интеллект, недостатки полоролев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ногих воспитанников слабо развито чувство ответственности за свои поступки, за благополучие тех, кто связал с ними свою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гоизм, потребительское отношение к близким, неумение заботиться о 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ая самооценка, неуверенность в се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ICT0047"/>
          <p:cNvPicPr/>
          <p:nvPr/>
        </p:nvPicPr>
        <p:blipFill>
          <a:blip r:embed="rId1"/>
          <a:stretch/>
        </p:blipFill>
        <p:spPr>
          <a:xfrm>
            <a:off x="228600" y="211788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723920" y="22860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этики, систематически создавая проблемные ситуации и организуя деятельность учащихся по решению этих проблем, обеспечивается оптимальное сочетание  их самостоятельной поисковой деятельности с усвоением готовых выв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PICT0161"/>
          <p:cNvPicPr/>
          <p:nvPr/>
        </p:nvPicPr>
        <p:blipFill>
          <a:blip r:embed="rId1"/>
          <a:stretch/>
        </p:blipFill>
        <p:spPr>
          <a:xfrm>
            <a:off x="304920" y="1905120"/>
            <a:ext cx="45720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Ы ИССЛЕДОВАТЕЛЬСКИХ И ТВОРЧЕСКИХ РАБОТ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ить или не прос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ить или не кур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создать самому свое настро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 и поговорки о ку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яя и внешняя воспит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я могу совершить благотворитель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рошо ли быть равнодуш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ли границы у ответствен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пулирование. Хорошо или плох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в ответе за мое здоров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и поговорки о пья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 – от рождения или от вос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 может все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снительность: хорошо или плох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фы о наркот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 кем и за кого я несу ответствен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чему приводит л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ть с достоинством. Что это зна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гу ли я быть волшебн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заботится о тебе, и о ком заботишься 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ственность и без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ы ли полезные привы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равильно общ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ыбираю жизнь! (О вреде алкоголя, курения, наркот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ем ли мы дру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вь или влюблен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мы общаем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сть. Нужна ли 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ы и правила. Если их не соблюд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 нужны добрые де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мысл жизн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мысл люб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уходит любов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цари – это современ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а она – современная дев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 свободного общества. Свободен ли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ли у нас раб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ые ориентаци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я могу получить то, что хочу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прожить без алкого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жизнь! (О вреде алкоголя, курения, наркот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НЫЕ МЕТОД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обучение помогает перейти от программных форм и методов обучения к развивающим, проблемным, исследовательским, поисковым, обеспечивающим рождение познавательных мотивов и интересов, условий для творчества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е методы на уроках этик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мозговой штурм, групповая дискуссия, ролевое моделирование, проигрывание ситуаций, коллективная творческая деятельность  и др., игры в форме телепередачи «Что, где, когда?», «Окна», «Звездный час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ICT0160"/>
          <p:cNvPicPr/>
          <p:nvPr/>
        </p:nvPicPr>
        <p:blipFill>
          <a:blip r:embed="rId1"/>
          <a:stretch/>
        </p:blipFill>
        <p:spPr>
          <a:xfrm>
            <a:off x="6477120" y="26668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124080" y="198072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Ы НА УРОКАХ Э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Маски», «Жесты», «Иностранец», «Художник», «Глухой телефон», «Сочиняем сказку», «Я садовником родился», «Если бы я был волшебником»,  «Цветопись настроения», «Жмурки», «На улице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ICT0150"/>
          <p:cNvPicPr/>
          <p:nvPr/>
        </p:nvPicPr>
        <p:blipFill>
          <a:blip r:embed="rId1"/>
          <a:stretch/>
        </p:blipFill>
        <p:spPr>
          <a:xfrm>
            <a:off x="115920" y="1905120"/>
            <a:ext cx="300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УППОВ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ого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правила и обучит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ить каждому сво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ить задания и каждому указать время его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классу ответный коммент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PICT0169"/>
          <p:cNvPicPr/>
          <p:nvPr/>
        </p:nvPicPr>
        <p:blipFill>
          <a:blip r:embed="rId1"/>
          <a:stretch/>
        </p:blipFill>
        <p:spPr>
          <a:xfrm>
            <a:off x="228600" y="26478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495680" y="22860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еречисленные технологии применяются при обучении воспитанников этике в комплексе, они взаимосвязаны между собой.  Программа курса этики человеческих отношений дает широкие возможности для использования современных образовательных технологий и предполагает их обязательное прим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PICT0157"/>
          <p:cNvPicPr/>
          <p:nvPr/>
        </p:nvPicPr>
        <p:blipFill>
          <a:blip r:embed="rId1"/>
          <a:stretch/>
        </p:blipFill>
        <p:spPr>
          <a:xfrm>
            <a:off x="533520" y="304920"/>
            <a:ext cx="3860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об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ике человеческих отношений в школе-интернате для детей-сирот и детей, оставшихся без попечения родителей, определяются ролью в развит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а в це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формирован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ости кажд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дельного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блемы использования метод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могут начать обсуждать недетск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учае неоценима роль учителя  в создании положительной психологической атмосферы на уроках, без которой применение эффективных методов обучения этике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ые ответы групп на один и тот же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 этом случае констатировать факт наличия разных мнений (ответов) на один и тот же вопрос, поблагодарить каждую группу за ответ, никогда не критиковать никакие ответы, сказать, что все ответы отражают разные стороны  сложной реальности, что каждая группа права по-с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о-этическое образование внесет вклад в формирование общей культуры воспитанника школы-интерната. Изучение этики способствует этическому воспитанию, пониманию красоты и изящества в природе 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в конкретными нравственно-этическими знаниями, необходимыми для применения в практической деятельности, для продолжения образования, воспитанники школы-интерната легче адаптируются в обществе после окончания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ные зн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здоров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и и навыки ответств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ведения  будут играть существенную роль для социализации воспитанников школы-интер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а курса по этике человеческих отношений в школе-интернате для детей-сирот и детей, оставшихся без попечения родителей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сегодняшн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P1020192"/>
          <p:cNvPicPr/>
          <p:nvPr/>
        </p:nvPicPr>
        <p:blipFill>
          <a:blip r:embed="rId1"/>
          <a:stretch/>
        </p:blipFill>
        <p:spPr>
          <a:xfrm>
            <a:off x="5029200" y="2666880"/>
            <a:ext cx="41148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Organization Chart 5"/>
          <p:cNvGrpSpPr/>
          <p:nvPr/>
        </p:nvGrpSpPr>
        <p:grpSpPr>
          <a:xfrm>
            <a:off x="762120" y="762120"/>
            <a:ext cx="7691760" cy="5398920"/>
            <a:chOff x="762120" y="762120"/>
            <a:chExt cx="7691760" cy="5398920"/>
          </a:xfrm>
        </p:grpSpPr>
        <p:cxnSp>
          <p:nvCxnSpPr>
            <p:cNvPr id="116" name="_s1028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103360" y="2425680"/>
              <a:ext cx="1080360" cy="2071080"/>
            </a:xfrm>
            <a:prstGeom prst="bentConnector3">
              <a:avLst>
                <a:gd name="adj1" fmla="val 15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3032640" y="2425320"/>
              <a:ext cx="1080360" cy="2071800"/>
            </a:xfrm>
            <a:prstGeom prst="bentConnector3">
              <a:avLst>
                <a:gd name="adj1" fmla="val 153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0"/>
            <p:cNvSpPr/>
            <p:nvPr/>
          </p:nvSpPr>
          <p:spPr>
            <a:xfrm>
              <a:off x="2833560" y="76212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Назначе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этического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Arial"/>
                </a:rPr>
                <a:t>образов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762120" y="400140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актическ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4903920" y="4001400"/>
              <a:ext cx="3549960" cy="215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духовн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Diagram 5"/>
          <p:cNvGrpSpPr/>
          <p:nvPr/>
        </p:nvGrpSpPr>
        <p:grpSpPr>
          <a:xfrm>
            <a:off x="2139840" y="932760"/>
            <a:ext cx="5092560" cy="5217840"/>
            <a:chOff x="2139840" y="932760"/>
            <a:chExt cx="5092560" cy="5217840"/>
          </a:xfrm>
        </p:grpSpPr>
        <p:sp>
          <p:nvSpPr>
            <p:cNvPr id="122" name="_s2052"/>
            <p:cNvSpPr/>
            <p:nvPr/>
          </p:nvSpPr>
          <p:spPr>
            <a:xfrm>
              <a:off x="3564000" y="932760"/>
              <a:ext cx="2244240" cy="2714760"/>
            </a:xfrm>
            <a:custGeom>
              <a:avLst/>
              <a:gdLst>
                <a:gd name="textAreaLeft" fmla="*/ 0 w 2244240"/>
                <a:gd name="textAreaRight" fmla="*/ 2244600 w 224424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3"/>
            <p:cNvSpPr/>
            <p:nvPr/>
          </p:nvSpPr>
          <p:spPr>
            <a:xfrm rot="3600000">
              <a:off x="4224240" y="17935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4"/>
            <p:cNvSpPr/>
            <p:nvPr/>
          </p:nvSpPr>
          <p:spPr>
            <a:xfrm rot="7200000">
              <a:off x="4224240" y="30463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5"/>
            <p:cNvSpPr/>
            <p:nvPr/>
          </p:nvSpPr>
          <p:spPr>
            <a:xfrm rot="10800000">
              <a:off x="3564000" y="3435840"/>
              <a:ext cx="2244240" cy="2714760"/>
            </a:xfrm>
            <a:custGeom>
              <a:avLst/>
              <a:gdLst>
                <a:gd name="textAreaLeft" fmla="*/ 0 w 2244240"/>
                <a:gd name="textAreaRight" fmla="*/ 2244600 w 224424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6"/>
            <p:cNvSpPr/>
            <p:nvPr/>
          </p:nvSpPr>
          <p:spPr>
            <a:xfrm rot="14400000">
              <a:off x="2432520" y="304596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7"/>
            <p:cNvSpPr/>
            <p:nvPr/>
          </p:nvSpPr>
          <p:spPr>
            <a:xfrm rot="18000000">
              <a:off x="2432520" y="1795320"/>
              <a:ext cx="2714760" cy="224388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2243880"/>
                <a:gd name="textAreaBottom" fmla="*/ 2244240 h 224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8"/>
            <p:cNvSpPr/>
            <p:nvPr/>
          </p:nvSpPr>
          <p:spPr>
            <a:xfrm>
              <a:off x="5256360" y="96624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9"/>
            <p:cNvSpPr/>
            <p:nvPr/>
          </p:nvSpPr>
          <p:spPr>
            <a:xfrm>
              <a:off x="2292840" y="303552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0"/>
            <p:cNvSpPr/>
            <p:nvPr/>
          </p:nvSpPr>
          <p:spPr>
            <a:xfrm>
              <a:off x="3280680" y="96624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этик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1"/>
            <p:cNvSpPr/>
            <p:nvPr/>
          </p:nvSpPr>
          <p:spPr>
            <a:xfrm>
              <a:off x="6244200" y="303552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ществозн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2"/>
            <p:cNvSpPr/>
            <p:nvPr/>
          </p:nvSpPr>
          <p:spPr>
            <a:xfrm>
              <a:off x="5256360" y="510516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63"/>
            <p:cNvSpPr/>
            <p:nvPr/>
          </p:nvSpPr>
          <p:spPr>
            <a:xfrm>
              <a:off x="3280680" y="5105160"/>
              <a:ext cx="835200" cy="10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хим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и обучения этик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конкретными нравственно-этическими знаниями, необходимыми для применения в практической деятельности, для изучения смежных дисциплин, для продолжения образования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соци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итанников школы-интерн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е развитие воспитанников, формирование качеств мышления, характерных для нравственно-этической деятельности и необходим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дуктивной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 законах этики, об этике как методе познания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этике как части общечеловеческой культуры, понимания значимости этики для общественного прогр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ладение учащимися объективными, соответствующими возраст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ни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формирование здор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ок и навыков ответственн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дения  для социализации воспитанников школы-интер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800240" y="380520"/>
            <a:ext cx="3886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равственно-этической культуры  воспитанника – довольно широкое и ёмкое понятие, оно включает, прежде всего, обучение ребенк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ь  в гармонии с  сами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бой, с миром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бы, принимая то или иное решение, он мог поступить так, чтоб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оследствии не пожал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Изображение 026"/>
          <p:cNvPicPr/>
          <p:nvPr/>
        </p:nvPicPr>
        <p:blipFill>
          <a:blip r:embed="rId1"/>
          <a:srcRect l="4877" t="21352" r="24388" b="8510"/>
          <a:stretch/>
        </p:blipFill>
        <p:spPr>
          <a:xfrm>
            <a:off x="228600" y="1600200"/>
            <a:ext cx="47242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Ивановна</cp:lastModifiedBy>
  <dcterms:modified xsi:type="dcterms:W3CDTF">2012-01-09T11:29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